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87AB2-FF9B-4424-BFA1-2AE29D9D6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638E-9433-47FE-85D6-29E281375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5B7231B-49F4-462D-9F47-FF1B4DE8701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D27FF01-5114-4F97-A22A-01BB1681922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FDBDFC1-510B-4ACD-ACBC-3C6939D96D7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4EE0104-3198-4B8D-9B4F-E9FCFA65C4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C8C3E1A-7F27-4C4D-A2DF-C7D55D0E67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B9B9E26-6DA4-4553-A442-925E2E2FF45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B19268-4956-4985-8E84-4F31E9803B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F0530A6-59D1-4960-86F6-FB82B721D01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599BDC9-84A9-484F-B097-08FDABF5A07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E566431-9D08-4589-AE7C-435D319AC0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1F616-3D5F-4408-B18B-D9278D0E2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3BF6BB3-86BA-47D2-8FB1-57723A8A01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2E4B57B-4032-41AC-8D15-9027422F75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3FC6B8B-F13A-406B-B90C-5A30440722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FE53FF7-A641-4B04-962C-9BFA58D2E5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2E90DCF-03A1-4725-807A-84E0E32B3E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DEA797C-4088-45C1-B129-2F184DC24A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5568CD2-062C-4E0E-BC17-7AF70C3E5C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29A8803-8411-413B-A0E3-EAAFFB7B98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BE92A2E-AD9A-4E55-A7C3-3F8A178995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8EC4994-3309-42C2-9172-CA6992C2FD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6C800-D75D-4C76-A1FC-9CEF5F870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16877DB-D41B-4BAC-A393-612B1FE28E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13E6A4-3B17-4085-9B9A-BC360D2DC66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53D39B-5C0E-4AD1-A08B-C9A83D35DD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BC1B5A-F3B9-4EF5-AE7C-67F3B3ECC2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9B4BDF-AD2B-4924-A5B4-52846DFA14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8113A6-EB03-4540-8737-BAF892D7E4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D975AB-67F6-4C1D-9115-54480FE725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F57359-D671-49D1-A4B2-3506C03034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4E5A95-B600-4D22-BCC7-194B6FEDE9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077317-7C8A-4AAB-AAEC-AAEE1255C7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5E6DA-8366-4865-B4CB-4C9BB996C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1A169A-639D-4B65-ADF2-0EB8AA441D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2918B6-6CAF-4113-9DB6-AC295607E9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0A7975-070A-4508-92F8-A5454EA316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1EBC090-8ABD-421E-8CFE-FDF280EB13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4F94748-C152-4A25-A5F1-A2E8035D86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3591E76-538F-4016-8DA1-7C9F702FCC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57A0599-99E6-4253-BA1E-E5E59135EC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042556B-E6D8-4C7C-88F2-502EDBB306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D7CD2BA-C75E-4CC9-BDB0-05F59B8152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5F5B305-16A1-4F07-A673-981B16E29A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DFADA-5B0F-4FF0-8C14-92ADD13C3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B80ECF-3237-4F39-83A8-086197D2A9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7609DC5-F730-4AC5-852C-350418A362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8941EA3-91AA-4AD5-ADD3-597D5F7693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DAAB68A-94B5-409B-B6E3-B7E590FF3D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1227750-DBAE-49A0-A8B6-B7C0D4783D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BDBD0-9DC8-49A8-9010-28B4C24AB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796A4-4400-47AF-9247-BDE700620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CBE8F-FA8A-461C-9800-6203FF20C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E6CFB-B9A2-4F46-8E9D-18BFFFBD5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0AE93-47FD-4726-A0E0-A0CE70034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25FF2-51AC-4AE6-8385-C0795E7A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308CC-F29B-44A3-903B-308431373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C6A30-0B70-4F59-B4CA-78D21D1E0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90F3E-1775-422C-8521-A7EA73B3D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4EE5D-78F0-4229-8F62-B9DD5BE6A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A90AB-E618-4738-8BE5-98CD28BDC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314585-5975-4814-BFB1-742377736F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88231A-4B68-4112-8ED2-06DC95518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C9D30-0EB1-4E06-81EB-6F642DAD8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4E6CFC-F5CE-4D7B-8462-19F0DD600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02589B-BC3E-4A69-93CA-E490D20BF0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85AF0-7988-4B96-AF31-C09F8ACC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92C66A-10F8-4544-9786-BBDEA8229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25FC8-10D0-4F13-9C8B-660314B7F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B1EDF-6284-43FA-A9A6-023C949BE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70A43-824F-4350-9611-21CAC4242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26408-0609-4365-B774-F6BE8B693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14A4E0-07AA-4144-9A91-CAB2982D61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92B3B-94C6-49A3-ABB7-7966ED5D8D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E857A50-E881-4A54-8C54-CC79E3CD53E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D3D79CD-8A35-4405-90A0-C6B3A9EEDC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4950FD8-EFCB-4BD4-BB39-DC3084C9B26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0E2C9-1E6B-4ABE-8355-3560C675A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FA04C1B-118B-447B-807E-7C5D8C4F81B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D7E6FCF-AE17-4051-871C-7102455415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6793048-7252-4EE7-B73F-19DD9CE5D16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9DE022A-031D-4188-88DF-5FA6ED5F3A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60C54F1-4F11-4114-9B5E-1CF7984BF9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3C5CFCD-621C-492A-B336-C9E6A0BE02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DB23F06-AE3B-4140-85F1-D770CC4A97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2174FD0-5B44-41E8-9863-ABF2AB6275B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DAED8D5-3F2B-4AE7-8361-B369BB320DE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C6B710-6BC5-4E42-88F3-973D427783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C855-FE9E-4602-9860-00BB4E8D7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E484FB-FC06-494F-8AA1-5A3D7135EC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C891ED-2853-451E-A52B-1595C815C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F4AEEF-1878-4637-B807-D0F05EBD5E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5CA14-1B1B-4745-9934-EF51FC25C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7ACA4-2F28-469A-A580-FD89C4F582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B8393-5E0B-429C-BA28-2BA43292D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06E76-11DB-4EBC-88EE-20D81E570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D87CCE-27F8-421B-B9BA-36AE444D0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60594-FC79-48C4-945D-D8949A171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401771-34C4-46CE-B300-1A2AB2A02D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A931-15C5-4ABA-9697-874316AAA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987A87-9760-4CF1-9770-B20CD11591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796ED4-26E4-4508-9C40-020A58D92F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76E5CB-8338-4D23-B4C2-395CEF5189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2642EB-C45E-4112-AA54-766A1EF53C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6D03A-E45E-492D-BEE6-9577693DAD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2660B0-A0C4-4788-B250-70DF379AF4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708312-2F49-4438-9319-91049B508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747F6-A4B4-4B27-B738-D4D3B200D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53E2B-7EE6-4D08-9250-05C37CEF1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7BF59-EAE9-45EE-BEDD-5E20D34104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4463D-E10C-4932-B467-914A355D9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E7DF8A-0FEF-4248-A410-BC4C9AB870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9EEECD-047F-43EB-89AD-0F0253D5B3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0C33B9-3217-4DA9-AE6D-C146C08CED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E37FE7-A276-4A59-AEC4-ECC2EA7ADA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B6BA9A-8E0B-4B88-8E5F-00641C10C8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1BA95D-756E-4D44-9A8A-4AF6EBF451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0CCC5C-A1E2-4A40-8A46-9538A00D60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FEB40D-063D-4B5A-A367-68DF32F026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1BFBE8-5FFF-4680-AC32-5E9E3969C0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6FE4E-F7E0-4639-BBDA-401C3C62D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1B85C-858B-4487-8D6E-5D5607B5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ECEC79-FE04-4B55-85A0-ED8F5553E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804103-9C52-49FD-915A-D14C2E41FB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306F2-0CA3-48D2-826E-53296CDC64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59E2E2-12FA-407A-B67B-BD8D561DA4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790B4F-DE91-4766-9E75-ADA147384E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069F91-42F9-46B7-A44A-4ACF66F8F5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1ED77-CD48-4CAF-BE34-FC9B4AE09A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149497-F535-4BCB-9FCE-CF4807729C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316226-8737-4898-902D-B15C24C3A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05D33A-DA70-46A4-A046-EBB6AB6F84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9872-7C3F-4AFC-8D91-0F995FF14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327C44-BF51-497C-826A-D22BD02FB9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0C2BA4-7749-4B93-8A07-393339FFC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061D1A-F5B5-4AC1-8007-41722D4AD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BDAADD-0FC9-42A0-961F-07231B91B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AADD08-70E8-450A-BDBB-262641881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1247CB-30C1-4112-BB7A-3B60E31742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F5BE02-C244-49CD-854F-933A8AB99C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D7440BD-4431-4C57-AF38-0C9C6671654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97E123F-0ACF-4105-8B56-ECB8ACC7DBC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CE23B15-4820-47C3-AB19-07BDCE1375D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B25B-147B-4613-AAFB-9FB805198C6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999C-C7C2-4162-84DB-ABFB3D01C7E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6CB5-BF96-4062-BCB3-E8982DD1B2D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A7E9-7E1E-4390-8750-2AD41A0ED1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F0C7-DA07-4D8E-A49D-DFB20813D1F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56A4-FB74-44C6-8D67-1F8AB399D92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3030-F642-41A4-B161-2DE7AD5413B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03E5-5D97-422C-96EE-BCF4B51E545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5D72-8D5A-4B86-BDFF-E2B8CEA8770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B925-8097-42B8-8123-45AE42F1E45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746F-6863-4203-BE15-60BC3BEEFAE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7038-35DD-4B23-82F5-F9924627C24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hapter 2</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ntelligent Agent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AS: Performance measure, Environment, Actuators, Sensors</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st first specify the setting for intelligent agent design</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ider, e.g., the task of designing an automated taxi driver:</a:t>
            </a:r>
            <a:endParaRPr b="0" lang="en-US" sz="2400" spc="-1" strike="noStrike">
              <a:solidFill>
                <a:srgbClr val="000000"/>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erformance measure</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Environment</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ctuators</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ensors</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endParaRPr b="0" lang="en-US" sz="22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st first specify the setting for intelligent agent design</a:t>
            </a:r>
            <a:endParaRPr b="0" lang="en-US" sz="2400" spc="-1" strike="noStrike">
              <a:solidFill>
                <a:srgbClr val="000000"/>
              </a:solidFill>
              <a:latin typeface="Georgia"/>
            </a:endParaRPr>
          </a:p>
          <a:p>
            <a:pPr marL="272880" indent="-27288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ider, e.g., the task of designing an automated taxi driver:</a:t>
            </a:r>
            <a:endParaRPr b="0" lang="en-US" sz="2400" spc="-1" strike="noStrike">
              <a:solidFill>
                <a:srgbClr val="000000"/>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erformance measure: Safe, fast, legal, comfortable trip, maximize profits</a:t>
            </a:r>
            <a:endParaRPr b="0" lang="en-US" sz="20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Environment: Roads, other traffic, pedestrians, customers</a:t>
            </a:r>
            <a:endParaRPr b="0" lang="en-US" sz="20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ctuators: Steering wheel, accelerator, brake, signal, horn</a:t>
            </a:r>
            <a:endParaRPr b="0" lang="en-US" sz="20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ensors: Cameras, sonar, speedometer, GPS, odometer, engine sensors, keyboard</a:t>
            </a:r>
            <a:endParaRPr b="0" lang="en-US" sz="20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endParaRPr b="0" lang="en-US" sz="22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endParaRPr b="0" lang="en-US" sz="22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endParaRPr b="0" lang="en-US" sz="2200" spc="-1" strike="noStrike">
              <a:solidFill>
                <a:srgbClr val="646b86"/>
              </a:solidFill>
              <a:latin typeface="Georgia"/>
            </a:endParaRPr>
          </a:p>
          <a:p>
            <a:pPr lvl="1" marL="547560" indent="-272880">
              <a:lnSpc>
                <a:spcPct val="7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 Medical diagnosis syst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formance measure: Healthy patient, minimize costs, lawsui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vironment: Patient, hospital, staff</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uators: Screen display (questions, tests, diagnoses, treatments, referr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sors: Keyboard (entry of symptoms, findings, patient's answe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 Part-picking rob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formance measure: Percentage of parts in correct b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vironment: Conveyor belt with parts, b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uators: Jointed arm and han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sors: Camera, joint angle sensor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 Interactive English tuto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formance measure: Maximize student's score on tes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vironment: Set of stud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uators: Screen display (exercises, suggestions, corre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sors: Keyboar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vironment type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Fully observable</a:t>
            </a:r>
            <a:r>
              <a:rPr b="0" lang="en-US" sz="2200" spc="-1" strike="noStrike">
                <a:solidFill>
                  <a:srgbClr val="000000"/>
                </a:solidFill>
                <a:latin typeface="Georgia"/>
              </a:rPr>
              <a:t> (vs. partially observable): An agent's sensors give it access to the complete state of the environment at each point in time.</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Deterministic</a:t>
            </a:r>
            <a:r>
              <a:rPr b="0" lang="en-US" sz="2200" spc="-1" strike="noStrike">
                <a:solidFill>
                  <a:srgbClr val="000000"/>
                </a:solidFill>
                <a:latin typeface="Georgia"/>
              </a:rPr>
              <a:t> (vs. stochastic): The next state of the environment is completely determined by the current state and the action executed by the agent. (If the environment is deterministic except for the actions of other agents, then the environment is </a:t>
            </a:r>
            <a:r>
              <a:rPr b="0" lang="en-US" sz="2200" spc="-1" strike="noStrike">
                <a:solidFill>
                  <a:srgbClr val="ff0000"/>
                </a:solidFill>
                <a:latin typeface="Georgia"/>
              </a:rPr>
              <a:t>strategic</a:t>
            </a:r>
            <a:r>
              <a:rPr b="0" lang="en-US" sz="2200" spc="-1" strike="noStrike">
                <a:solidFill>
                  <a:srgbClr val="000000"/>
                </a:solidFill>
                <a:latin typeface="Georgia"/>
              </a:rPr>
              <a:t>)</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Episodic </a:t>
            </a:r>
            <a:r>
              <a:rPr b="0" lang="en-US" sz="2200" spc="-1" strike="noStrike">
                <a:solidFill>
                  <a:srgbClr val="000000"/>
                </a:solidFill>
                <a:latin typeface="Georgia"/>
              </a:rPr>
              <a:t>(vs. sequential): The agent's experience is divided into atomic "episodes" (each episode consists of the agent perceiving and then performing a single action), and the choice of action in each episode depends only on the episode itself.</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vironment types</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eorgia"/>
              </a:rPr>
              <a:t>Static </a:t>
            </a:r>
            <a:r>
              <a:rPr b="0" lang="en-US" sz="2600" spc="-1" strike="noStrike">
                <a:solidFill>
                  <a:srgbClr val="000000"/>
                </a:solidFill>
                <a:latin typeface="Georgia"/>
              </a:rPr>
              <a:t>(vs. dynamic): The environment is unchanged while an agent is deliberating. (The environment is </a:t>
            </a:r>
            <a:r>
              <a:rPr b="0" lang="en-US" sz="2600" spc="-1" strike="noStrike">
                <a:solidFill>
                  <a:srgbClr val="ff0000"/>
                </a:solidFill>
                <a:latin typeface="Georgia"/>
              </a:rPr>
              <a:t>semidynamic</a:t>
            </a:r>
            <a:r>
              <a:rPr b="0" lang="en-US" sz="2600" spc="-1" strike="noStrike">
                <a:solidFill>
                  <a:srgbClr val="000000"/>
                </a:solidFill>
                <a:latin typeface="Georgia"/>
              </a:rPr>
              <a:t> if the environment itself does not change with the passage of time but the agent's performance score doe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eorgia"/>
              </a:rPr>
              <a:t>Discrete</a:t>
            </a:r>
            <a:r>
              <a:rPr b="0" lang="en-US" sz="2600" spc="-1" strike="noStrike">
                <a:solidFill>
                  <a:srgbClr val="000000"/>
                </a:solidFill>
                <a:latin typeface="Georgia"/>
              </a:rPr>
              <a:t> (vs. continuous): A limited number of distinct, clearly defined percepts and action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eorgia"/>
              </a:rPr>
              <a:t>Single agent</a:t>
            </a:r>
            <a:r>
              <a:rPr b="0" lang="en-US" sz="2600" spc="-1" strike="noStrike">
                <a:solidFill>
                  <a:srgbClr val="000000"/>
                </a:solidFill>
                <a:latin typeface="Georgia"/>
              </a:rPr>
              <a:t> (vs. multiagent): An agent operating by itself in an environment.</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vironment types</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Chess with </a:t>
            </a:r>
            <a:r>
              <a:rPr b="0" lang="en-US" sz="2000" spc="-1" strike="noStrike">
                <a:solidFill>
                  <a:srgbClr val="000000"/>
                </a:solidFill>
                <a:latin typeface="Georgia"/>
              </a:rPr>
              <a:t>	</a:t>
            </a:r>
            <a:r>
              <a:rPr b="0" lang="en-US" sz="2000" spc="-1" strike="noStrike">
                <a:solidFill>
                  <a:srgbClr val="000000"/>
                </a:solidFill>
                <a:latin typeface="Georgia"/>
              </a:rPr>
              <a:t>Chess without </a:t>
            </a:r>
            <a:r>
              <a:rPr b="0" lang="en-US" sz="2000" spc="-1" strike="noStrike">
                <a:solidFill>
                  <a:srgbClr val="000000"/>
                </a:solidFill>
                <a:latin typeface="Georgia"/>
              </a:rPr>
              <a:t>	</a:t>
            </a:r>
            <a:r>
              <a:rPr b="0" lang="en-US" sz="2000" spc="-1" strike="noStrike">
                <a:solidFill>
                  <a:srgbClr val="000000"/>
                </a:solidFill>
                <a:latin typeface="Georgia"/>
              </a:rPr>
              <a:t>Taxi driving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a clock</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a clock</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lly observable</a:t>
            </a:r>
            <a:r>
              <a:rPr b="0" lang="en-US" sz="2000" spc="-1" strike="noStrike">
                <a:solidFill>
                  <a:srgbClr val="000000"/>
                </a:solidFill>
                <a:latin typeface="Georgia"/>
              </a:rPr>
              <a:t>	</a:t>
            </a:r>
            <a:r>
              <a:rPr b="0" lang="en-US" sz="2000" spc="-1" strike="noStrike">
                <a:solidFill>
                  <a:srgbClr val="000000"/>
                </a:solidFill>
                <a:latin typeface="Georgia"/>
              </a:rPr>
              <a:t>Yes</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Yes</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eterministic</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Strategic</a:t>
            </a:r>
            <a:r>
              <a:rPr b="0" lang="en-US" sz="2000" spc="-1" strike="noStrike">
                <a:solidFill>
                  <a:srgbClr val="000000"/>
                </a:solidFill>
                <a:latin typeface="Georgia"/>
              </a:rPr>
              <a:t>	</a:t>
            </a:r>
            <a:r>
              <a:rPr b="0" lang="en-US" sz="2000" spc="-1" strike="noStrike">
                <a:solidFill>
                  <a:srgbClr val="000000"/>
                </a:solidFill>
                <a:latin typeface="Georgia"/>
              </a:rPr>
              <a:t>Strategic</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pisodic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atic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Semi</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Yes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rete</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Yes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Yes</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ngle agent</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nvironment type largely determines the agent design</a:t>
            </a: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real world is (of course) partially observable, stochastic, sequential, dynamic, continuous, multi-agent</a:t>
            </a: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642" name=""/>
          <p:cNvGraphicFramePr/>
          <p:nvPr/>
        </p:nvGraphicFramePr>
        <p:xfrm>
          <a:off x="3124080" y="2209680"/>
          <a:ext cx="5410440" cy="1905120"/>
        </p:xfrm>
        <a:graphic>
          <a:graphicData uri="http://schemas.openxmlformats.org/drawingml/2006/table">
            <a:tbl>
              <a:tblPr/>
              <a:tblGrid>
                <a:gridCol w="5410440"/>
              </a:tblGrid>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 functions and programs</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agent is completely specified by the </a:t>
            </a:r>
            <a:r>
              <a:rPr b="0" lang="en-US" sz="2700" spc="-1" strike="noStrike" u="sng">
                <a:solidFill>
                  <a:srgbClr val="000000"/>
                </a:solidFill>
                <a:uFillTx/>
                <a:latin typeface="Georgia"/>
              </a:rPr>
              <a:t>agent function</a:t>
            </a:r>
            <a:r>
              <a:rPr b="0" lang="en-US" sz="2700" spc="-1" strike="noStrike">
                <a:solidFill>
                  <a:srgbClr val="000000"/>
                </a:solidFill>
                <a:latin typeface="Georgia"/>
              </a:rPr>
              <a:t> mapping percept sequences to a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e agent function (or a small equivalence class) is </a:t>
            </a:r>
            <a:r>
              <a:rPr b="0" lang="en-US" sz="2700" spc="-1" strike="noStrike" u="sng">
                <a:solidFill>
                  <a:srgbClr val="000000"/>
                </a:solidFill>
                <a:uFillTx/>
                <a:latin typeface="Georgia"/>
              </a:rPr>
              <a:t>rationa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im: find a way to implement the rational agent function concisel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able-lookup agent</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algorithms/table-agent-algorith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rawback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uge tab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ake a long time to build the tab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No autonom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ven with learning, need a long time to learn the table entrie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utline</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s and environm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tiona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AS (Performance measure, Environment, Actuators, Senso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vironment typ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 typ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 program for a vacuum-cleaner agent</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algorithms/reflex-vacuum-agent-algorith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 types</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 basic types in order of increasing genera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mple reflex ag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del-based reflex ag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al-based ag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tility-based ag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mple reflex agents</a:t>
            </a:r>
            <a:endParaRPr b="0" lang="en-US" sz="3300" spc="-1" strike="noStrike">
              <a:solidFill>
                <a:srgbClr val="7b9899"/>
              </a:solidFill>
              <a:latin typeface="Georgia"/>
            </a:endParaRPr>
          </a:p>
        </p:txBody>
      </p:sp>
      <p:pic>
        <p:nvPicPr>
          <p:cNvPr id="652" name="Picture 4" descr="simple-reflex-agent"/>
          <p:cNvPicPr/>
          <p:nvPr/>
        </p:nvPicPr>
        <p:blipFill>
          <a:blip r:embed="rId1"/>
          <a:stretch/>
        </p:blipFill>
        <p:spPr>
          <a:xfrm>
            <a:off x="457200" y="1371600"/>
            <a:ext cx="8153280" cy="519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mple reflex agents</a:t>
            </a:r>
            <a:endParaRPr b="0" lang="en-US" sz="3300" spc="-1" strike="noStrike">
              <a:solidFill>
                <a:srgbClr val="7b9899"/>
              </a:solidFill>
              <a:latin typeface="Georgia"/>
            </a:endParaRPr>
          </a:p>
        </p:txBody>
      </p:sp>
      <p:sp>
        <p:nvSpPr>
          <p:cNvPr id="65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algorithms/d-agent-algorith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odel-based reflex agents</a:t>
            </a:r>
            <a:endParaRPr b="0" lang="en-US" sz="3300" spc="-1" strike="noStrike">
              <a:solidFill>
                <a:srgbClr val="7b9899"/>
              </a:solidFill>
              <a:latin typeface="Georgia"/>
            </a:endParaRPr>
          </a:p>
        </p:txBody>
      </p:sp>
      <p:pic>
        <p:nvPicPr>
          <p:cNvPr id="656" name="Picture 4" descr="reflex+state-agent"/>
          <p:cNvPicPr/>
          <p:nvPr/>
        </p:nvPicPr>
        <p:blipFill>
          <a:blip r:embed="rId1"/>
          <a:stretch/>
        </p:blipFill>
        <p:spPr>
          <a:xfrm>
            <a:off x="609480" y="1219320"/>
            <a:ext cx="8001000" cy="50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odel-based reflex agents</a:t>
            </a:r>
            <a:endParaRPr b="0" lang="en-US" sz="3300" spc="-1" strike="noStrike">
              <a:solidFill>
                <a:srgbClr val="7b9899"/>
              </a:solidFill>
              <a:latin typeface="Georgia"/>
            </a:endParaRPr>
          </a:p>
        </p:txBody>
      </p:sp>
      <p:sp>
        <p:nvSpPr>
          <p:cNvPr id="65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algorithms/d+-agent-algorith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oal-based agents</a:t>
            </a:r>
            <a:endParaRPr b="0" lang="en-US" sz="3300" spc="-1" strike="noStrike">
              <a:solidFill>
                <a:srgbClr val="7b9899"/>
              </a:solidFill>
              <a:latin typeface="Georgia"/>
            </a:endParaRPr>
          </a:p>
        </p:txBody>
      </p:sp>
      <p:pic>
        <p:nvPicPr>
          <p:cNvPr id="660" name="Picture 5" descr="goal-based-agent"/>
          <p:cNvPicPr/>
          <p:nvPr/>
        </p:nvPicPr>
        <p:blipFill>
          <a:blip r:embed="rId1"/>
          <a:stretch/>
        </p:blipFill>
        <p:spPr>
          <a:xfrm>
            <a:off x="304920" y="1295280"/>
            <a:ext cx="8229600" cy="5238720"/>
          </a:xfrm>
          <a:prstGeom prst="rect">
            <a:avLst/>
          </a:prstGeom>
          <a:ln w="0">
            <a:noFill/>
          </a:ln>
        </p:spPr>
      </p:pic>
      <p:sp>
        <p:nvSpPr>
          <p:cNvPr id="661"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Utility-based agents</a:t>
            </a:r>
            <a:endParaRPr b="0" lang="en-US" sz="3300" spc="-1" strike="noStrike">
              <a:solidFill>
                <a:srgbClr val="7b9899"/>
              </a:solidFill>
              <a:latin typeface="Georgia"/>
            </a:endParaRPr>
          </a:p>
        </p:txBody>
      </p:sp>
      <p:pic>
        <p:nvPicPr>
          <p:cNvPr id="663" name="Picture 5" descr="utility-based-agent"/>
          <p:cNvPicPr/>
          <p:nvPr/>
        </p:nvPicPr>
        <p:blipFill>
          <a:blip r:embed="rId1"/>
          <a:stretch/>
        </p:blipFill>
        <p:spPr>
          <a:xfrm>
            <a:off x="304920" y="1295280"/>
            <a:ext cx="8381880" cy="5335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earning agents</a:t>
            </a:r>
            <a:endParaRPr b="0" lang="en-US" sz="3300" spc="-1" strike="noStrike">
              <a:solidFill>
                <a:srgbClr val="7b9899"/>
              </a:solidFill>
              <a:latin typeface="Georgia"/>
            </a:endParaRPr>
          </a:p>
        </p:txBody>
      </p:sp>
      <p:pic>
        <p:nvPicPr>
          <p:cNvPr id="665" name="Picture 9" descr="learning-agent"/>
          <p:cNvPicPr/>
          <p:nvPr/>
        </p:nvPicPr>
        <p:blipFill>
          <a:blip r:embed="rId1"/>
          <a:srcRect l="0" t="11736" r="0" b="11736"/>
          <a:stretch/>
        </p:blipFill>
        <p:spPr>
          <a:xfrm>
            <a:off x="301680" y="1527120"/>
            <a:ext cx="850428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s</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n </a:t>
            </a:r>
            <a:r>
              <a:rPr b="0" lang="en-US" sz="2600" spc="-1" strike="noStrike">
                <a:solidFill>
                  <a:srgbClr val="ff0000"/>
                </a:solidFill>
                <a:latin typeface="Georgia"/>
              </a:rPr>
              <a:t>agent</a:t>
            </a:r>
            <a:r>
              <a:rPr b="0" lang="en-US" sz="2600" spc="-1" strike="noStrike">
                <a:solidFill>
                  <a:srgbClr val="000000"/>
                </a:solidFill>
                <a:latin typeface="Georgia"/>
              </a:rPr>
              <a:t> is anything that can be viewed as </a:t>
            </a:r>
            <a:r>
              <a:rPr b="0" lang="en-US" sz="2600" spc="-1" strike="noStrike">
                <a:solidFill>
                  <a:srgbClr val="ff0000"/>
                </a:solidFill>
                <a:latin typeface="Georgia"/>
              </a:rPr>
              <a:t>perceiving</a:t>
            </a:r>
            <a:r>
              <a:rPr b="0" lang="en-US" sz="2600" spc="-1" strike="noStrike">
                <a:solidFill>
                  <a:srgbClr val="000000"/>
                </a:solidFill>
                <a:latin typeface="Georgia"/>
              </a:rPr>
              <a:t> its </a:t>
            </a:r>
            <a:r>
              <a:rPr b="0" lang="en-US" sz="2600" spc="-1" strike="noStrike">
                <a:solidFill>
                  <a:srgbClr val="ff0000"/>
                </a:solidFill>
                <a:latin typeface="Georgia"/>
              </a:rPr>
              <a:t>environment</a:t>
            </a:r>
            <a:r>
              <a:rPr b="0" lang="en-US" sz="2600" spc="-1" strike="noStrike">
                <a:solidFill>
                  <a:srgbClr val="000000"/>
                </a:solidFill>
                <a:latin typeface="Georgia"/>
              </a:rPr>
              <a:t> through </a:t>
            </a:r>
            <a:r>
              <a:rPr b="0" lang="en-US" sz="2600" spc="-1" strike="noStrike">
                <a:solidFill>
                  <a:srgbClr val="ff0000"/>
                </a:solidFill>
                <a:latin typeface="Georgia"/>
              </a:rPr>
              <a:t>sensors</a:t>
            </a:r>
            <a:r>
              <a:rPr b="0" lang="en-US" sz="2600" spc="-1" strike="noStrike">
                <a:solidFill>
                  <a:srgbClr val="000000"/>
                </a:solidFill>
                <a:latin typeface="Georgia"/>
              </a:rPr>
              <a:t> and </a:t>
            </a:r>
            <a:r>
              <a:rPr b="0" lang="en-US" sz="2600" spc="-1" strike="noStrike">
                <a:solidFill>
                  <a:srgbClr val="ff0000"/>
                </a:solidFill>
                <a:latin typeface="Georgia"/>
              </a:rPr>
              <a:t>acting</a:t>
            </a:r>
            <a:r>
              <a:rPr b="0" lang="en-US" sz="2600" spc="-1" strike="noStrike">
                <a:solidFill>
                  <a:srgbClr val="000000"/>
                </a:solidFill>
                <a:latin typeface="Georgia"/>
              </a:rPr>
              <a:t> upon that environment through </a:t>
            </a:r>
            <a:r>
              <a:rPr b="0" lang="en-US" sz="2600" spc="-1" strike="noStrike">
                <a:solidFill>
                  <a:srgbClr val="ff0000"/>
                </a:solidFill>
                <a:latin typeface="Georgia"/>
              </a:rPr>
              <a:t>actuator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uman agent: eyes, ears, and other organs for sensors; hand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egs, mouth, and other body parts for actuator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obotic agent: cameras and infrared range finders for sensor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various motors for actuator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s and environments</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0" lang="en-US" sz="2400" spc="-1" strike="noStrike">
                <a:solidFill>
                  <a:srgbClr val="ff0000"/>
                </a:solidFill>
                <a:latin typeface="Georgia"/>
              </a:rPr>
              <a:t>agent</a:t>
            </a:r>
            <a:r>
              <a:rPr b="0" lang="en-US" sz="2400" spc="-1" strike="noStrike">
                <a:solidFill>
                  <a:srgbClr val="000000"/>
                </a:solidFill>
                <a:latin typeface="Georgia"/>
              </a:rPr>
              <a:t> </a:t>
            </a:r>
            <a:r>
              <a:rPr b="0" lang="en-US" sz="2400" spc="-1" strike="noStrike">
                <a:solidFill>
                  <a:srgbClr val="ff0000"/>
                </a:solidFill>
                <a:latin typeface="Georgia"/>
              </a:rPr>
              <a:t>function</a:t>
            </a:r>
            <a:r>
              <a:rPr b="0" lang="en-US" sz="2400" spc="-1" strike="noStrike">
                <a:solidFill>
                  <a:srgbClr val="000000"/>
                </a:solidFill>
                <a:latin typeface="Georgia"/>
              </a:rPr>
              <a:t> maps from percept histories to actions:</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i="1" lang="en-US" sz="2400" spc="-1" strike="noStrike">
                <a:solidFill>
                  <a:srgbClr val="000000"/>
                </a:solidFill>
                <a:latin typeface="Georgia"/>
              </a:rPr>
              <a:t>f</a:t>
            </a:r>
            <a:r>
              <a:rPr b="0" lang="en-US" sz="2400" spc="-1" strike="noStrike">
                <a:solidFill>
                  <a:srgbClr val="000000"/>
                </a:solidFill>
                <a:latin typeface="Georgia"/>
              </a:rPr>
              <a:t>: </a:t>
            </a:r>
            <a:r>
              <a:rPr b="0" lang="en-US" sz="2400" spc="-1" strike="noStrike">
                <a:solidFill>
                  <a:srgbClr val="000000"/>
                </a:solidFill>
                <a:latin typeface="Monotype Corsiva"/>
              </a:rPr>
              <a:t>P*</a:t>
            </a:r>
            <a:r>
              <a:rPr b="0" lang="en-US" sz="2400" spc="-1" strike="noStrike">
                <a:solidFill>
                  <a:srgbClr val="000000"/>
                </a:solidFill>
                <a:latin typeface="Georgia"/>
              </a:rPr>
              <a:t> </a:t>
            </a:r>
            <a:r>
              <a:rPr b="0" lang="en-US" sz="2400" spc="-1" strike="noStrike">
                <a:solidFill>
                  <a:srgbClr val="000000"/>
                </a:solidFill>
                <a:latin typeface="Wingdings"/>
                <a:ea typeface="Wingdings"/>
              </a:rPr>
              <a:t></a:t>
            </a:r>
            <a:r>
              <a:rPr b="0" lang="en-US" sz="2400" spc="-1" strike="noStrike">
                <a:solidFill>
                  <a:srgbClr val="000000"/>
                </a:solidFill>
                <a:latin typeface="Georgia"/>
              </a:rPr>
              <a:t> </a:t>
            </a:r>
            <a:r>
              <a:rPr b="0" lang="en-US" sz="2400" spc="-1" strike="noStrike">
                <a:solidFill>
                  <a:srgbClr val="000000"/>
                </a:solidFill>
                <a:latin typeface="Monotype Corsiva"/>
              </a:rPr>
              <a:t>A</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0" lang="en-US" sz="2400" spc="-1" strike="noStrike">
                <a:solidFill>
                  <a:srgbClr val="ff0000"/>
                </a:solidFill>
                <a:latin typeface="Georgia"/>
              </a:rPr>
              <a:t>agent</a:t>
            </a:r>
            <a:r>
              <a:rPr b="0" lang="en-US" sz="2400" spc="-1" strike="noStrike">
                <a:solidFill>
                  <a:srgbClr val="000000"/>
                </a:solidFill>
                <a:latin typeface="Georgia"/>
              </a:rPr>
              <a:t> </a:t>
            </a:r>
            <a:r>
              <a:rPr b="0" lang="en-US" sz="2400" spc="-1" strike="noStrike">
                <a:solidFill>
                  <a:srgbClr val="ff0000"/>
                </a:solidFill>
                <a:latin typeface="Georgia"/>
              </a:rPr>
              <a:t>program</a:t>
            </a:r>
            <a:r>
              <a:rPr b="0" lang="en-US" sz="2400" spc="-1" strike="noStrike">
                <a:solidFill>
                  <a:srgbClr val="000000"/>
                </a:solidFill>
                <a:latin typeface="Georgia"/>
              </a:rPr>
              <a:t> runs on the physical </a:t>
            </a:r>
            <a:r>
              <a:rPr b="0" lang="en-US" sz="2400" spc="-1" strike="noStrike">
                <a:solidFill>
                  <a:srgbClr val="ff0000"/>
                </a:solidFill>
                <a:latin typeface="Georgia"/>
              </a:rPr>
              <a:t>architecture</a:t>
            </a:r>
            <a:r>
              <a:rPr b="0" lang="en-US" sz="2400" spc="-1" strike="noStrike">
                <a:solidFill>
                  <a:srgbClr val="000000"/>
                </a:solidFill>
                <a:latin typeface="Georgia"/>
              </a:rPr>
              <a:t> to produce </a:t>
            </a:r>
            <a:r>
              <a:rPr b="0" i="1" lang="en-US" sz="2400" spc="-1" strike="noStrike">
                <a:solidFill>
                  <a:srgbClr val="000000"/>
                </a:solidFill>
                <a:latin typeface="Georgia"/>
              </a:rPr>
              <a:t>f</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gent = architecture + program</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pic>
        <p:nvPicPr>
          <p:cNvPr id="614" name="Picture 4" descr="agent-environment"/>
          <p:cNvPicPr/>
          <p:nvPr/>
        </p:nvPicPr>
        <p:blipFill>
          <a:blip r:embed="rId1"/>
          <a:stretch/>
        </p:blipFill>
        <p:spPr>
          <a:xfrm>
            <a:off x="2666880" y="1447920"/>
            <a:ext cx="3733920" cy="16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acuum-cleaner world</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cepts: location and contents, e.g., [A,Dir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ions: </a:t>
            </a:r>
            <a:r>
              <a:rPr b="0" i="1" lang="en-US" sz="2700" spc="-1" strike="noStrike">
                <a:solidFill>
                  <a:srgbClr val="000000"/>
                </a:solidFill>
                <a:latin typeface="Georgia"/>
              </a:rPr>
              <a:t>Left</a:t>
            </a:r>
            <a:r>
              <a:rPr b="0" lang="en-US" sz="2700" spc="-1" strike="noStrike">
                <a:solidFill>
                  <a:srgbClr val="000000"/>
                </a:solidFill>
                <a:latin typeface="Georgia"/>
              </a:rPr>
              <a:t>, </a:t>
            </a:r>
            <a:r>
              <a:rPr b="0" i="1" lang="en-US" sz="2700" spc="-1" strike="noStrike">
                <a:solidFill>
                  <a:srgbClr val="000000"/>
                </a:solidFill>
                <a:latin typeface="Georgia"/>
              </a:rPr>
              <a:t>Right</a:t>
            </a:r>
            <a:r>
              <a:rPr b="0" lang="en-US" sz="2700" spc="-1" strike="noStrike">
                <a:solidFill>
                  <a:srgbClr val="000000"/>
                </a:solidFill>
                <a:latin typeface="Georgia"/>
              </a:rPr>
              <a:t>, </a:t>
            </a:r>
            <a:r>
              <a:rPr b="0" i="1" lang="en-US" sz="2700" spc="-1" strike="noStrike">
                <a:solidFill>
                  <a:srgbClr val="000000"/>
                </a:solidFill>
                <a:latin typeface="Georgia"/>
              </a:rPr>
              <a:t>Suck</a:t>
            </a:r>
            <a:r>
              <a:rPr b="0" lang="en-US" sz="2700" spc="-1" strike="noStrike">
                <a:solidFill>
                  <a:srgbClr val="000000"/>
                </a:solidFill>
                <a:latin typeface="Georgia"/>
              </a:rPr>
              <a:t>, </a:t>
            </a:r>
            <a:r>
              <a:rPr b="0" i="1" lang="en-US" sz="2700" spc="-1" strike="noStrike">
                <a:solidFill>
                  <a:srgbClr val="000000"/>
                </a:solidFill>
                <a:latin typeface="Georgia"/>
              </a:rPr>
              <a:t>NoO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pic>
        <p:nvPicPr>
          <p:cNvPr id="617" name="Picture 4" descr="vacuum2-environment"/>
          <p:cNvPicPr/>
          <p:nvPr/>
        </p:nvPicPr>
        <p:blipFill>
          <a:blip r:embed="rId1"/>
          <a:stretch/>
        </p:blipFill>
        <p:spPr>
          <a:xfrm>
            <a:off x="3429000" y="2133720"/>
            <a:ext cx="2457360" cy="125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 vacuum-cleaner agent</a:t>
            </a: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tables/vacuum-agent-function-ta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tional agents</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n agent should strive to "do the right thing", based on what it can perceive and the actions it can perform. The right action is the one that will cause the agent to be most successful</a:t>
            </a:r>
            <a:endParaRPr b="0" lang="en-US" sz="2600" spc="-1" strike="noStrike">
              <a:solidFill>
                <a:srgbClr val="000000"/>
              </a:solidFill>
              <a:latin typeface="Georgia"/>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erformance measure: An objective criterion for success of an agent's behavior</a:t>
            </a:r>
            <a:endParaRPr b="0" lang="en-US" sz="2600" spc="-1" strike="noStrike">
              <a:solidFill>
                <a:srgbClr val="000000"/>
              </a:solidFill>
              <a:latin typeface="Georgia"/>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g., performance measure of a vacuum-cleaner agent could be amount of dirt cleaned up, amount of time taken, amount of electricity consumed, amount of noise generated, etc.</a:t>
            </a:r>
            <a:endParaRPr b="0" lang="en-US" sz="2600" spc="-1" strike="noStrike">
              <a:solidFill>
                <a:srgbClr val="000000"/>
              </a:solidFill>
              <a:latin typeface="Georgia"/>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tional agents</a:t>
            </a:r>
            <a:endParaRPr b="0" lang="en-US" sz="33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Rational</a:t>
            </a:r>
            <a:r>
              <a:rPr b="0" lang="en-US" sz="2700" spc="-1" strike="noStrike">
                <a:solidFill>
                  <a:srgbClr val="000000"/>
                </a:solidFill>
                <a:latin typeface="Georgia"/>
              </a:rPr>
              <a:t> </a:t>
            </a:r>
            <a:r>
              <a:rPr b="0" lang="en-US" sz="2700" spc="-1" strike="noStrike">
                <a:solidFill>
                  <a:srgbClr val="ff0000"/>
                </a:solidFill>
                <a:latin typeface="Georgia"/>
              </a:rPr>
              <a:t>Agent</a:t>
            </a:r>
            <a:r>
              <a:rPr b="0" lang="en-US" sz="2700" spc="-1" strike="noStrike">
                <a:solidFill>
                  <a:srgbClr val="000000"/>
                </a:solidFill>
                <a:latin typeface="Georgia"/>
              </a:rPr>
              <a:t>: For each possible percept sequence, a rational agent should select an action that is expected to maximize its performance measure, given the evidence provided by the percept sequence and whatever built-in knowledge the agent h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tional agents</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tionality is distinct from omniscience (all-knowing with infinite knowledge)</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s can perform actions in order to modify future percepts so as to obtain useful information (information gathering, exploration)</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agent is </a:t>
            </a:r>
            <a:r>
              <a:rPr b="0" lang="en-US" sz="2700" spc="-1" strike="noStrike">
                <a:solidFill>
                  <a:srgbClr val="ff0000"/>
                </a:solidFill>
                <a:latin typeface="Georgia"/>
              </a:rPr>
              <a:t>autonomous</a:t>
            </a:r>
            <a:r>
              <a:rPr b="0" lang="en-US" sz="2700" spc="-1" strike="noStrike">
                <a:solidFill>
                  <a:srgbClr val="000000"/>
                </a:solidFill>
                <a:latin typeface="Georgia"/>
              </a:rPr>
              <a:t> if its behavior is determined by its own experience (with ability to learn and adapt)</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2:32:09Z</dcterms:created>
  <dc:creator>Min-Yen Kan</dc:creator>
  <dc:description/>
  <dc:language>en-US</dc:language>
  <cp:lastModifiedBy>Sadi SEKER</cp:lastModifiedBy>
  <dcterms:modified xsi:type="dcterms:W3CDTF">2017-01-30T20:39:35Z</dcterms:modified>
  <cp:revision>4</cp:revision>
  <dc:subject/>
  <dc:title>Intelligent Agents</dc:title>
</cp:coreProperties>
</file>