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CD0D-A65B-4AD2-AC0B-41504084E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odel is also knowledge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D31C-E4B2-4BA8-98D4-B6283FE29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chard joh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293A-3E69-483C-AF2C-1C45159BA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s we can brother (ali, veli) is predicate, brother (ali) = veli is a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CC17-D012-445B-9884-3D2A90D7A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1B8F-50C7-4061-A5A7-E250702B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487-8D75-45C5-BD88-284BDAAC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243792-DB12-4217-9EC7-5E1C9C79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42332-8E6D-4423-A4AB-A1797C6F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C9815-93F8-40FA-A5DF-565DB6E8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09766-9DD4-4BB5-A3AE-90685506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CAB20-50D3-4C49-960E-487FC4DF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4223E-495E-4119-A866-35B8D369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6DAE2-3564-43CD-AB50-833D7A95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01D8D-3F4B-4BFB-BF27-38BB27AC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C4BBB9-D3ED-4B05-85B9-B28A9E1C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F23678-E4A4-4762-8C6F-49BD53B7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D0C-B579-46E2-ADFF-6F9E9F1A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B5F248-3905-4143-B181-CDB17744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CCF52F-4731-49FE-8CE2-0B8878EB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26821-4F74-44AA-ADD3-DB8093B2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51A20-CE77-469A-8300-249F2E32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F7778-0AED-4487-A87C-98AC9261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ED81F9-B476-4525-8F8D-18B2F76A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46E79-AF87-4018-8FCC-CCF5F067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6DE1F-ACF5-4FDD-8198-7630AB16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500F0B-3DFC-4D85-BFD4-C42CAE7B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2A399C-089C-4BD8-9F54-D829B757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E81-A03F-42C1-A741-FF9A9E12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FC6CDE-05AA-4686-AC77-8A3DCD23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92A5B-0403-4090-865B-9D80C2FE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0EF15-8299-4FCE-A8B4-83EBA32D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2B4B6-7C80-4460-A19D-47A79AB4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B0984-021E-447F-9E40-5771FEFC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33ED5-4DCE-43B0-BD76-8B636CF3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25AFF-0A6E-4138-984C-01D99508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A74CB-2776-479B-BFD5-E087FF38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EF57D-4BD8-4211-81C6-FB30053D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93539-EC1D-49A3-A577-CFB0CAD2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34B5-0722-498D-8A76-C3428E96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609AF-55F4-4B09-9A96-09B39B6F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3B900-0043-4582-B2E0-13785258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E9068-D713-4A43-B7A2-5C474542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55F53-F525-4ED6-8F13-17B80CC3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1859A-77BC-4EC0-B3B5-D0C6EA29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B95AD2-7AAD-4456-9A6E-28B9AB67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2DF31A-E269-46AB-9926-E8F03D79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0D651-50FD-4CF1-ADEA-2B3D1522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517CE2-BFA3-4140-8510-C382293D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FFDC14-0D71-4CCE-A620-09D15E3E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49C0-9B7A-4B6C-AB24-45CFA4D7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B20BE-4E84-4830-8A33-0886C108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E3B43-ECAC-4905-8006-7D4A3693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F1F2A-D7BE-45EC-A5F1-9D76F419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C7C5DC-50CF-476B-A840-042078DF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540EC-DEDD-47DE-9FDA-A885A82F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8F2D-847A-4D13-801A-97C5FDB6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F372-6082-4C97-B3B5-DD96DF29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203A-3B42-4482-937D-89B1283C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080E-7135-4484-9AD0-18997856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15CC-E516-480E-A4C5-A9041DB2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2CA-E297-4CC3-B83F-60C0C7F0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22E2-8423-4354-9CDA-057A9157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CA2A-21AF-4361-A985-3BB2EB8B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5F16-044F-469E-9674-4E8AA7F9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690F-5EA0-41AE-8B06-A0AE967E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B872-A1E9-4DC2-8DBD-B0D639E0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9D80D-3446-4153-89DD-6D2A1007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C894F-8761-479A-A4EE-F60F8035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E7A03-C8AF-4BD7-863C-0A695B0F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E163-B117-4FA3-90EC-F311FB20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39C2F-6689-4A5A-B4D9-17BDEBC9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F9E-B0BD-497E-A250-2B426E72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1EF77-3316-4F40-A262-E703D465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76D5C-7E85-40AA-B3D8-E06690DB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8CCBA-A64D-4D08-A6F9-DBC5DE7E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5DB05-DDB5-4172-A044-6094F829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693E0-472E-4633-A454-89F06272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41562-B22D-4CE0-9FDC-3F4CB859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29BF3-5570-4B5F-B1C6-AA08AFD4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F0FA8-F9FD-41A2-8853-269016B0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C6538-65A3-4FFD-8C05-2B686E46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7290F-3D56-4893-89E3-153A7BF2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333-37AA-4FE1-BED4-F178C92C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E9AFA-E26B-40F6-963E-31E17AA9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21AE3-64A5-4F8D-A4C2-90720112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8D6A2-9682-4970-BE47-BED42066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BF865-F21D-48EE-A6AE-197B20F2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6A35A-5FF1-4E59-9468-A5B2C373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0C6D0-8C04-4114-A7E3-426EE2C2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CBCA0-9F65-4363-93F7-1A4624C7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3E61-B47B-4DA5-A9EA-24E497B0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8C4B8-DB98-4E7D-85C6-42807ACC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6D3AB-F690-43CD-9444-4002B06F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F22-2C93-441C-92F5-58E69A93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FFA83-94B0-4F83-8E41-12555211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57FE8-E5B3-45EB-AB3B-AA8D0F82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C116C-0728-4212-9157-CE783C20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35D48-C330-4D76-8DCA-F6500468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ADA7F-BDED-4FBF-943A-A2CF5043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C7ECB-C1F1-46BB-8E07-883EFCAE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2E3BB-7C33-4C2A-9F70-AFB77B6C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4B453-C985-4FCE-87F4-C42EC2E1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B1D39-5BDF-4197-BE4F-301C5660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A6BBB-6683-4AAF-9E42-C52A4DE3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C3B6-E637-4251-A48E-8868701C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277B9-0A53-4F5F-B258-34D10762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28D36-4554-45A3-8E74-51A01A34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F6B9C-3160-42C8-8CA6-1EE1FD7A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4342E-1394-4312-B2DA-36C636DD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8407E-5969-446E-9F9A-C6D3B5A2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0C005-1E6F-4588-BA4C-E2FAF9A6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05302-ACA7-4A6A-948A-8426DC15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08884-EFB8-44BB-8890-EA5AC21B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C458B-E08A-4276-A228-685C0F65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53071-539B-4B32-9DFE-67422C8F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AC0E-E5E2-4293-A8D8-F7F03319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1D372-5A3C-4ED7-8414-CC045395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F0F90-E70E-4BF3-8E8F-16DDBD3D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50C24-9DDC-43B4-B26E-F533BAB2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55945-E8A5-4118-97B9-003B8C93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E4306-FB9E-4F7C-ABD1-B03C656C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194DD-78B0-4A45-9B3D-9CEE9182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1C036-D5FC-4403-BB5D-CC44CB9A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42E69-7019-4CDB-8639-A65870AD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0F7AC-42CF-4546-85C7-927B423E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11EA1-59AD-4FD3-AFA8-BF68C9B9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BFD-DA46-4C9E-981D-EB96FD68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20041-9AE2-4B2A-AAE7-DBE63F6E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9395E-18D2-4703-9394-88237AD0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1520E-A915-442E-A9F5-3CCECDD2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C7B62-7778-4E32-B3AF-0043E4DA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B1334-49A2-4214-8070-DC9BD8AF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145BA-9FFE-4F22-89D7-993F97B6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EA5FC-708B-47A1-A1B9-96B866B4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0B578-5A26-4798-A251-7CA3BE77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3B564-1E22-41DA-81A1-0C859840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498AE-B1EB-4238-91E7-7E288714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09A-317B-453C-B383-82DD2F64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0D992-881D-485F-B651-A4BD9506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18073-3573-497F-B3CE-A0C14A15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906FB-3B46-4823-A1E2-3B1E3FA1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CDD77-877A-4299-A4BE-A5455DD2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4300F-894C-440D-94C6-9FC3723F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BA8CF-5E8D-441F-8465-F1D2B941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95FB6-DAEC-40B8-A237-3A5C0DA8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A52F8-24AA-4141-AF0F-F02D8473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53AA9-F252-4F68-880D-E7C8226B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7FC751-EA71-4235-9321-5A0DD840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663D-B7E5-4D7A-9A6E-63884F8131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6407-0DB6-4F3D-A9D1-784EE695E5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E394-5CB8-441D-8A13-2A96E3C91B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B197-8850-4538-864F-AF1488CB1F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FC61-617F-45E2-B000-CFD271CEEC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D283-42DB-4EE1-ADF2-52AFACC879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D46D-A9AE-4971-9997-D3DDEE743E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4321-0877-4D85-A360-B28E2A1DD4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1823-1EB2-47C2-AB22-0BF7729799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0150-0A08-46B0-8BCB-83A86CDAFF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C9FF-1678-4FA0-B1C3-212EB58300F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B554-5A0A-4A7A-81F1-8CD79A8C52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hapter 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First-Order Logic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ruth in first-order logic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entences are true with respect to a 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model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and an 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interpretation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Model contains objects (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domain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elements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) and relations among them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Interpretation specifies referents for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Georgia"/>
              </a:rPr>
              <a:t>constant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ff0000"/>
                </a:solidFill>
                <a:latin typeface="Georgia"/>
              </a:rPr>
              <a:t>symbols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  <a:ea typeface="Arial"/>
              </a:rPr>
              <a:t>→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ccb400"/>
                </a:solidFill>
                <a:latin typeface="Georgia"/>
              </a:rPr>
              <a:t>objects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Georgia"/>
              </a:rPr>
              <a:t>predicate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ff0000"/>
                </a:solidFill>
                <a:latin typeface="Georgia"/>
              </a:rPr>
              <a:t>symbols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  <a:ea typeface="Arial"/>
              </a:rPr>
              <a:t>→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ccb400"/>
                </a:solidFill>
                <a:latin typeface="Georgia"/>
              </a:rPr>
              <a:t>relations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Georgia"/>
              </a:rPr>
              <a:t>function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ff0000"/>
                </a:solidFill>
                <a:latin typeface="Georgia"/>
              </a:rPr>
              <a:t>symbols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  <a:ea typeface="Arial"/>
              </a:rPr>
              <a:t>→</a:t>
            </a:r>
            <a:r>
              <a:rPr b="0" lang="en-US" sz="1700" spc="-1" strike="noStrike">
                <a:solidFill>
                  <a:srgbClr val="646b86"/>
                </a:solidFill>
                <a:latin typeface="Georgia"/>
                <a:ea typeface="Arial"/>
              </a:rPr>
              <a:t>	</a:t>
            </a:r>
            <a:r>
              <a:rPr b="0" lang="en-US" sz="1700" spc="-1" strike="noStrike">
                <a:solidFill>
                  <a:srgbClr val="ccb400"/>
                </a:solidFill>
                <a:latin typeface="Georgia"/>
              </a:rPr>
              <a:t>functional relations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n atomic sentence 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predicate(term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,...,term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is tru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iff the 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objects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referred to by 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term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,...,term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re in the </a:t>
            </a:r>
            <a:r>
              <a:rPr b="0" lang="en-US" sz="1900" spc="-1" strike="noStrike">
                <a:solidFill>
                  <a:srgbClr val="ccb400"/>
                </a:solidFill>
                <a:latin typeface="Georgia"/>
              </a:rPr>
              <a:t>relation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referred to by 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predicat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Universal quantific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&gt; &lt;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sentenc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349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veryone at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mith Colleg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is smart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x At(x,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C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Smart(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349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x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is true in a model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iff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is true with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being each possible object in the mod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349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oughly speaking, equivalent to the </a:t>
            </a: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conjunction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of </a:t>
            </a: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instantiation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At(KingJohn,S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Smart(KingJohn)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At(Richard,S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 Smart(Richard)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At(S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SC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Smart(S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 common mistake to avoi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ypically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the main connectiv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mon mistake: us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s the main connectiv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x At(x,S</a:t>
            </a:r>
            <a:r>
              <a:rPr b="0" lang="ru-RU" sz="2400" spc="-1" strike="noStrike">
                <a:solidFill>
                  <a:srgbClr val="646b86"/>
                </a:solidFill>
                <a:latin typeface="Georgia"/>
              </a:rPr>
              <a:t>C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) </a:t>
            </a:r>
            <a:r>
              <a:rPr b="0" lang="en-US" sz="24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Smart(x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means </a:t>
            </a:r>
            <a:r>
              <a:rPr b="0" lang="ja-JP" sz="2400" spc="-1" strike="noStrike">
                <a:solidFill>
                  <a:srgbClr val="646b86"/>
                </a:solidFill>
                <a:latin typeface="Arial"/>
                <a:ea typeface="ＭＳ Ｐ明朝"/>
              </a:rPr>
              <a:t>“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Everyone is at S</a:t>
            </a:r>
            <a:r>
              <a:rPr b="0" lang="ru-RU" sz="2400" spc="-1" strike="noStrike">
                <a:solidFill>
                  <a:srgbClr val="646b86"/>
                </a:solidFill>
                <a:latin typeface="Georgia"/>
              </a:rPr>
              <a:t>C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and everyone is smart</a:t>
            </a:r>
            <a:r>
              <a:rPr b="0" lang="ja-JP" sz="2400" spc="-1" strike="noStrike">
                <a:solidFill>
                  <a:srgbClr val="646b86"/>
                </a:solidFill>
                <a:latin typeface="Arial"/>
                <a:ea typeface="ＭＳ Ｐ明朝"/>
              </a:rPr>
              <a:t>”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istential quantific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&gt; &lt;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sentence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374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omeone at NUS is smart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At(x,NUS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Smart(x)$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374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is true in a model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iff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is true with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being some possible object in the mod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374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Roughly speaking, equivalent to the </a:t>
            </a:r>
            <a:r>
              <a:rPr b="0" lang="en-US" sz="2200" spc="-1" strike="noStrike">
                <a:solidFill>
                  <a:srgbClr val="ccb400"/>
                </a:solidFill>
                <a:latin typeface="Georgia"/>
              </a:rPr>
              <a:t>disjunction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of </a:t>
            </a:r>
            <a:r>
              <a:rPr b="0" lang="en-US" sz="2200" spc="-1" strike="noStrike">
                <a:solidFill>
                  <a:srgbClr val="ccb400"/>
                </a:solidFill>
                <a:latin typeface="Georgia"/>
              </a:rPr>
              <a:t>instantiation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of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At(KingJohn,S</a:t>
            </a:r>
            <a:r>
              <a:rPr b="0" lang="ru-RU" sz="1900" spc="-1" strike="noStrike">
                <a:solidFill>
                  <a:srgbClr val="646b86"/>
                </a:solidFill>
                <a:latin typeface="Georgia"/>
              </a:rPr>
              <a:t>C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)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Smart(KingJohn) 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At(Richard,S</a:t>
            </a:r>
            <a:r>
              <a:rPr b="0" lang="ru-RU" sz="1900" spc="-1" strike="noStrike">
                <a:solidFill>
                  <a:srgbClr val="646b86"/>
                </a:solidFill>
                <a:latin typeface="Georgia"/>
              </a:rPr>
              <a:t>C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)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Smart(Richard) 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At(S</a:t>
            </a:r>
            <a:r>
              <a:rPr b="0" lang="ru-RU" sz="1900" spc="-1" strike="noStrike">
                <a:solidFill>
                  <a:srgbClr val="646b86"/>
                </a:solidFill>
                <a:latin typeface="Georgia"/>
              </a:rPr>
              <a:t>C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,S</a:t>
            </a:r>
            <a:r>
              <a:rPr b="0" lang="ru-RU" sz="1900" spc="-1" strike="noStrike">
                <a:solidFill>
                  <a:srgbClr val="646b86"/>
                </a:solidFill>
                <a:latin typeface="Georgia"/>
              </a:rPr>
              <a:t>C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)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Smart(S</a:t>
            </a:r>
            <a:r>
              <a:rPr b="0" lang="ru-RU" sz="1900" spc="-1" strike="noStrike">
                <a:solidFill>
                  <a:srgbClr val="646b86"/>
                </a:solidFill>
                <a:latin typeface="Georgia"/>
              </a:rPr>
              <a:t>C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) 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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...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nother common mistake to avoi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ypically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the main connectiv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451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mon mistake: us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s the main connectiv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t(x,S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Smart(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s true if there is anyone who is not at S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perties of quantifier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x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y is the same as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y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x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x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y is the same as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y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x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x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y is </a:t>
            </a:r>
            <a:r>
              <a:rPr b="0" lang="en-US" sz="1700" spc="-1" strike="noStrike">
                <a:solidFill>
                  <a:srgbClr val="ccb400"/>
                </a:solidFill>
                <a:latin typeface="Georgia"/>
              </a:rPr>
              <a:t>not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the same as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y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x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x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y Loves(x,y)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(Remember Love is a directional function </a:t>
            </a:r>
            <a:r>
              <a:rPr b="0" lang="ru-RU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7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646b86"/>
                </a:solidFill>
                <a:latin typeface="Arial"/>
                <a:ea typeface="ＭＳ Ｐ明朝"/>
              </a:rPr>
              <a:t>“</a:t>
            </a: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There is a person who loves everyone in the world</a:t>
            </a:r>
            <a:r>
              <a:rPr b="0" lang="ja-JP" sz="1500" spc="-1" strike="noStrike">
                <a:solidFill>
                  <a:srgbClr val="646b86"/>
                </a:solidFill>
                <a:latin typeface="Arial"/>
                <a:ea typeface="ＭＳ Ｐ明朝"/>
              </a:rPr>
              <a:t>”</a:t>
            </a:r>
            <a:endParaRPr b="0" lang="en-US" sz="15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y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x Loves(x,y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7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646b86"/>
                </a:solidFill>
                <a:latin typeface="Arial"/>
                <a:ea typeface="ＭＳ Ｐ明朝"/>
              </a:rPr>
              <a:t>“</a:t>
            </a: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Everyone in the world is loved by at least one person</a:t>
            </a:r>
            <a:r>
              <a:rPr b="0" lang="ja-JP" sz="1500" spc="-1" strike="noStrike">
                <a:solidFill>
                  <a:srgbClr val="646b86"/>
                </a:solidFill>
                <a:latin typeface="Arial"/>
                <a:ea typeface="ＭＳ Ｐ明朝"/>
              </a:rPr>
              <a:t>”</a:t>
            </a:r>
            <a:endParaRPr b="0" lang="en-US" sz="15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b400"/>
                </a:solidFill>
                <a:latin typeface="Georgia"/>
              </a:rPr>
              <a:t>Quantifier duality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: each can be expressed using the other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x Likes(x,IceCream)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x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Likes(x,IceCream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x Likes(x,Broccoli)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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x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Likes(x,Broccoli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qual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ter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= ter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s true under a given interpretation if and only if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ter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ter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fer to the same obje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451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.g., definition of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ibling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Par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646b86"/>
                </a:solidFill>
                <a:latin typeface="Georgia"/>
              </a:rPr>
              <a:t>x,y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646b86"/>
                </a:solidFill>
                <a:latin typeface="Georgia"/>
              </a:rPr>
              <a:t>Sibling(x,y) </a:t>
            </a:r>
            <a:r>
              <a:rPr b="0" lang="en-US" sz="2400" spc="-1" strike="noStrike">
                <a:solidFill>
                  <a:srgbClr val="646b86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[</a:t>
            </a:r>
            <a:r>
              <a:rPr b="0" lang="en-US" sz="24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(x = y) </a:t>
            </a:r>
            <a:r>
              <a:rPr b="0" lang="en-US" sz="24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646b86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m,f </a:t>
            </a:r>
            <a:r>
              <a:rPr b="0" lang="en-US" sz="2400" spc="-1" strike="noStrike">
                <a:solidFill>
                  <a:srgbClr val="646b86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(m = f) </a:t>
            </a:r>
            <a:r>
              <a:rPr b="0" lang="en-US" sz="24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Parent(m,x) </a:t>
            </a:r>
            <a:r>
              <a:rPr b="0" lang="en-US" sz="24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Parent(f,x) </a:t>
            </a:r>
            <a:r>
              <a:rPr b="0" lang="en-US" sz="24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Parent(m,y) </a:t>
            </a:r>
            <a:r>
              <a:rPr b="0" lang="en-US" sz="24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 Parent(f,y)]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Using FO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The kinship domain: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rothers are sibling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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x,y 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Brother(x,y)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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Sibling(x,y)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One's mother is one's female paren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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m,c 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Mother(c)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= m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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(Female(m)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 Parent(m,c))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ＭＳ Ｐ明朝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ibling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ＭＳ Ｐ明朝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is symmetric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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x,y 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Sibling(x,y) </a:t>
            </a:r>
            <a:r>
              <a:rPr b="0" lang="en-US" sz="1900" spc="-1" strike="noStrike">
                <a:solidFill>
                  <a:srgbClr val="646b86"/>
                </a:solidFill>
                <a:latin typeface="Symbol"/>
                <a:ea typeface="Symbol"/>
              </a:rPr>
              <a:t>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 Sibling(y,x)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4756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4756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Using FO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The set domain: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 Set(s)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s = {} )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x,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Set(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s = {x|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}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x,s {x|s} = {}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x,s x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s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s = {x|s}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x,s x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s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[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y,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} (s = {y|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}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x = y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x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))]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,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x x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x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,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= 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x,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,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x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x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x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x,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,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x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x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x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s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teracting with FOL KB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uppose a wumpus-world agent is using an FOL KB and perceives a smell and a breeze (but no glitter) at </a:t>
            </a: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t=5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646b86"/>
                </a:solidFill>
                <a:latin typeface="Courier New"/>
              </a:rPr>
              <a:t>Tell</a:t>
            </a: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(KB,Percept([Smell,Breeze,None],5))</a:t>
            </a:r>
            <a:endParaRPr b="0" lang="en-US" sz="15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646b86"/>
                </a:solidFill>
                <a:latin typeface="Courier New"/>
              </a:rPr>
              <a:t>Ask</a:t>
            </a: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(KB,</a:t>
            </a:r>
            <a:r>
              <a:rPr b="0" lang="en-US" sz="1500" spc="-1" strike="noStrike">
                <a:solidFill>
                  <a:srgbClr val="646b86"/>
                </a:solidFill>
                <a:latin typeface="Symbol"/>
                <a:ea typeface="Symbol"/>
              </a:rPr>
              <a:t></a:t>
            </a: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a BestAction(a,5))</a:t>
            </a:r>
            <a:endParaRPr b="0" lang="en-US" sz="15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275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I.e., does the KB entail some best action at </a:t>
            </a: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t=5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nswer: </a:t>
            </a: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Yes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, {</a:t>
            </a: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a/Shoot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} 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  <a:ea typeface="Arial"/>
              </a:rPr>
              <a:t>← </a:t>
            </a:r>
            <a:r>
              <a:rPr b="0" lang="en-US" sz="1700" spc="-1" strike="noStrike">
                <a:solidFill>
                  <a:srgbClr val="ccb400"/>
                </a:solidFill>
                <a:latin typeface="Georgia"/>
              </a:rPr>
              <a:t>substitution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(binding list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Given a sentence </a:t>
            </a: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and a substitution </a:t>
            </a:r>
            <a:r>
              <a:rPr b="0" lang="el-GR" sz="1700" spc="-1" strike="noStrike">
                <a:solidFill>
                  <a:srgbClr val="000000"/>
                </a:solidFill>
                <a:latin typeface="Georgia"/>
                <a:ea typeface="Arial"/>
              </a:rPr>
              <a:t>σ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l-GR" sz="1700" spc="-1" strike="noStrike">
                <a:solidFill>
                  <a:srgbClr val="000000"/>
                </a:solidFill>
                <a:latin typeface="Georgia"/>
                <a:ea typeface="Arial"/>
              </a:rPr>
              <a:t>σ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denotes the result of plugging </a:t>
            </a:r>
            <a:r>
              <a:rPr b="0" lang="el-GR" sz="1700" spc="-1" strike="noStrike">
                <a:solidFill>
                  <a:srgbClr val="000000"/>
                </a:solidFill>
                <a:latin typeface="Georgia"/>
                <a:ea typeface="Arial"/>
              </a:rPr>
              <a:t>σ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into </a:t>
            </a:r>
            <a:r>
              <a:rPr b="0" i="1" lang="en-US" sz="17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; e.g.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646b86"/>
                </a:solidFill>
                <a:latin typeface="Georgia"/>
              </a:rPr>
              <a:t>S</a:t>
            </a: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 = Smarter(x,y)</a:t>
            </a:r>
            <a:endParaRPr b="0" lang="en-US" sz="15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646b86"/>
                </a:solidFill>
                <a:latin typeface="Georgia"/>
                <a:ea typeface="Arial"/>
              </a:rPr>
              <a:t>σ</a:t>
            </a: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 = {x/Hillary,y/Bill}</a:t>
            </a:r>
            <a:endParaRPr b="0" lang="en-US" sz="15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646b86"/>
                </a:solidFill>
                <a:latin typeface="Georgia"/>
                <a:ea typeface="Arial"/>
              </a:rPr>
              <a:t>S</a:t>
            </a:r>
            <a:r>
              <a:rPr b="0" lang="el-GR" sz="1500" spc="-1" strike="noStrike">
                <a:solidFill>
                  <a:srgbClr val="646b86"/>
                </a:solidFill>
                <a:latin typeface="Georgia"/>
                <a:ea typeface="Arial"/>
              </a:rPr>
              <a:t>σ</a:t>
            </a:r>
            <a:r>
              <a:rPr b="0" lang="en-US" sz="1500" spc="-1" strike="noStrike">
                <a:solidFill>
                  <a:srgbClr val="646b86"/>
                </a:solidFill>
                <a:latin typeface="Georgia"/>
              </a:rPr>
              <a:t> = Smarter(Hillary,Bill)</a:t>
            </a:r>
            <a:endParaRPr b="0" lang="en-US" sz="15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sk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(KB,S) returns some/all </a:t>
            </a:r>
            <a:r>
              <a:rPr b="0" lang="el-GR" sz="1700" spc="-1" strike="noStrike">
                <a:solidFill>
                  <a:srgbClr val="000000"/>
                </a:solidFill>
                <a:latin typeface="Georgia"/>
                <a:ea typeface="Arial"/>
              </a:rPr>
              <a:t>σ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such that KB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  <a:ea typeface="Arial"/>
              </a:rPr>
              <a:t>╞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Georgia"/>
                <a:ea typeface="Arial"/>
              </a:rPr>
              <a:t>σ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42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60000"/>
              </a:lnSpc>
              <a:spcBef>
                <a:spcPts val="42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utli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y FOL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yntax and semantics of F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ing F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umpus world in F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nowledge engineering in F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nowledge base for the wumpus wor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b400"/>
                </a:solidFill>
                <a:latin typeface="Georgia"/>
              </a:rPr>
              <a:t>Percep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,s,b Percept([s,b,Glitter],t) </a:t>
            </a:r>
            <a:r>
              <a:rPr b="0" lang="en-US" sz="2200" spc="-1" strike="noStrike">
                <a:solidFill>
                  <a:srgbClr val="646b86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Glitter(t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spcBef>
                <a:spcPts val="451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b400"/>
                </a:solidFill>
                <a:latin typeface="Georgia"/>
              </a:rPr>
              <a:t>Reflex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 Glitter(t) </a:t>
            </a:r>
            <a:r>
              <a:rPr b="0" lang="en-US" sz="2200" spc="-1" strike="noStrike">
                <a:solidFill>
                  <a:srgbClr val="646b86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BestAction(Grab,t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ducing hidden propert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x,y,a,b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Adjacen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[x,y],[a,b]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[a,b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{[x+1,y], [x-1,y],[x,y+1],[x,y-1]}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374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perties of squar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,t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Agent,s,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Breeze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Breezy(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quares are breezy near a pit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Diagnostic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rule---infer cause from effec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 Breezy(s)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r,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djacent(r,s)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Pit(r)$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7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b400"/>
                </a:solidFill>
                <a:latin typeface="Georgia"/>
              </a:rPr>
              <a:t>Causal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rule---infer effect from caus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r Pit(r)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[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 Adjacent(r,s)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Breezy(s)$ ]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7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1371600" indent="-228600">
              <a:lnSpc>
                <a:spcPct val="7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60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nowledge engineering in FO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dentify the task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ssemble the relevant knowledg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Decide on a vocabulary of predicates, functions, and constant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ncode general knowledge about the domai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ncode a description of the specific problem instanc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ose queries to the inference procedure and get answe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Debug the knowledge bas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irst-order logic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reas propositional logic assumes the world contains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fact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rst-order logic (like natural language) assumes the world contai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b400"/>
                </a:solidFill>
                <a:latin typeface="Georgia"/>
              </a:rPr>
              <a:t>Objects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: people, houses, numbers, colors, baseball games, wars, …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b400"/>
                </a:solidFill>
                <a:latin typeface="Georgia"/>
              </a:rPr>
              <a:t>Relations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: red, round, prime, brother of, bigger than, part of, comes between, …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b400"/>
                </a:solidFill>
                <a:latin typeface="Georgia"/>
              </a:rPr>
              <a:t>Functions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: father of, best friend, one more than, plus, …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Comparison of Logic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301680" y="1527120"/>
          <a:ext cx="8504280" cy="2763720"/>
        </p:xfrm>
        <a:graphic>
          <a:graphicData uri="http://schemas.openxmlformats.org/drawingml/2006/table">
            <a:tbl>
              <a:tblPr/>
              <a:tblGrid>
                <a:gridCol w="2835360"/>
                <a:gridCol w="2833560"/>
                <a:gridCol w="2835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Ont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Epistom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opositional Log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ue/false/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irst Order Log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acts, Objects, Relations/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ue/false/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emporal Log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acts, Objects, Relations/Functions,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ue/false/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obability The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egree (min 0 , max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uzzy Log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acts in a de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ter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621" name="TextBox 4"/>
          <p:cNvSpPr/>
          <p:nvPr/>
        </p:nvSpPr>
        <p:spPr>
          <a:xfrm>
            <a:off x="2607480" y="4800600"/>
            <a:ext cx="42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tology : What Exist on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pistomology: Agent’s belief about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s and cons of propositional logic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Propositional logic is </a:t>
            </a:r>
            <a:r>
              <a:rPr b="0" lang="en-US" sz="1900" spc="-1" strike="noStrike">
                <a:solidFill>
                  <a:srgbClr val="ff0000"/>
                </a:solidFill>
                <a:latin typeface="Georgia"/>
              </a:rPr>
              <a:t>declarativ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Propositional logic allows partial/disjunctive/negated information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(unlike most data structures and databases)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Propositional logic is </a:t>
            </a:r>
            <a:r>
              <a:rPr b="0" lang="en-US" sz="1900" spc="-1" strike="noStrike">
                <a:solidFill>
                  <a:srgbClr val="ff0000"/>
                </a:solidFill>
                <a:latin typeface="Georgia"/>
              </a:rPr>
              <a:t>compositional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meaning of </a:t>
            </a:r>
            <a:r>
              <a:rPr b="0" i="1" lang="en-US" sz="1600" spc="-1" strike="noStrike">
                <a:solidFill>
                  <a:srgbClr val="646b86"/>
                </a:solidFill>
                <a:latin typeface="Georgia"/>
              </a:rPr>
              <a:t>B</a:t>
            </a:r>
            <a:r>
              <a:rPr b="0" i="1" lang="en-US" sz="1600" spc="-1" strike="noStrike" baseline="-25000">
                <a:solidFill>
                  <a:srgbClr val="646b86"/>
                </a:solidFill>
                <a:latin typeface="Georgia"/>
              </a:rPr>
              <a:t>1,1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646b86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i="1" lang="en-US" sz="16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i="1" lang="en-US" sz="1600" spc="-1" strike="noStrike" baseline="-25000">
                <a:solidFill>
                  <a:srgbClr val="646b86"/>
                </a:solidFill>
                <a:latin typeface="Georgia"/>
              </a:rPr>
              <a:t>1,2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 is derived from meaning of </a:t>
            </a:r>
            <a:r>
              <a:rPr b="0" i="1" lang="en-US" sz="1600" spc="-1" strike="noStrike">
                <a:solidFill>
                  <a:srgbClr val="646b86"/>
                </a:solidFill>
                <a:latin typeface="Georgia"/>
              </a:rPr>
              <a:t>B</a:t>
            </a:r>
            <a:r>
              <a:rPr b="0" i="1" lang="en-US" sz="1600" spc="-1" strike="noStrike" baseline="-25000">
                <a:solidFill>
                  <a:srgbClr val="646b86"/>
                </a:solidFill>
                <a:latin typeface="Georgia"/>
              </a:rPr>
              <a:t>1,1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 and of </a:t>
            </a:r>
            <a:r>
              <a:rPr b="0" i="1" lang="en-US" sz="1600" spc="-1" strike="noStrike">
                <a:solidFill>
                  <a:srgbClr val="646b86"/>
                </a:solidFill>
                <a:latin typeface="Georgia"/>
              </a:rPr>
              <a:t>P</a:t>
            </a:r>
            <a:r>
              <a:rPr b="0" i="1" lang="en-US" sz="1600" spc="-1" strike="noStrike" baseline="-25000">
                <a:solidFill>
                  <a:srgbClr val="646b86"/>
                </a:solidFill>
                <a:latin typeface="Georgia"/>
              </a:rPr>
              <a:t>1,2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Meaning in propositional logic is </a:t>
            </a:r>
            <a:r>
              <a:rPr b="0" lang="en-US" sz="1900" spc="-1" strike="noStrike">
                <a:solidFill>
                  <a:srgbClr val="ff0000"/>
                </a:solidFill>
                <a:latin typeface="Georgia"/>
              </a:rPr>
              <a:t>context-independent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(unlike natural language, where meaning depends on context)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Propositional logic has very limited expressive power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(unlike natural language)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E.g., cannot say "pits cause breezes in adjacent squares</a:t>
            </a:r>
            <a:r>
              <a:rPr b="0" lang="ja-JP" sz="1600" spc="-1" strike="noStrike">
                <a:solidFill>
                  <a:srgbClr val="646b86"/>
                </a:solidFill>
                <a:latin typeface="Arial"/>
                <a:ea typeface="ＭＳ Ｐ明朝"/>
              </a:rPr>
              <a:t>“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60000"/>
              </a:lnSpc>
              <a:spcBef>
                <a:spcPts val="3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except by writing one sentence for each squar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6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272880" indent="-272880">
              <a:lnSpc>
                <a:spcPct val="6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6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272880" indent="-272880">
              <a:lnSpc>
                <a:spcPct val="6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odels for FOL: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5" name="Picture 4" descr="fol-model"/>
          <p:cNvPicPr/>
          <p:nvPr/>
        </p:nvPicPr>
        <p:blipFill>
          <a:blip r:embed="rId1"/>
          <a:stretch/>
        </p:blipFill>
        <p:spPr>
          <a:xfrm>
            <a:off x="1219320" y="1447920"/>
            <a:ext cx="67053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yntax of FOL: Basic elemen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stant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ingJohn, 2, NUS,..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dicates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(relations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rother, &gt;,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unctions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(return value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qrt, LeftLegOf,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ariabl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x, y, a, b,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nectiv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Precedence is important !!! Otherwise ambiguous language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quality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Quantifiers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tomic sentenc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tomic sentence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(states a fact, it can be true or false)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predicate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term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,...,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term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or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term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 = term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erm           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function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term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,...,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term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or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constant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.g.,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Brother(KingJohn,RichardTheLionheart) &gt; (Length(LeftLegOf(Richard)), Length(LeftLegOf(KingJohn))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Can we define Brother as a Function or as a Predicate?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Predicates and functions have 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arity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 (number of parameters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mplex sentenc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lex sentences are made from atomic sentences using connectiv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Sibling(KingJohn,Richar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 Sibling(Richard,KingJohn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(1,2)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≤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(1,2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(1,2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&gt;(1,2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06:35:44Z</dcterms:created>
  <dc:creator>Min-Yen Kan</dc:creator>
  <dc:description/>
  <dc:language>en-US</dc:language>
  <cp:lastModifiedBy>Sadi SEKER</cp:lastModifiedBy>
  <dcterms:modified xsi:type="dcterms:W3CDTF">2017-03-27T02:32:30Z</dcterms:modified>
  <cp:revision>17</cp:revision>
  <dc:subject/>
  <dc:title>First-Order Logic</dc:title>
</cp:coreProperties>
</file>