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D14-7B03-43FC-94A5-FC052E55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061-AF87-4FA1-811B-7D065718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5429C-F954-4A99-8D58-1D245DE2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3BCE1-9F65-4E6A-9ED0-39BA39C4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0D6CB-F473-42DB-A29E-0AD1D412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0E90E-716E-4657-95FA-28C54CDE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CCEF4-78BB-4C36-9EFE-25E7491B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7AD29-3A02-4ABB-B831-88BA6C9E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0F969-F799-4D03-8E47-AFA3CCE3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E9ABC-F9D5-4ED3-8F8E-1DC1C2DF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8F750-6972-410D-AE5C-9CD386D8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A0579-6690-4D1F-AA06-6949ED9E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E0A-75DF-48C9-8E97-4576109B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02101-56AC-48B3-9F5C-A81A321D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83EDA3-9AC7-4095-B7CF-E049CEA4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3553F-69E4-4468-AA00-4EE03DD5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27C0C-598D-4993-8DC1-01E9D5CA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1BD11-D2E2-44F2-BCE5-F3FE1EB5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BD9F9-2CD8-426D-AC30-4A7C9659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65BC5-5451-4E76-86E9-CFCC909B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EC61F-CB5D-4B49-9049-C370AA3C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F1F4F-500A-4A79-B177-AD88FBE4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152C0-2287-4B3D-A24F-B7507C3F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147-0056-43A3-8300-E2ECBF63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F00E7A-49D7-434E-9D67-BA7E28CD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5ECBD-F57B-43BD-A8B6-FF3B379F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D974D-E1A7-4F64-87C8-15DCCD44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6BEBA-6CA8-4F6B-9C0C-B06AC1A2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338AA-33AA-42A3-B9FA-7740F955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863BB-3F2E-4762-808D-C8E8AA94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814B2-9649-47BB-8564-786932FF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DBEAD-CB77-41E0-8C3C-381CD789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BFB00-D78B-4854-A2A1-5618FD92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C1BF1-F9A9-440A-802A-B44AB160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6284-16D1-452F-84F7-FCC54D18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7700E-82FE-484A-AF39-DBB7CE40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5761C-0C94-4943-8419-9AB7A38C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B9EFF-6DA3-4D2B-8BBF-30A1FE02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CDC03-16C7-4D01-8F21-ED4232FF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9749F-1C5C-4C97-8C51-216CBBC4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5B906-81E9-44F3-A95C-D0A9FC68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ACE1D-9B6A-4FCC-9197-D6F15213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AE0BA-CBA3-461B-93E2-130FCF0A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11ADB-7BCB-4A95-B870-F0FDEA7D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221E2-BD3F-42E1-9B82-E8A6CC16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F73C-8120-4EBD-9171-F00B90B2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E30DF-4D4B-47F9-8614-D5D8883E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9B602-DCB9-40AB-BFB0-16E1FABF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40E927-12AD-4DA9-8600-99B9572A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445F7-E10F-4A4F-A692-D12CFAA0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6422A-65BB-472D-82AE-0696083F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A19E-E4C2-4BB3-8C0E-A07528D8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E346-B741-42AB-BDBA-D9F8E65A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E491-F686-4EAC-B3BE-9D58196B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3735-C656-4973-AD68-9EF98437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153C-E407-4109-A518-D1BB21E9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8B4-323C-4309-AAA1-395D7A9F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7DBF-FBB5-4393-84E4-CAFEA493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A51A-9AC2-451D-8B5C-67167A08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DBEC-1EA0-4513-89FD-B4B83F94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12FD-8742-4725-9038-6236D196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CAB6-C993-4646-A44A-1B1B6FD8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3D92-2CE3-43EE-9134-E5132419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6E52A-654B-42E4-88F9-2E5C5C02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37C0-8729-48AA-B790-A7837146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D304B-1939-4496-AE74-73A01B49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A421-189F-45A6-84F2-3C49FDB5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63F-7F71-4861-95C8-F160660F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3BE45-F56C-43DE-BF98-3E0B16DA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5801B-2B80-4D02-8F38-84E19D78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8B9C4-CDAD-4C29-B330-9434C75B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F5A74-1215-417E-B1B6-2947AFCF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48C32-F1F6-44B1-A804-F9FB3BD4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0A73B-F265-4E4B-B31E-53EE9965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CA177-E975-43B4-8D28-D047114F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CAEA-8275-4DBC-B8B7-B6807F29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7518C-4894-4863-89E4-15DA1980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24FC6-EF45-4616-B00D-39BCD3EC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ACF-C6B2-4362-88B9-147058D9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140A9-C1B4-411A-81EA-B6BA366A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73CD4-C029-4B4C-A477-A82345AE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EAB72-2FEE-4A66-96BB-0DD5DD2C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4752F-E781-4E5B-89C5-BA5EC61E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6E3EA-F421-4193-B702-752541AD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6C871-4D34-49FE-86B3-C654ABDC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CBE17-7136-4079-8059-EDC186E8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13C3-4866-4751-B673-DEE658A2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6C784-AF24-4A1A-85EE-2E857CC6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C568B-6D3E-405D-A376-45C69393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A567-3B30-4A6D-A997-994854E4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6F8D4-F2D3-4D02-9F3D-931A78CE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C51A9-5C1A-4EF3-8952-BA2473BF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64BFE-37E5-4CD9-9C53-5DED92BE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44A87-CD67-4E2F-987F-60BA9974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40128-8260-4EA0-8B68-E2975CBB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246DF-CCF2-4B4B-B99E-76B83301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1BDB0-2215-4312-AE52-482C6ECB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29F56-F321-45D8-B449-47E05C19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6A9D6-258C-47C9-A835-02329977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65D83-2E9A-4C9D-9075-4F604539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08E-32A1-4FF0-941E-AB5FF34F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A266E-2E4B-42E1-B86F-855E0D59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26F30-DBA9-493F-B214-706D30E3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D26BA-BFDD-4A6F-A919-4EF4C2AD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9FD97-1CE9-480B-8BE9-A210F363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64611-0C98-48BA-AEF0-F93E4F72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8D6E8-EE64-42EE-AD6E-5F1AAE6A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050C6-F539-4CDA-B953-11B67FCB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66AC0-A026-4BD0-B441-490D749F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8FD6E-F5A4-453A-B010-D321AD9E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EEEC6-452B-48F9-9F00-A55ABBF4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9D7-48E5-44AF-80D4-269C4A4C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90F65-98DE-4EBC-95EA-5AE1A94A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54886-E35E-4BB4-BC38-A009CECF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78C9E-5C88-4449-B6C0-0962B8EC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F3984-ED43-47A1-A26D-6F7AD4C3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5D8DA-FF49-44DE-B6E6-2330801D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649FC-98F3-4473-88EC-F12BA3CC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46CEA-51DA-4342-9685-E74FA093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192E3-5A89-4C7F-A385-2706634D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B2544-9689-47D3-8798-CBE54FE3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371BF-CC9D-40A2-A7DB-07B9226E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F4A-DEAF-41B7-A0A1-744B4CE7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2544F-B625-4454-9901-DDD3A8AC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60E86-9756-4527-B75B-FFB9FDB2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02776-0FAA-4F32-82DE-159FA22F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C9849-F04D-4B35-9106-C345DE26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29C5F-839C-47C6-A960-AD2DE5E0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D6DDB-85B4-487D-9AC5-F43B6400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20528-8585-46C5-BFF1-0D7382BC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E41E5-F61C-4336-8E35-AAFE6484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78837-1261-445E-B1F4-2D9E064E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B0170-F916-49D4-911F-3290CCC0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358-CB90-4534-9399-1047EF3E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FFE65-27E0-479B-AF4E-8098A4E2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4CB2D-8F97-44AB-BC46-5A3F8239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BC77F-0C19-49C2-BE98-AFB28B07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BC999-7A23-4449-A4B8-F6BFF354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FE8FC-8C65-42C1-89EB-17399F0C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EF76A-C4C4-4D03-81C3-6BE8EB82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C4248-54BB-4C76-9CEE-6919B2E1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B17A3-4F8C-42ED-A1E5-CB49B949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6EA80-F425-4D72-A026-39C7CF5F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D9E9F-9A34-499F-A87E-5EF66E17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8BF2-F739-4267-BEAF-E159EEDFB9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F2FD-85CE-4EAC-A898-688CAB7FA5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7452-99D4-4362-BA57-902A17814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5ED8-ADF1-4495-A374-6F4FB09DC7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626D-6414-4CBD-BE58-99EF1FA4BA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7AB1-B093-43EB-B809-3135326E5C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84D1-9271-448D-A397-984918A25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65E2-DF44-4797-8E29-3523350CC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32BA-A6E2-4722-A8BB-5E1B66727A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E439-CB35-404E-A8E1-EAEFEB954C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C02D-8D7A-4C97-9E0C-159E9C9754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9F2A-7897-4C09-ADCE-5FB323E561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pter 7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Logical Agent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ploring a wumpus wor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Picture 3" descr="wumpus-seq2c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ploring a wumpus wor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1" name="Picture 3" descr="wumpus-seq3c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ploring a wumpus wor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3" name="Picture 3" descr="wumpus-seq4c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ploring a wumpus wor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Picture 3" descr="wumpus-seq5c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ploring a wumpus wor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7" name="Picture 3" descr="wumpus-seq6c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ploring a wumpus wor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Picture 3" descr="wumpus-seq7c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ogic in gener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Logics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are formal languages for representing information such that conclusions can be drawn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Syntax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defines the sentences in the languag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Semantics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define the "meaning" of sentences;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i.e., define </a:t>
            </a:r>
            <a:r>
              <a:rPr b="0" lang="en-US" sz="1400" spc="-1" strike="noStrike">
                <a:solidFill>
                  <a:srgbClr val="ccb400"/>
                </a:solidFill>
                <a:latin typeface="Georgia"/>
              </a:rPr>
              <a:t>truth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of a sentence in a world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E.g., the language of arithmetic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x+2 ≥ y is a sentence; x2+y &gt; {} is not a sentence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x+2 ≥ y is true iff the number x+2 is no less than the number y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x+2 ≥ y is true in a world where x = 7, y = 1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x+2 ≥ y is false in a world where x = 0, y = 6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ntail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b400"/>
                </a:solidFill>
                <a:latin typeface="Georgia"/>
              </a:rPr>
              <a:t>Entailmen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means that one thing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follows from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oth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KB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Arial"/>
              </a:rPr>
              <a:t>╞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Georgia"/>
                <a:ea typeface="Arial"/>
              </a:rPr>
              <a:t>α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Knowledge base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KB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entails sentence α if and only if α is true in all worlds where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KB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tru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425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.g., the KB containing </a:t>
            </a:r>
            <a:r>
              <a:rPr b="0" lang="ja-JP" sz="2200" spc="-1" strike="noStrike">
                <a:solidFill>
                  <a:srgbClr val="646b86"/>
                </a:solidFill>
                <a:latin typeface="Arial"/>
                <a:ea typeface="ＭＳ Ｐ明朝"/>
              </a:rPr>
              <a:t>“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he Giants won</a:t>
            </a:r>
            <a:r>
              <a:rPr b="0" lang="ja-JP" sz="2200" spc="-1" strike="noStrike">
                <a:solidFill>
                  <a:srgbClr val="646b86"/>
                </a:solidFill>
                <a:latin typeface="Arial"/>
                <a:ea typeface="ＭＳ Ｐ明朝"/>
              </a:rPr>
              <a:t>”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and </a:t>
            </a:r>
            <a:r>
              <a:rPr b="0" lang="ja-JP" sz="2200" spc="-1" strike="noStrike">
                <a:solidFill>
                  <a:srgbClr val="646b86"/>
                </a:solidFill>
                <a:latin typeface="Arial"/>
                <a:ea typeface="ＭＳ Ｐ明朝"/>
              </a:rPr>
              <a:t>“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he Reds won</a:t>
            </a:r>
            <a:r>
              <a:rPr b="0" lang="ja-JP" sz="2200" spc="-1" strike="noStrike">
                <a:solidFill>
                  <a:srgbClr val="646b86"/>
                </a:solidFill>
                <a:latin typeface="Arial"/>
                <a:ea typeface="ＭＳ Ｐ明朝"/>
              </a:rPr>
              <a:t>”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entails </a:t>
            </a:r>
            <a:r>
              <a:rPr b="0" lang="ja-JP" sz="2200" spc="-1" strike="noStrike">
                <a:solidFill>
                  <a:srgbClr val="646b86"/>
                </a:solidFill>
                <a:latin typeface="Arial"/>
                <a:ea typeface="ＭＳ Ｐ明朝"/>
              </a:rPr>
              <a:t>“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ither the Giants won or the Reds won</a:t>
            </a:r>
            <a:r>
              <a:rPr b="0" lang="ja-JP" sz="2200" spc="-1" strike="noStrike">
                <a:solidFill>
                  <a:srgbClr val="646b86"/>
                </a:solidFill>
                <a:latin typeface="Arial"/>
                <a:ea typeface="ＭＳ Ｐ明朝"/>
              </a:rPr>
              <a:t>”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.g., x+y = 4 entails  4 = x+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ntailment is a relationship between sentences (i.e., </a:t>
            </a:r>
            <a:r>
              <a:rPr b="0" lang="en-US" sz="2200" spc="-1" strike="noStrike">
                <a:solidFill>
                  <a:srgbClr val="ff0000"/>
                </a:solidFill>
                <a:latin typeface="Georgia"/>
              </a:rPr>
              <a:t>syntax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) that is based on </a:t>
            </a:r>
            <a:r>
              <a:rPr b="0" lang="en-US" sz="2200" spc="-1" strike="noStrike">
                <a:solidFill>
                  <a:srgbClr val="ff0000"/>
                </a:solidFill>
                <a:latin typeface="Georgia"/>
              </a:rPr>
              <a:t>semantic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de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ogicians typically think in terms of </a:t>
            </a: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model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which are formally structured worlds with respect to which truth can be evalua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 say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is a model of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a sentence α if α is true in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(α)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s the set of all models of α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n KB ╞ α iff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(K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(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α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E.g. </a:t>
            </a:r>
            <a:r>
              <a:rPr b="0" i="1" lang="en-US" sz="1800" spc="-1" strike="noStrike">
                <a:solidFill>
                  <a:srgbClr val="646b86"/>
                </a:solidFill>
                <a:latin typeface="Georgia"/>
              </a:rPr>
              <a:t>KB 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= Giants won and Reds</a:t>
            </a:r>
            <a:br>
              <a:rPr sz="1800"/>
            </a:b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won α = Giants won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6" name="Picture 4" descr="model-inclusion"/>
          <p:cNvPicPr/>
          <p:nvPr/>
        </p:nvPicPr>
        <p:blipFill>
          <a:blip r:embed="rId1"/>
          <a:stretch/>
        </p:blipFill>
        <p:spPr>
          <a:xfrm>
            <a:off x="5105520" y="3048120"/>
            <a:ext cx="35812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ntailment in the wumpus wor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tuation after detecting nothing in [1,1], moving right, breeze in [2,1]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 possible models for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ssuming only pi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 Boolean choic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8 possible mode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Picture 4" descr="wumpus-seq1c-alt"/>
          <p:cNvPicPr/>
          <p:nvPr/>
        </p:nvPicPr>
        <p:blipFill>
          <a:blip r:embed="rId1"/>
          <a:stretch/>
        </p:blipFill>
        <p:spPr>
          <a:xfrm>
            <a:off x="5867280" y="2057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utli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nowledge-based ag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umpus worl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gic in general - models and entail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positional (Boolean) log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quivalence, validity, satisfiabi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ference rules and theorem prov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forward chaining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backward chaining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resolution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umpus mode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1" name="Picture 4" descr="wumpus-models1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umpus mode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KB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wumpus-world rules + observ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Picture 4" descr="wumpus-models2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7" descr="wumpus-models3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292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umpus mode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6840" y="502884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KB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= wumpus-world rules + observations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= "[1,2] is safe", 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KB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╞ α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, proved by </a:t>
            </a: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model checking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umpus mode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6840" y="502884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KB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wumpus-world rules + observ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0" name="Picture 4" descr="wumpus-models2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umpus mode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Georgia"/>
              </a:rPr>
              <a:t>KB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= wumpus-world rules + observation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= "[2,2] is safe", </a:t>
            </a:r>
            <a:r>
              <a:rPr b="0" i="1" lang="en-US" sz="2500" spc="-1" strike="noStrike">
                <a:solidFill>
                  <a:srgbClr val="000000"/>
                </a:solidFill>
                <a:latin typeface="Georgia"/>
              </a:rPr>
              <a:t>KB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╞ α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Line 6"/>
          <p:cNvSpPr/>
          <p:nvPr/>
        </p:nvSpPr>
        <p:spPr>
          <a:xfrm flipV="1">
            <a:off x="5105520" y="563832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7" descr="wumpus-models4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fere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KB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Arial"/>
              </a:rPr>
              <a:t>├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α = sentence α can be derived from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KB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y procedure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b400"/>
                </a:solidFill>
                <a:latin typeface="Georgia"/>
              </a:rPr>
              <a:t>Soundnes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is sound if whenever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KB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Arial"/>
              </a:rPr>
              <a:t>├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α, it is also true that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KB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╞ α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b400"/>
                </a:solidFill>
                <a:latin typeface="Georgia"/>
              </a:rPr>
              <a:t>Completenes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is complete if whenever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KB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╞ α, it is also true that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KB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Arial"/>
              </a:rPr>
              <a:t>├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α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review: we will define a logic (first-order logic) which is expressive enough to say almost anything of interest, and for which there exists a sound and complete inference procedure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at is, the procedure will answer any question whose answer follows from what is known by the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KB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positional logic: Syntax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ropositional logic is the simplest logic –  illustrates basic idea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proposition symbols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,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etc are sentenc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If S is a sentence,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S is a sentence (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negation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If 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and 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are sentences, 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is a sentence (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conjunction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If 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and 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are sentences, 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is a sentence (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disjunction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If 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and 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are sentences, 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is a sentence (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implication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If 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and 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are sentences, 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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is a sentence (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biconditional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272880" indent="-272880">
              <a:lnSpc>
                <a:spcPct val="7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positional logic: Semantic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Each model specifies true/false for each proposition symbol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E.g. 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2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2,2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3,1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false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true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false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With these symbols, 8 possible models, can be enumerated automatically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Rules for evaluating truth with respect to a model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s true iff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 is false 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  is true iff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is true </a:t>
            </a:r>
            <a:r>
              <a:rPr b="0" lang="en-US" sz="1500" spc="-1" strike="noStrike">
                <a:solidFill>
                  <a:srgbClr val="ccb400"/>
                </a:solidFill>
                <a:latin typeface="Georgia"/>
              </a:rPr>
              <a:t>and </a:t>
            </a:r>
            <a:r>
              <a:rPr b="0" lang="en-US" sz="1500" spc="-1" strike="noStrike">
                <a:solidFill>
                  <a:srgbClr val="ccb4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is true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  is true iff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s true </a:t>
            </a:r>
            <a:r>
              <a:rPr b="0" lang="en-US" sz="1500" spc="-1" strike="noStrike">
                <a:solidFill>
                  <a:srgbClr val="ccb400"/>
                </a:solidFill>
                <a:latin typeface="Georgia"/>
              </a:rPr>
              <a:t>or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is true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s true iff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is false </a:t>
            </a:r>
            <a:r>
              <a:rPr b="0" lang="en-US" sz="1500" spc="-1" strike="noStrike">
                <a:solidFill>
                  <a:srgbClr val="ccb400"/>
                </a:solidFill>
                <a:latin typeface="Georgia"/>
              </a:rPr>
              <a:t>or</a:t>
            </a:r>
            <a:r>
              <a:rPr b="0" lang="en-US" sz="1500" spc="-1" strike="noStrike">
                <a:solidFill>
                  <a:srgbClr val="ccb4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is true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.e.,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s false iff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is true </a:t>
            </a:r>
            <a:r>
              <a:rPr b="0" lang="en-US" sz="1500" spc="-1" strike="noStrike">
                <a:solidFill>
                  <a:srgbClr val="ccb400"/>
                </a:solidFill>
                <a:latin typeface="Georgia"/>
              </a:rPr>
              <a:t>and</a:t>
            </a:r>
            <a:r>
              <a:rPr b="0" lang="en-US" sz="1500" spc="-1" strike="noStrike">
                <a:solidFill>
                  <a:srgbClr val="ccb4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2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s false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s true iff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is true </a:t>
            </a:r>
            <a:r>
              <a:rPr b="0" lang="en-US" sz="1500" spc="-1" strike="noStrike">
                <a:solidFill>
                  <a:srgbClr val="ccb400"/>
                </a:solidFill>
                <a:latin typeface="Georgia"/>
              </a:rPr>
              <a:t>and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is true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imple recursive process evaluates an arbitrary sentence, e.g.,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1,2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(P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2,2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Georgia"/>
              </a:rPr>
              <a:t>3,1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) =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true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true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 false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) = 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true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true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true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47560" indent="-272880">
              <a:lnSpc>
                <a:spcPct val="6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ruth tables for connectiv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2" name="Picture 5" descr=""/>
          <p:cNvPicPr/>
          <p:nvPr/>
        </p:nvPicPr>
        <p:blipFill>
          <a:blip r:embed="rId1"/>
          <a:srcRect l="37502" t="30211" r="7811" b="50002"/>
          <a:stretch/>
        </p:blipFill>
        <p:spPr>
          <a:xfrm>
            <a:off x="609480" y="1371600"/>
            <a:ext cx="7696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umpus world sentenc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et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eorgia"/>
              </a:rPr>
              <a:t>i,j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be true if there is a pit in [i, j]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et 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eorgia"/>
              </a:rPr>
              <a:t>i,j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be true if there is a breeze in [i, j]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22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</a:t>
            </a:r>
            <a:r>
              <a:rPr b="0" lang="en-US" sz="22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</a:t>
            </a:r>
            <a:r>
              <a:rPr b="0" lang="en-US" sz="2200" spc="-1" strike="noStrike" baseline="-25000">
                <a:solidFill>
                  <a:srgbClr val="646b86"/>
                </a:solidFill>
                <a:latin typeface="Georgia"/>
              </a:rPr>
              <a:t>2,1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"Pits cause breezes in adjacent squares"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</a:t>
            </a:r>
            <a:r>
              <a:rPr b="0" lang="en-US" sz="2200" spc="-1" strike="noStrike" baseline="-25000">
                <a:solidFill>
                  <a:srgbClr val="646b86"/>
                </a:solidFill>
                <a:latin typeface="Georgia"/>
              </a:rPr>
              <a:t>1,1  </a:t>
            </a:r>
            <a:r>
              <a:rPr b="0" lang="en-US" sz="2200" spc="-1" strike="noStrike">
                <a:solidFill>
                  <a:srgbClr val="646b86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 baseline="-25000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 baseline="-25000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(P</a:t>
            </a:r>
            <a:r>
              <a:rPr b="0" lang="en-US" sz="2200" spc="-1" strike="noStrike" baseline="-25000">
                <a:solidFill>
                  <a:srgbClr val="646b86"/>
                </a:solidFill>
                <a:latin typeface="Georgia"/>
              </a:rPr>
              <a:t>1,2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P</a:t>
            </a:r>
            <a:r>
              <a:rPr b="0" lang="en-US" sz="2200" spc="-1" strike="noStrike" baseline="-25000">
                <a:solidFill>
                  <a:srgbClr val="646b86"/>
                </a:solidFill>
                <a:latin typeface="Georgia"/>
              </a:rPr>
              <a:t>2,1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</a:t>
            </a:r>
            <a:r>
              <a:rPr b="0" lang="en-US" sz="2200" spc="-1" strike="noStrike" baseline="-25000">
                <a:solidFill>
                  <a:srgbClr val="646b86"/>
                </a:solidFill>
                <a:latin typeface="Georgia"/>
              </a:rPr>
              <a:t>2,1  </a:t>
            </a:r>
            <a:r>
              <a:rPr b="0" lang="en-US" sz="2200" spc="-1" strike="noStrike">
                <a:solidFill>
                  <a:srgbClr val="646b86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(P</a:t>
            </a:r>
            <a:r>
              <a:rPr b="0" lang="en-US" sz="22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P</a:t>
            </a:r>
            <a:r>
              <a:rPr b="0" lang="en-US" sz="2200" spc="-1" strike="noStrike" baseline="-25000">
                <a:solidFill>
                  <a:srgbClr val="646b86"/>
                </a:solidFill>
                <a:latin typeface="Georgia"/>
              </a:rPr>
              <a:t>2,2 </a:t>
            </a:r>
            <a:r>
              <a:rPr b="0" lang="en-US" sz="22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P</a:t>
            </a:r>
            <a:r>
              <a:rPr b="0" lang="en-US" sz="2200" spc="-1" strike="noStrike" baseline="-25000">
                <a:solidFill>
                  <a:srgbClr val="646b86"/>
                </a:solidFill>
                <a:latin typeface="Georgia"/>
              </a:rPr>
              <a:t>3,1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1371600" indent="-228600">
              <a:lnSpc>
                <a:spcPct val="7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nowledge bas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Knowledge base = set of 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sentences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in a 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formal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languag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Declarative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approach to building an agent (or other system)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Courier New"/>
              </a:rPr>
              <a:t>Tell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it what it needs to know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hen it can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Ask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itself what to do - answers should follow from the KB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gents can be viewed at the 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knowledge level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i.e., what they know, regardless of how implemented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Or at the 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implementation level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i.e., data structures in KB and algorithms that manipulate them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4" descr="kbs"/>
          <p:cNvPicPr/>
          <p:nvPr/>
        </p:nvPicPr>
        <p:blipFill>
          <a:blip r:embed="rId1"/>
          <a:stretch/>
        </p:blipFill>
        <p:spPr>
          <a:xfrm>
            <a:off x="914400" y="1523880"/>
            <a:ext cx="65530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ruth tables for infere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6" name="Picture 4" descr=""/>
          <p:cNvPicPr/>
          <p:nvPr/>
        </p:nvPicPr>
        <p:blipFill>
          <a:blip r:embed="rId1"/>
          <a:srcRect l="37502" t="30211" r="7811" b="32293"/>
          <a:stretch/>
        </p:blipFill>
        <p:spPr>
          <a:xfrm>
            <a:off x="762120" y="1371600"/>
            <a:ext cx="754380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ference by enume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pth-first enumeration of all models is sound and complet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symbols, time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O(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space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4" descr=""/>
          <p:cNvPicPr/>
          <p:nvPr/>
        </p:nvPicPr>
        <p:blipFill>
          <a:blip r:embed="rId1"/>
          <a:srcRect l="31253" t="35419" r="783" b="19791"/>
          <a:stretch/>
        </p:blipFill>
        <p:spPr>
          <a:xfrm>
            <a:off x="1143000" y="1981080"/>
            <a:ext cx="6629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ogical equivale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o sentences are </a:t>
            </a:r>
            <a:r>
              <a:rPr b="0" lang="en-US" sz="2400" spc="-1" strike="noStrike">
                <a:solidFill>
                  <a:srgbClr val="ccb400"/>
                </a:solidFill>
                <a:latin typeface="Georgia"/>
              </a:rPr>
              <a:t>logically equivalen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} iff true in same models: α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≡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ß iff α╞ 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╞ 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2" name="Picture 4" descr=""/>
          <p:cNvPicPr/>
          <p:nvPr/>
        </p:nvPicPr>
        <p:blipFill>
          <a:blip r:embed="rId1"/>
          <a:srcRect l="33597" t="39583" r="3127" b="15627"/>
          <a:stretch/>
        </p:blipFill>
        <p:spPr>
          <a:xfrm>
            <a:off x="1143000" y="2514600"/>
            <a:ext cx="716292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alidity and satisfiabil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sentence is </a:t>
            </a: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valid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if it is true in 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models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e.g., </a:t>
            </a:r>
            <a:r>
              <a:rPr b="0" i="1" lang="en-US" sz="1800" spc="-1" strike="noStrike">
                <a:solidFill>
                  <a:srgbClr val="646b86"/>
                </a:solidFill>
                <a:latin typeface="Georgia"/>
              </a:rPr>
              <a:t>True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,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A </a:t>
            </a:r>
            <a:r>
              <a:rPr b="0" lang="en-US" sz="1800" spc="-1" strike="noStrike">
                <a:solidFill>
                  <a:srgbClr val="646b86"/>
                </a:solidFill>
                <a:latin typeface="Symbol"/>
                <a:ea typeface="Symbol"/>
              </a:rPr>
              <a:t>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A, 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A </a:t>
            </a:r>
            <a:r>
              <a:rPr b="0" lang="en-US" sz="1800" spc="-1" strike="noStrike">
                <a:solidFill>
                  <a:srgbClr val="646b86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 A, 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(A </a:t>
            </a:r>
            <a:r>
              <a:rPr b="0" lang="en-US" sz="18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 (A </a:t>
            </a:r>
            <a:r>
              <a:rPr b="0" lang="en-US" sz="1800" spc="-1" strike="noStrike">
                <a:solidFill>
                  <a:srgbClr val="646b86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 B)) </a:t>
            </a:r>
            <a:r>
              <a:rPr b="0" lang="en-US" sz="1800" spc="-1" strike="noStrike">
                <a:solidFill>
                  <a:srgbClr val="646b86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 B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49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alidity is connected to inference via the </a:t>
            </a: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Deduction Theorem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46b86"/>
                </a:solidFill>
                <a:latin typeface="Georgia"/>
              </a:rPr>
              <a:t>KB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 ╞ α if and only if (</a:t>
            </a:r>
            <a:r>
              <a:rPr b="0" i="1" lang="en-US" sz="1800" spc="-1" strike="noStrike">
                <a:solidFill>
                  <a:srgbClr val="646b86"/>
                </a:solidFill>
                <a:latin typeface="Georgia"/>
              </a:rPr>
              <a:t>KB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646b86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 α) is valid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sentence is </a:t>
            </a: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satisfiabl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if it is true in </a:t>
            </a: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mod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e.g., A</a:t>
            </a:r>
            <a:r>
              <a:rPr b="0" lang="en-US" sz="18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 B, 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C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49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sentence is </a:t>
            </a: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unsatisfiabl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if it is true in </a:t>
            </a: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mode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e.g., A</a:t>
            </a:r>
            <a:r>
              <a:rPr b="0" lang="en-US" sz="1800" spc="-1" strike="noStrike">
                <a:solidFill>
                  <a:srgbClr val="646b86"/>
                </a:solidFill>
                <a:latin typeface="Symbol"/>
                <a:ea typeface="Symbol"/>
              </a:rPr>
              <a:t>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A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49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atisfiability is connected to inference via the following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46b86"/>
                </a:solidFill>
                <a:latin typeface="Georgia"/>
              </a:rPr>
              <a:t>KB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 ╞ α if and only if (</a:t>
            </a:r>
            <a:r>
              <a:rPr b="0" i="1" lang="en-US" sz="1800" spc="-1" strike="noStrike">
                <a:solidFill>
                  <a:srgbClr val="646b86"/>
                </a:solidFill>
                <a:latin typeface="Georgia"/>
              </a:rPr>
              <a:t>KB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646b86"/>
                </a:solidFill>
                <a:latin typeface="Symbol"/>
                <a:ea typeface="Symbol"/>
              </a:rPr>
              <a:t>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α) is unsatisfiable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272880" indent="-27288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 indent="-27288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 indent="-27288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of metho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Proof methods divide into (roughly) two kinds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b400"/>
                </a:solidFill>
                <a:latin typeface="Georgia"/>
              </a:rPr>
              <a:t>Application of inference rules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Legitimate (sound) generation of new sentences from old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b400"/>
                </a:solidFill>
                <a:latin typeface="Georgia"/>
              </a:rPr>
              <a:t>Proof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= a sequence of inference rule applica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Can use inference rules as operators in a standard search algorithm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Typically require transformation of sentences into a </a:t>
            </a:r>
            <a:r>
              <a:rPr b="0" lang="en-US" sz="1400" spc="-1" strike="noStrike">
                <a:solidFill>
                  <a:srgbClr val="ccb400"/>
                </a:solidFill>
                <a:latin typeface="Georgia"/>
              </a:rPr>
              <a:t>normal form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b400"/>
                </a:solidFill>
                <a:latin typeface="Georgia"/>
              </a:rPr>
              <a:t>Model checking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truth table enumeration (always exponential in 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improved backtracking, e.g., Davis--Putnam-Logemann-Loveland (DPLL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heuristic search in model space (sound but incomplete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e.g., min-conflicts-like hill-climbing algorithm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49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1371600" indent="-228600">
              <a:lnSpc>
                <a:spcPct val="70000"/>
              </a:lnSpc>
              <a:spcBef>
                <a:spcPts val="3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476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solu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Conjunctive Normal Form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(CNF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   </a:t>
            </a:r>
            <a:r>
              <a:rPr b="0" lang="en-US" sz="1500" spc="-1" strike="noStrike">
                <a:solidFill>
                  <a:srgbClr val="ff0000"/>
                </a:solidFill>
                <a:latin typeface="Georgia"/>
              </a:rPr>
              <a:t>conjunction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 of </a:t>
            </a:r>
            <a:r>
              <a:rPr b="0" lang="en-US" sz="1500" spc="-1" strike="noStrike">
                <a:solidFill>
                  <a:srgbClr val="ff0000"/>
                </a:solidFill>
                <a:latin typeface="Georgia"/>
              </a:rPr>
              <a:t>disjunctions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 of </a:t>
            </a:r>
            <a:r>
              <a:rPr b="0" lang="en-US" sz="1500" spc="-1" strike="noStrike">
                <a:solidFill>
                  <a:srgbClr val="ff0000"/>
                </a:solidFill>
                <a:latin typeface="Georgia"/>
              </a:rPr>
              <a:t>literals</a:t>
            </a:r>
            <a:endParaRPr b="0" lang="en-US" sz="15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ff0000"/>
                </a:solidFill>
                <a:latin typeface="Georgia"/>
              </a:rPr>
              <a:t>clauses</a:t>
            </a:r>
            <a:endParaRPr b="0" lang="en-US" sz="15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E.g., (A </a:t>
            </a:r>
            <a:r>
              <a:rPr b="0" lang="en-US" sz="15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B) </a:t>
            </a:r>
            <a:r>
              <a:rPr b="0" lang="en-US" sz="15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 (B </a:t>
            </a:r>
            <a:r>
              <a:rPr b="0" lang="en-US" sz="15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C </a:t>
            </a:r>
            <a:r>
              <a:rPr b="0" lang="en-US" sz="15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D)</a:t>
            </a:r>
            <a:endParaRPr b="0" lang="en-US" sz="15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Resolution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inference rule (for CNF)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k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i-1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i+1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k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j-1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j+1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...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where </a:t>
            </a: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j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are complementary literals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E.g., 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1,3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2,2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2,2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1,3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Resolution is sound and complete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for propositional logic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1371600" indent="-228600">
              <a:lnSpc>
                <a:spcPct val="6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272880" indent="-272880" algn="ctr">
              <a:lnSpc>
                <a:spcPct val="60000"/>
              </a:lnSpc>
              <a:spcBef>
                <a:spcPts val="425"/>
              </a:spcBef>
              <a:buClr>
                <a:srgbClr val="8fb08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371600" indent="-228600">
              <a:lnSpc>
                <a:spcPct val="6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89" name="Picture 4" descr="wumpus-seq5c"/>
          <p:cNvPicPr/>
          <p:nvPr/>
        </p:nvPicPr>
        <p:blipFill>
          <a:blip r:embed="rId1"/>
          <a:stretch/>
        </p:blipFill>
        <p:spPr>
          <a:xfrm>
            <a:off x="5943600" y="4191120"/>
            <a:ext cx="1889280" cy="1895400"/>
          </a:xfrm>
          <a:prstGeom prst="rect">
            <a:avLst/>
          </a:prstGeom>
          <a:ln w="0">
            <a:noFill/>
          </a:ln>
        </p:spPr>
      </p:pic>
      <p:sp>
        <p:nvSpPr>
          <p:cNvPr id="690" name="Line 5"/>
          <p:cNvSpPr/>
          <p:nvPr/>
        </p:nvSpPr>
        <p:spPr>
          <a:xfrm>
            <a:off x="1295280" y="358128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6"/>
          <p:cNvSpPr/>
          <p:nvPr/>
        </p:nvSpPr>
        <p:spPr>
          <a:xfrm>
            <a:off x="144792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solu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undness of resolution inference rule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i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i+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j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j+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i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i+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j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j+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Line 4"/>
          <p:cNvSpPr/>
          <p:nvPr/>
        </p:nvSpPr>
        <p:spPr>
          <a:xfrm>
            <a:off x="457200" y="36576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version to CNF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1,1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(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1,2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2,1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el-GR" sz="1700" spc="-1" strike="noStrike">
                <a:solidFill>
                  <a:srgbClr val="000000"/>
                </a:solidFill>
                <a:latin typeface="Georgia"/>
                <a:ea typeface="Arial"/>
              </a:rPr>
              <a:t>β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Georg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Eliminate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, replacing α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β with (α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β)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(β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α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838080" indent="-380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B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(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2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2,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)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((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2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2,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B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4" marL="2133720" indent="-30492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2. Eliminate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, replacing α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β with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β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838080" indent="-380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B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2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2,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(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2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2,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B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4" marL="2133720" indent="-30492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3. Move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inwards using de Morgan's rules and double-negation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838080" indent="-380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B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1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2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2,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((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2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2,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B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4" marL="2133720" indent="-30492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4. Apply distributivity law (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over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) and flatten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838080" indent="-380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B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2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2,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(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2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B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(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2,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B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457200" indent="-457200">
              <a:lnSpc>
                <a:spcPct val="6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133720" indent="-304920">
              <a:lnSpc>
                <a:spcPct val="60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457200" indent="-457200">
              <a:lnSpc>
                <a:spcPct val="6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133720" indent="-304920">
              <a:lnSpc>
                <a:spcPct val="60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457200" indent="-457200">
              <a:lnSpc>
                <a:spcPct val="6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133720" indent="-304920">
              <a:lnSpc>
                <a:spcPct val="60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solution algorith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of by contradiction, i.e., show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α unsatisfiab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9" name="Picture 4" descr=""/>
          <p:cNvPicPr/>
          <p:nvPr/>
        </p:nvPicPr>
        <p:blipFill>
          <a:blip r:embed="rId1"/>
          <a:srcRect l="25782" t="28124" r="5467" b="32293"/>
          <a:stretch/>
        </p:blipFill>
        <p:spPr>
          <a:xfrm>
            <a:off x="609480" y="2286000"/>
            <a:ext cx="77724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solution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KB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= (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1,1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(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1,2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2,1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))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1,1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α =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1,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2" name="Picture 4" descr="wumpus-resolution"/>
          <p:cNvPicPr/>
          <p:nvPr/>
        </p:nvPicPr>
        <p:blipFill>
          <a:blip r:embed="rId1"/>
          <a:stretch/>
        </p:blipFill>
        <p:spPr>
          <a:xfrm>
            <a:off x="533520" y="2971800"/>
            <a:ext cx="8010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A simple knowledge-based agent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41907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The agent must be able to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Represent states, actions, etc.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Incorporate new percepts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Update internal representations of the world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Deduce hidden properties of the world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Deduce appropriate actions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TextBox 1"/>
          <p:cNvSpPr/>
          <p:nvPr/>
        </p:nvSpPr>
        <p:spPr>
          <a:xfrm>
            <a:off x="1309680" y="1981080"/>
            <a:ext cx="620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ell: Father of John is Bo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ell: Jane is John’s S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ell: John’s Father is the same as John’s sister’s fa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sk: Who is Jane’s fathe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2"/>
          <p:cNvSpPr/>
          <p:nvPr/>
        </p:nvSpPr>
        <p:spPr>
          <a:xfrm>
            <a:off x="5261040" y="38098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o we need 3rd Tel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ward and backward chai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Horn Form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restricted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KB = </a:t>
            </a:r>
            <a:r>
              <a:rPr b="0" lang="en-US" sz="1700" spc="-1" strike="noStrike">
                <a:solidFill>
                  <a:srgbClr val="ff0000"/>
                </a:solidFill>
                <a:latin typeface="Georgia"/>
              </a:rPr>
              <a:t>conjunction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of </a:t>
            </a:r>
            <a:r>
              <a:rPr b="0" lang="en-US" sz="1700" spc="-1" strike="noStrike">
                <a:solidFill>
                  <a:srgbClr val="ff0000"/>
                </a:solidFill>
                <a:latin typeface="Georgia"/>
              </a:rPr>
              <a:t>Horn clauses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Horn clause = 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74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roposition symbol;  or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74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(conjunction of symbols)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symbol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E.g., C </a:t>
            </a:r>
            <a:r>
              <a:rPr b="0" lang="en-US" sz="17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(B </a:t>
            </a:r>
            <a:r>
              <a:rPr b="0" lang="en-US" sz="1700" spc="-1" strike="noStrike">
                <a:solidFill>
                  <a:srgbClr val="646b86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A) </a:t>
            </a:r>
            <a:r>
              <a:rPr b="0" lang="en-US" sz="17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(C </a:t>
            </a:r>
            <a:r>
              <a:rPr b="0" lang="en-US" sz="17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D </a:t>
            </a:r>
            <a:r>
              <a:rPr b="0" lang="en-US" sz="1700" spc="-1" strike="noStrike">
                <a:solidFill>
                  <a:srgbClr val="646b86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B)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Modus Ponens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for Horn Form): complete for Horn KB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, … ,α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α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l-GR" sz="1900" spc="-1" strike="noStrike">
                <a:solidFill>
                  <a:srgbClr val="000000"/>
                </a:solidFill>
                <a:latin typeface="Georgia"/>
                <a:ea typeface="Arial"/>
              </a:rPr>
              <a:t>β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Georgia"/>
                <a:ea typeface="Arial"/>
              </a:rPr>
              <a:t>β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Can be used with 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forward chaining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backward chaining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hese algorithms are very natural and run in </a:t>
            </a:r>
            <a:r>
              <a:rPr b="0" lang="en-US" sz="1900" spc="-1" strike="noStrike">
                <a:solidFill>
                  <a:srgbClr val="ff0000"/>
                </a:solidFill>
                <a:latin typeface="Georgia"/>
              </a:rPr>
              <a:t>linear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tim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7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Line 4"/>
          <p:cNvSpPr/>
          <p:nvPr/>
        </p:nvSpPr>
        <p:spPr>
          <a:xfrm>
            <a:off x="1828800" y="388620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ward chai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dea: fire any rule whose premises are satisfied in the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add its conclusion to the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KB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, until query is found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708" name="Picture 4" descr=""/>
          <p:cNvPicPr/>
          <p:nvPr/>
        </p:nvPicPr>
        <p:blipFill>
          <a:blip r:embed="rId1"/>
          <a:srcRect l="51563" t="32293" r="4688" b="30211"/>
          <a:stretch/>
        </p:blipFill>
        <p:spPr>
          <a:xfrm>
            <a:off x="2057400" y="2895480"/>
            <a:ext cx="50292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ward chaining algorith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ward chaining is sound and complete for Horn KB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1" name="Picture 4" descr=""/>
          <p:cNvPicPr/>
          <p:nvPr/>
        </p:nvPicPr>
        <p:blipFill>
          <a:blip r:embed="rId1"/>
          <a:srcRect l="31253" t="30211" r="783" b="17709"/>
          <a:stretch/>
        </p:blipFill>
        <p:spPr>
          <a:xfrm>
            <a:off x="990720" y="15238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5" descr="fc-horn-example01c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5" descr="fc-horn-example02c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4" descr="fc-horn-example03c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4" descr="fc-horn-example04c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4" descr="fc-horn-example05c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4" descr="fc-horn-example06c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" descr="fc-horn-example07c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Knowledge Based Agen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onstruct sentences for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</a:t>
            </a:r>
            <a:r>
              <a:rPr b="0" lang="ru-RU" sz="2200" spc="-1" strike="noStrike">
                <a:solidFill>
                  <a:srgbClr val="646b86"/>
                </a:solidFill>
                <a:latin typeface="Georgia"/>
              </a:rPr>
              <a:t>ssertion about percep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46b86"/>
                </a:solidFill>
                <a:latin typeface="Georgia"/>
              </a:rPr>
              <a:t>Asking next ac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</a:t>
            </a:r>
            <a:r>
              <a:rPr b="0" lang="ru-RU" sz="2200" spc="-1" strike="noStrike">
                <a:solidFill>
                  <a:srgbClr val="646b86"/>
                </a:solidFill>
                <a:latin typeface="Georgia"/>
              </a:rPr>
              <a:t>ssertion of the ac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4" descr="fc-horn-example08c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of of completen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C derives every atomic sentence that is entailed by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C reaches a </a:t>
            </a: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fixed point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where no new atomic sentences are derived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onsider the final state as a model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m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, assigning true/false to symbol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Every clause in the original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KB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is true in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m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1371600" indent="-4572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k 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Hence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m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is a model of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KB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If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KB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╞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q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,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q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is true in 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every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model of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KB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, including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m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1371600" indent="-457200">
              <a:lnSpc>
                <a:spcPct val="7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ward chai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dea: work backwards from the query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o prove </a:t>
            </a:r>
            <a:r>
              <a:rPr b="0" i="1" lang="en-US" sz="2000" spc="-1" strike="noStrike">
                <a:solidFill>
                  <a:srgbClr val="646b86"/>
                </a:solidFill>
                <a:latin typeface="Georgia"/>
              </a:rPr>
              <a:t>q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by BC,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1371600" indent="-4572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check if 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q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is known already, or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prove by BC all premises of some rule concluding 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q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void loops: check if new subgoal is already on the goal stac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void repeated work: check if new subgoa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has already been proved true, o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has already failed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609480" indent="-60948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371600" indent="-457200">
              <a:lnSpc>
                <a:spcPct val="7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3" name="Picture 5" descr="bc-horn-example01c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5" name="Picture 5" descr="bc-horn-example02c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7" name="Picture 4" descr="bc-horn-example03c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9" name="Picture 4" descr="bc-horn-example04c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1" name="Picture 4" descr="bc-horn-example05c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3" name="Picture 4" descr="bc-horn-example06c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5" name="Picture 4" descr="bc-horn-example07c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umpus World PEAS descrip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b400"/>
                </a:solidFill>
                <a:latin typeface="Georgia"/>
              </a:rPr>
              <a:t>Performance measure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gold +1000, death -1000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-1 per step, -10 for using the arrow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80000"/>
              </a:lnSpc>
              <a:spcBef>
                <a:spcPts val="224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b400"/>
                </a:solidFill>
                <a:latin typeface="Georgia"/>
              </a:rPr>
              <a:t>Environment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Squares adjacent to wumpus are smelly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Squares adjacent to pit are breezy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Glitter iff gold is in the same square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Shooting kills wumpus if you are facing it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Shooting uses up the only arrow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Grabbing picks up gold if in same square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Releasing drops the gold in same square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80000"/>
              </a:lnSpc>
              <a:spcBef>
                <a:spcPts val="224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b400"/>
                </a:solidFill>
                <a:latin typeface="Georgia"/>
              </a:rPr>
              <a:t>Sensors: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 Stench, Breeze, Glitter, Bump, Scream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b400"/>
                </a:solidFill>
                <a:latin typeface="Georgia"/>
              </a:rPr>
              <a:t>Actuators: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 Left turn, Right turn, Forward, Grab, Release, Shoot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5" descr="wumpus-world"/>
          <p:cNvPicPr/>
          <p:nvPr/>
        </p:nvPicPr>
        <p:blipFill>
          <a:blip r:embed="rId1"/>
          <a:stretch/>
        </p:blipFill>
        <p:spPr>
          <a:xfrm>
            <a:off x="5715000" y="2057400"/>
            <a:ext cx="27716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7" name="Picture 4" descr="bc-horn-example08c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9" name="Picture 4" descr="bc-horn-example09c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ward chai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51" name="Picture 4" descr="bc-horn-example10c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ward vs. backward chai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C is </a:t>
            </a:r>
            <a:r>
              <a:rPr b="0" lang="en-US" sz="2400" spc="-1" strike="noStrike">
                <a:solidFill>
                  <a:srgbClr val="ccb400"/>
                </a:solidFill>
                <a:latin typeface="Georgia"/>
              </a:rPr>
              <a:t>data-drive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automatic, unconscious processing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e.g., object recognition, routine decision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400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y do lots of work that is irrelevant to the goal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400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C is </a:t>
            </a:r>
            <a:r>
              <a:rPr b="0" lang="en-US" sz="2400" spc="-1" strike="noStrike">
                <a:solidFill>
                  <a:srgbClr val="ccb400"/>
                </a:solidFill>
                <a:latin typeface="Georgia"/>
              </a:rPr>
              <a:t>goal-drive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appropriate for problem-solving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e.g., Where are my keys? How do I get into a PhD program?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plexity of BC can be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much les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an linear in size of KB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371600" indent="-22860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499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fficient propositional infere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o families of efficient algorithms for propositional inferenc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plete backtracking search algorith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PLL algorithm (Davis, Putnam, Logemann, Loveland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omplete local search algorith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Courier New"/>
              </a:rPr>
              <a:t>WalkSAT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algorithm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DPLL algorith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etermine if an input propositional logic sentence (in CNF) is satisfiable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4" marL="2095560" indent="-26676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mprovements over truth table enumeration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800280" indent="-343080">
              <a:lnSpc>
                <a:spcPct val="7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Early termination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2" marL="1219320" indent="-304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A clause is true if any literal is true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1219320" indent="-304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A sentence is false if any clause is false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4" marL="2095560" indent="-26676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lvl="1" marL="800280" indent="-343080">
              <a:lnSpc>
                <a:spcPct val="7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Pure symbol heuristic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2" marL="1219320" indent="-304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ure symbol: always appears with the same "sign" in all clauses.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1219320" indent="-304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e.g., In the three clauses (A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B), (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B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C), (C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A), A and B are pure, C is impure.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1219320" indent="-304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Make a pure symbol literal true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4" marL="2095560" indent="-26676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lvl="1" marL="800280" indent="-343080">
              <a:lnSpc>
                <a:spcPct val="7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Georgia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Unit clause heuristic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2" marL="1219320" indent="-304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Unit clause: only one literal in the clause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1219320" indent="-304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The only literal in a unit clause must be true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1219320" indent="-304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19320" indent="-304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19320" indent="-304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095560" indent="-266760">
              <a:lnSpc>
                <a:spcPct val="7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DPLL algorith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rcRect l="27343" t="22917" r="3127" b="17709"/>
          <a:stretch/>
        </p:blipFill>
        <p:spPr>
          <a:xfrm>
            <a:off x="762120" y="1371600"/>
            <a:ext cx="76197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</a:t>
            </a:r>
            <a:r>
              <a:rPr b="0" lang="en-US" sz="3300" spc="-1" strike="noStrike">
                <a:solidFill>
                  <a:srgbClr val="7b9899"/>
                </a:solidFill>
                <a:latin typeface="Courier New"/>
              </a:rPr>
              <a:t>WalkSAT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algorith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omplete, local search algorith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aluation function: The min-conflict heuristic of minimizing the number of unsatisfied claus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lance between greediness and randomn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</a:t>
            </a:r>
            <a:r>
              <a:rPr b="0" lang="en-US" sz="3300" spc="-1" strike="noStrike">
                <a:solidFill>
                  <a:srgbClr val="7b9899"/>
                </a:solidFill>
                <a:latin typeface="Courier New"/>
              </a:rPr>
              <a:t>WalkSAT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algorith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63" name="Picture 4" descr=""/>
          <p:cNvPicPr/>
          <p:nvPr/>
        </p:nvPicPr>
        <p:blipFill>
          <a:blip r:embed="rId1"/>
          <a:srcRect l="27343" t="22917" r="3127" b="31250"/>
          <a:stretch/>
        </p:blipFill>
        <p:spPr>
          <a:xfrm>
            <a:off x="762120" y="1523880"/>
            <a:ext cx="754380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ard satisfiability proble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sider random 3-CNF sentences. e.g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C)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(B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)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E)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(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B)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(B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451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m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= number of clause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n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= number of symbo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451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ard problems seem to cluster near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m/n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= 4.3 (critical point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umpus world characteriz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Georgia"/>
              </a:rPr>
              <a:t>Full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Georgia"/>
              </a:rPr>
              <a:t>Observabl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No – only </a:t>
            </a:r>
            <a:r>
              <a:rPr b="0" lang="en-US" sz="2400" spc="-1" strike="noStrike">
                <a:solidFill>
                  <a:srgbClr val="ccb400"/>
                </a:solidFill>
                <a:latin typeface="Georgia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percep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Georgia"/>
              </a:rPr>
              <a:t>Deterministi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Yes – outcomes exactly specifi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Georgia"/>
              </a:rPr>
              <a:t>Episodi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No – sequential at the level of ac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Georgi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Yes – Wumpus and Pits do not mov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Georgia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Y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Georgia"/>
              </a:rPr>
              <a:t>Single-agent?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Yes – Wumpus is essentially a natural feat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ard satisfiability proble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67" name="Picture 4" descr="random-3sat-satisfiability"/>
          <p:cNvPicPr/>
          <p:nvPr/>
        </p:nvPicPr>
        <p:blipFill>
          <a:blip r:embed="rId1"/>
          <a:stretch/>
        </p:blipFill>
        <p:spPr>
          <a:xfrm>
            <a:off x="1219320" y="1600200"/>
            <a:ext cx="66294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ard satisfiability proble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edian runtime for 100 </a:t>
            </a: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satisfiabl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random 3-CNF sentences,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= 5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70" name="Picture 5" descr="random-3sat-performance"/>
          <p:cNvPicPr/>
          <p:nvPr/>
        </p:nvPicPr>
        <p:blipFill>
          <a:blip r:embed="rId1"/>
          <a:stretch/>
        </p:blipFill>
        <p:spPr>
          <a:xfrm>
            <a:off x="1676520" y="1219320"/>
            <a:ext cx="54864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ference-based agents in the wumpus wor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 wumpus-world agent using propositional logic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W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B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x,y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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(P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x,y+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P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x,y-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P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x+1,y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P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x-1,y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) 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S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x,y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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(W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x,y+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W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x,y-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W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x+1,y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W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x-1,y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W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W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1,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…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W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4,4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W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W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1,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W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W</a:t>
            </a:r>
            <a:r>
              <a:rPr b="0" lang="en-US" sz="1900" spc="-1" strike="noStrike" baseline="-25000">
                <a:solidFill>
                  <a:srgbClr val="646b86"/>
                </a:solidFill>
                <a:latin typeface="Georgia"/>
              </a:rPr>
              <a:t>1,3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…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64 distinct proposition symbols, 155 sentenc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4756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4" descr=""/>
          <p:cNvPicPr/>
          <p:nvPr/>
        </p:nvPicPr>
        <p:blipFill>
          <a:blip r:embed="rId1"/>
          <a:srcRect l="27343" t="14584" r="4688" b="20835"/>
          <a:stretch/>
        </p:blipFill>
        <p:spPr>
          <a:xfrm>
            <a:off x="457200" y="304920"/>
            <a:ext cx="822960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Expressiveness limitation of propositional logic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B contains "physics" sentences for every single squa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every time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nd every location [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]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FacingRigh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Forwar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x+1,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apid proliferation of claus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Text Box 4"/>
          <p:cNvSpPr/>
          <p:nvPr/>
        </p:nvSpPr>
        <p:spPr>
          <a:xfrm>
            <a:off x="5107320" y="327672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611280" y="327672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ummar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ogical agents apply </a:t>
            </a: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inferenc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to a </a:t>
            </a: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knowledge bas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to derive new information and make decis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asic concepts of logic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b400"/>
                </a:solidFill>
                <a:latin typeface="Georgia"/>
              </a:rPr>
              <a:t>syntax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: formal structure of </a:t>
            </a:r>
            <a:r>
              <a:rPr b="0" lang="en-US" sz="1800" spc="-1" strike="noStrike">
                <a:solidFill>
                  <a:srgbClr val="ccb400"/>
                </a:solidFill>
                <a:latin typeface="Georgia"/>
              </a:rPr>
              <a:t>sentences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b400"/>
                </a:solidFill>
                <a:latin typeface="Georgia"/>
              </a:rPr>
              <a:t>semantics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: </a:t>
            </a:r>
            <a:r>
              <a:rPr b="0" lang="en-US" sz="1800" spc="-1" strike="noStrike">
                <a:solidFill>
                  <a:srgbClr val="ccb400"/>
                </a:solidFill>
                <a:latin typeface="Georgia"/>
              </a:rPr>
              <a:t>truth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 of sentences wrt </a:t>
            </a:r>
            <a:r>
              <a:rPr b="0" lang="en-US" sz="1800" spc="-1" strike="noStrike">
                <a:solidFill>
                  <a:srgbClr val="ccb400"/>
                </a:solidFill>
                <a:latin typeface="Georgia"/>
              </a:rPr>
              <a:t>models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b400"/>
                </a:solidFill>
                <a:latin typeface="Georgia"/>
              </a:rPr>
              <a:t>entailment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: necessary truth of one sentence given another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b400"/>
                </a:solidFill>
                <a:latin typeface="Georgia"/>
              </a:rPr>
              <a:t>inference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: deriving sentences from other sentences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b400"/>
                </a:solidFill>
                <a:latin typeface="Georgia"/>
              </a:rPr>
              <a:t>soundness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: derivations produce only entailed sentences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b400"/>
                </a:solidFill>
                <a:latin typeface="Georgia"/>
              </a:rPr>
              <a:t>completeness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: derivations can produce all entailed sentences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umpus world requires the ability to represent partial and negated information, reason by cases, etc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solution is complete for propositional log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rward, backward chaining are linear-time, complete for Horn claus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positional logic lacks expressive pow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ploring a wumpus wor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Picture 4" descr="wumpus-seq0c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ploring a wumpus wor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7" name="Picture 4" descr="wumpus-seq1c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7:08:22Z</dcterms:created>
  <dc:creator>Min-Yen Kan</dc:creator>
  <dc:description/>
  <dc:language>en-US</dc:language>
  <cp:lastModifiedBy>Sadi SEKER</cp:lastModifiedBy>
  <dcterms:modified xsi:type="dcterms:W3CDTF">2017-03-22T16:38:09Z</dcterms:modified>
  <cp:revision>11</cp:revision>
  <dc:subject/>
  <dc:title>Logical Agents</dc:title>
</cp:coreProperties>
</file>