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A72-3B23-4512-9DED-6F784150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136-66BE-447A-BCFA-3FF1C75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F1AEA-A5EA-4697-BA2A-8CFCAAA5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A0405-055D-4E23-BEA1-CF495A3B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29F17-64CE-43B7-AA3C-567E561A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ED58B-0C96-4805-84F6-50AF853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32EDE-2D6F-4E26-8028-E209E385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77470-0824-418F-A92D-4B0874D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00D49-59CD-4F27-B480-C645B2D4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B8542-5ABB-447E-AECC-D490B1F5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6D9A6-ED96-4241-897F-FE1A9BFD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2858C-D4A7-4201-9B41-C30C81AF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3B4-FFA1-4130-B200-438862C8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EDD14-D77C-4D2F-BD15-977E062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09E3A-B9FF-4471-9C5E-A4593154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B8E10-B01F-4887-941D-6649DD94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E1942-1425-4EDB-A59E-E40C23D4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77A3E-9F2C-4C25-9725-4BE87FF1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256B0-8C4B-43C4-95D0-AE3B9AD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9A732-8E89-49EC-9E8A-7AC71A9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631D5-3EA0-4F7C-9C02-4F896D46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EBC0E-BD14-4B42-9B62-7F6A214C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87128-B3D5-43DB-AC86-CF7835DB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B0B-23E9-43C1-8AA6-7C18A503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BACB7-4BC9-449D-A2CB-9C9669EF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A1E6B-79DA-40FE-8B6B-E5D943E3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BDCB4-1877-445D-8C42-2C42FAD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837C5-736E-4EA9-8E73-E420F8D3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1E75E-1981-4AFD-845C-B049E7D3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CC29C-39E6-4D37-AF3E-FCC489D9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CBE59-26F2-4B6F-A444-E42D8D05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922D-10F3-4620-9322-B71F64D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9874A-BBF0-4F3C-92C5-0B5D267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0B443-1927-4488-91C2-3F34811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08AD-EC1D-48ED-A4DE-33976443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DF4C7-708C-48B1-9D1C-0787704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2848F-983B-4F73-8ACD-EB89C8CE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D6F1-1643-4D24-A710-59A9CE0F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2B649-A153-4BA0-A22A-693B949C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EC957-8FCB-4DED-8605-B5023BA2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2BF7A-5AB4-4E21-9D59-D0F1C43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BEC41-4C3C-46B8-AFE6-7D44E0CE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2F19C-E113-4F25-BE24-C874047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87583-A086-4F72-992A-FB82A13D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1690F-E49B-4045-84A9-12010FA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ACD9-E1D6-4495-B155-0FC77164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CDA5A-AC41-4321-8CF9-F798F7E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8B532-159A-4065-A579-A6110D7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8C78C-6369-4088-848D-3440EA4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FEF0FD-7FCC-4903-AA77-53878C97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CBF8C-A5AF-4F61-BDA5-9E8F985B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F66D-3BFD-47BF-9935-B625E77F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BB9F-E42C-4528-B953-BDF8DF7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22A2-9B7E-4ADC-B8FF-6C80FB59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F1FA-1DEB-48F4-AF0F-89DA6D4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C11E-9BC0-4918-9EB7-5B2EF54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996-F3A7-44A9-83B4-4EE16CCB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6D3A-B7CD-4B2E-94F4-C89D695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8DD6-2D19-4FE8-B19D-975CBC3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935D-5640-4EF1-96A0-A959F6DB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0C72-7BD1-4908-87C4-362F34A7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7708-E2FC-4D59-9D01-CC1A3F06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8B46-A326-4AF1-B55A-1288A4D8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1B0D-54BA-4691-B289-746C9098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D440-AEDD-45ED-ABA5-D4E536DB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0B49-2046-4896-AADB-4B0218D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56AB-1C77-48B5-9F17-9D17725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05F-1739-471D-AD24-FF092CBD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B5DE-B444-45CB-A54F-981B2F71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82C3-A114-4365-AF36-1C2A2470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DE8B-7DC5-438D-A317-4FEE2637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BEFE-CE90-4259-9398-0900628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2772-BA9F-4BE2-8863-606B634C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C2B1-0E41-47E7-B8A9-4AD5E43A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8243-8B55-4D38-8B0D-785DB136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0862-E2FD-49E0-9A35-7D87EDF9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4C0E-1D55-4A4A-A395-0B76E0EE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4125-361B-4E6A-9BA1-C79D7E3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95C-7E3B-44AF-9E2E-61406603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4B05-D88E-444F-A8A8-0F4327DF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9200-3243-4DEE-A5C9-D1787E4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6E51-D2BD-4194-96AA-C14D54E7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E161-5AA6-43D0-B5AF-136B5B6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C858-C350-4AC8-BC78-3F14605C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F837-36CF-4CC1-A1EE-3DBCED1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3560-69EC-4100-BC4F-72FFC91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631A2-E870-4A57-A3A6-434D774C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434D-DF09-41BA-8B60-31437201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18ED-EC05-43C7-88CB-1DEC4EB2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C4E-243B-467E-B2B7-A0F9EFB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AA5EF-3FDD-4460-BDFE-1303A2BD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AB67-8CDF-4A6A-81E6-A318D3B3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1090-EB60-464E-B97B-24ECA98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D465E-BD70-4FFE-9B3C-581FA2E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C251-B0C5-49EB-B578-8C357E34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0CA7-813B-478E-BB60-D972F3E3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3C87-0EE6-485A-8139-1833D06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CD1A6-A7DC-4234-A310-6867F315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5394E-C641-4DE3-B67D-55BAE26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C00B3-F71F-4ED6-AAA9-F2F7969B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FE8-30B9-4892-A4D8-993B4C96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5DD58-5FED-4BEE-88BC-811B5CD6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894E-54CB-4C59-BA24-8AFF4238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F3B1-6884-4198-B5E2-66E63A77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2E51-844E-4E6D-A0E4-FD8E32D3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33AEA-05F8-4454-8017-BF122C6B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BCEB-8A08-4DD3-B8B9-B048A275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36A7C-A607-41D8-8BBC-42C8BD18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EB84A-E69C-46F0-80CB-120B5318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DA0D8-6D2F-4ED6-977E-7FABA2C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F061-79D9-4304-AA81-2DD9ACCA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AA3-6AFA-4085-B660-5D76277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21E34-D74F-4444-8730-0090E4D7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57CD-7509-4280-A988-C4C896DA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BC3F-DB32-4132-85C6-5307EC2C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92612-CD98-4FC0-BB93-43D9FBEC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E0A9-5E04-4245-88CC-B7C7F8B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B71D6-ED6D-4DF2-849B-A31A9C61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7D689-4325-4F4A-9F0F-AE8390AF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C51A-E064-4EE3-8739-67B5C9CC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A2D1-F4B8-4D0E-A0D9-60858E7F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D1D75-E0E1-461E-A562-286B1B4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9DB-F9DC-4188-9A0F-7D3945F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C575-2B0E-46D7-8A2B-8FBD663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02B6-7B65-4B1B-AF1B-A6D52B3D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77BD-14D4-40DA-B965-40749DB7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8EA3D-0185-4DE2-ABB8-BDCD371D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4BE9-2D78-4F6E-B4E0-965124EE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D42B-8E45-4A38-9444-180C8E19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36F99-629A-4511-ADC0-E5FF3AF2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8DCE8-5452-4346-8FDC-07DA13D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B1063-4431-4048-BEA5-18AD5C8C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04891-11FA-4149-8260-A8834DA2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4D1-EC0A-4258-856B-CB77AB8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0FED5-5832-4887-9984-D2631B9B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39A14-D360-4255-92BE-20E961A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CA5D-06D2-487A-8C03-DFDF404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21095-D236-42E4-A617-1E951F7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8868-8535-4182-8C82-8AE1DC4E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075BB-D2AD-4D83-88B0-45BAD73A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08823-E58C-4875-9C19-9571D436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C74FE-CE5C-4E38-AD9D-FC48305A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BE77B-A2A6-481D-BB91-ED7E8E83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74086-498F-4600-BB16-DC98A9C1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1733-2B14-49C6-8F53-08C5B52D6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6BF9-D1C1-43B7-A68B-757D4E2B9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AF95-98DC-4724-8D1F-BA41CDC32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BDF3-C49D-49CB-BD96-B8ECC44AB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B828-69FC-4EEA-9F70-E8D56AB99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C573-485B-47D3-ADE2-E4230CBEC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A84-3A1D-4842-98CB-58F517F0C5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C445-A937-4E2F-BC05-4F2E3D291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0250-2146-4D93-9351-734A4D59A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D6A5-2FE3-4D33-8FF8-67FB6B610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65A2-C31F-4DDF-96DB-6F7143BCD6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97E7-55DD-4BEA-8769-90B3506CD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ection 1 –  4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Adversarial Searc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α-β pru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4" descr="alpha-beta-progress3c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α-β pru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4" descr="alpha-beta-progress4c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α-β pru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Picture 4" descr="alpha-beta-progress5c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perties of α-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ffect final resul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move ordering improves effectiveness of prun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 "perfect ordering," time complexity =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m/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doubles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depth of search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400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imple example of the value of reasoning about which computations are relevant (a form of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metareason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it called α-β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α is the value of the best (i.e., highest-value) choice found so far at any choice point along the path for </a:t>
            </a:r>
            <a:r>
              <a:rPr b="0" i="1" lang="en-US" sz="2300" spc="-1" strike="noStrike">
                <a:solidFill>
                  <a:srgbClr val="000000"/>
                </a:solidFill>
                <a:latin typeface="Georgia"/>
              </a:rPr>
              <a:t>max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f </a:t>
            </a:r>
            <a:r>
              <a:rPr b="0" i="1" lang="en-US" sz="23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is worse than α, </a:t>
            </a:r>
            <a:r>
              <a:rPr b="0" i="1" lang="en-US" sz="2300" spc="-1" strike="noStrike">
                <a:solidFill>
                  <a:srgbClr val="000000"/>
                </a:solidFill>
                <a:latin typeface="Georgia"/>
              </a:rPr>
              <a:t>max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will avoid i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rune that branch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Define β similarly for </a:t>
            </a:r>
            <a:r>
              <a:rPr b="0" i="1" lang="en-US" sz="2300" spc="-1" strike="noStrike">
                <a:solidFill>
                  <a:srgbClr val="000000"/>
                </a:solidFill>
                <a:latin typeface="Georgia"/>
              </a:rPr>
              <a:t>mi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54756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4" descr="alpha-beta-general"/>
          <p:cNvPicPr/>
          <p:nvPr/>
        </p:nvPicPr>
        <p:blipFill>
          <a:blip r:embed="rId1"/>
          <a:stretch/>
        </p:blipFill>
        <p:spPr>
          <a:xfrm>
            <a:off x="4648320" y="1600200"/>
            <a:ext cx="406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α-β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Picture 5" descr=""/>
          <p:cNvPicPr/>
          <p:nvPr/>
        </p:nvPicPr>
        <p:blipFill>
          <a:blip r:embed="rId1"/>
          <a:srcRect l="16405" t="25004" r="15626" b="15627"/>
          <a:stretch/>
        </p:blipFill>
        <p:spPr>
          <a:xfrm>
            <a:off x="685800" y="1295280"/>
            <a:ext cx="76201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α-β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rcRect l="15626" t="25004" r="15626" b="33337"/>
          <a:stretch/>
        </p:blipFill>
        <p:spPr>
          <a:xfrm>
            <a:off x="685800" y="1523880"/>
            <a:ext cx="7772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ource limi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ppose we have 100 secs, explore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nodes/se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10</a:t>
            </a:r>
            <a:r>
              <a:rPr b="0" lang="en-US" sz="2600" spc="-1" strike="noStrike" baseline="30000">
                <a:solidFill>
                  <a:srgbClr val="ccb400"/>
                </a:solidFill>
                <a:latin typeface="Georgia"/>
              </a:rPr>
              <a:t>6</a:t>
            </a:r>
            <a:r>
              <a:rPr b="0" lang="en-US" sz="2600" spc="-1" strike="noStrike">
                <a:solidFill>
                  <a:srgbClr val="ccb4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des per mov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ndard approach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cutoff test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, depth limit (perhaps add </a:t>
            </a: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quiescence search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evaluation function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= estimated desirability of posi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 func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hess, typically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eighted sum of </a:t>
            </a: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Eval(s)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s)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s) + …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.g.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9 with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s) = (number of white queens) –  (number of black queens), et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utting off sear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inimaxCutoff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is identical to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inimaxValu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excep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Terminal?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is replaced by 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Cutoff?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Utility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is replaced by 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Eval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oes it work in practice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 b=35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=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4-ply lookahead is a hopeless chess player!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4-ply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  <a:ea typeface="Arial"/>
              </a:rPr>
              <a:t>≈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human novice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8-ply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  <a:ea typeface="Arial"/>
              </a:rPr>
              <a:t>≈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typical PC, human master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12-ply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  <a:ea typeface="Arial"/>
              </a:rPr>
              <a:t>≈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 Deep Blue, Kasparov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90720" indent="-533520">
              <a:lnSpc>
                <a:spcPct val="6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ut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ptimal decis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α-β pru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erfect, real-time decis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terministic games in practi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heckers: Chinook ended 40-year-reign of human world champion Marion Tinsley in 1994. Used a precomputed endgame database defining perfect play for all positions involving 8 or fewer pieces on the board, a total of 444 billion positions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26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hess: Deep Blue defeated human world champion Garry Kasparov in a six-game match in 1997. Deep Blue searches 200 million positions per second, uses very sophisticated evaluation, and undisclosed methods for extending some lines of search up to 40 ply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26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Othello: human champions refuse to compete against computers, who are too good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326"/>
              </a:spcBef>
              <a:buClr>
                <a:srgbClr val="8fb08c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Go: human champions refuse to compete against computers, who are too bad. In go, 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b &gt; 300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so most programs use pattern knowledge bases to suggest plausible moves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70000"/>
              </a:lnSpc>
              <a:spcBef>
                <a:spcPts val="476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mmar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ames are fun to work o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illustrate several important points about A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fection is unattainabl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ust approxim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od idea to think about what to think abo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ames vs. search probl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"Unpredictable" opponent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pecifying a move for every possible opponent rep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limit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unlikely to find goal, must approxim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ame tree (2-player, deterministic, turns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4" descr="tictactoe"/>
          <p:cNvPicPr/>
          <p:nvPr/>
        </p:nvPicPr>
        <p:blipFill>
          <a:blip r:embed="rId1"/>
          <a:stretch/>
        </p:blipFill>
        <p:spPr>
          <a:xfrm>
            <a:off x="1523880" y="1752480"/>
            <a:ext cx="60483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nimax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fect play for deterministic gam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a: choose move to position with highest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minimax valu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best achievable payoff against best pl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.g., 2-ply gam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minimax"/>
          <p:cNvPicPr/>
          <p:nvPr/>
        </p:nvPicPr>
        <p:blipFill>
          <a:blip r:embed="rId1"/>
          <a:stretch/>
        </p:blipFill>
        <p:spPr>
          <a:xfrm>
            <a:off x="1143000" y="3276720"/>
            <a:ext cx="670572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nimax algorith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1"/>
          <a:srcRect l="15626" t="25004" r="15626" b="11458"/>
          <a:stretch/>
        </p:blipFill>
        <p:spPr>
          <a:xfrm>
            <a:off x="914400" y="1371600"/>
            <a:ext cx="71629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perties of minimax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99"/>
                </a:solidFill>
                <a:uFillTx/>
                <a:latin typeface="Georgia"/>
              </a:rPr>
              <a:t>Complete?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Yes (if tree is finite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99"/>
                </a:solidFill>
                <a:uFillTx/>
                <a:latin typeface="Georgia"/>
              </a:rPr>
              <a:t>Optimal?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Yes (against an optimal opponent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99"/>
                </a:solidFill>
                <a:uFillTx/>
                <a:latin typeface="Georgia"/>
              </a:rPr>
              <a:t>Time complexity?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O(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99"/>
                </a:solidFill>
                <a:uFillTx/>
                <a:latin typeface="Georgia"/>
              </a:rPr>
              <a:t>Space complexity?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O(bm) (depth-first exploration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 chess, b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"/>
              </a:rPr>
              <a:t>≈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35, m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Arial"/>
              </a:rPr>
              <a:t>≈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00 for "reasonable" ga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exact solution completely infeasib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α-β pru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5" descr="alpha-beta-progress1c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α-β pruning examp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4" descr="alpha-beta-progress2c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6:37:42Z</dcterms:created>
  <dc:creator>Min-Yen Kan</dc:creator>
  <dc:description/>
  <dc:language>en-US</dc:language>
  <cp:lastModifiedBy>Sadi SEKER</cp:lastModifiedBy>
  <dcterms:modified xsi:type="dcterms:W3CDTF">2017-02-23T18:14:30Z</dcterms:modified>
  <cp:revision>8</cp:revision>
  <dc:subject/>
  <dc:title>Adversarial Search</dc:title>
</cp:coreProperties>
</file>