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3BD5-2AF0-43C7-BC9E-6B2E8A3D9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8937-C644-4BE5-8184-55C62E987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D72E7A-207B-4276-9FB9-6F1CFBEA9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993DFA-608D-4B38-B688-B95BD5E8B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1CA20D-4C7E-44AC-8018-331376096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B0107A-B56D-458B-AEB3-DA2845980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B1E8DE-DEE2-4FFA-A654-5339B39C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27451D-1B49-4E37-BC8F-A1A20087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D417FD-2017-4DA7-8144-555450B82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F43899-03F3-4752-96F6-E82EAED01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336790-9F50-4709-9909-5104ABA1A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654C5B-05E4-4304-8EB5-BCCA7C032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6F24-B23E-43A9-92A7-8A764C8F8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A6EB5C-51F8-4DA5-A490-D95AC5A6E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E52E17-0DA3-4319-AD2A-94742779E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72A9C3-37A5-43A8-98C9-7B0CA6BC0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6CAD98-A530-4DC4-9EF1-6E920751E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6E68BE-1FC9-4DE2-AEDD-C07B507BB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54526D-10C8-4CB0-8241-0EED156A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89EAAD-1DA9-40EF-914A-6CEAEA82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C6602D-3E5A-4C91-A03F-2AF116048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06FE07-B50E-425C-BA8D-A46A15A99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A00F1C-269D-41AA-B378-9F4D00CCF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980D-D797-4FA0-A9EE-B3CFFFE53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27E4AB-DC31-4371-9A57-205F0F430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1307A5-3A62-41FD-8574-21691B2BC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E8D3B7-D249-4CAC-BF2B-1CF56B0B6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433AC0-E00C-4F04-94A4-66CF12A5A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13C2C9-C41D-47E3-8F9F-A7BBE138B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9D73CC-123E-437F-98CB-ABAAC0C03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71B591-45BD-434B-AA73-4456F4C36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8C45BF-A734-46CD-888E-444860E9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BDEF6E-5DEA-47CD-964E-7DB9A5EF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02414B-3AC5-4E42-85E8-41BB189C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C008F-CE50-4B23-A2EF-7FD388251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5BC103-90FA-47DA-BE3D-4EEBC2C42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F93237-A17D-4FE7-8652-256238818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0FC651-AE29-41A5-8084-C13EDF4FE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ADCE18-FA74-4830-8CA4-10C1C27D3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68FDCA-2DAC-4D47-BEAB-C99C30D4F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BA6CFA-FE73-48CB-8E29-7AE4FCEBB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53C0DF-7483-4585-BC57-965A62456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DC905E-13C7-4207-BE44-FC24E6DCE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3F54AB-14FA-41AE-B2BD-E0435533D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EDE9A8-F707-4AA7-8586-A2800617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7D838-AEDD-4686-AC85-E856EA18B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CEB3F6-D4A2-44FD-B0F3-56EB73B05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DCA4CE-9938-4495-A775-BA65D5424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17D271-6065-48AA-94ED-4347D269F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DE762A-A6F6-43C6-B96E-DE286782D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9A9F57-5682-4562-A39C-2E40A03D0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BD09F-4D48-48E8-9144-6E6BE1F76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D5A35-A48B-4D1A-8C27-F3F3CFDFC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B0DBE-A023-4B1A-A5B7-CDC4A8E75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BB782-BE3C-416F-A5A1-2F7927A75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DF9D4-C369-448C-A879-1BB20CF4A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BBA7-D39D-40B1-94EB-AABAFCC14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213E6-6D1C-440E-94B9-11E06D09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2AF78-1112-4B79-A716-6397F596B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AEEEB-DDA0-43B5-BB23-D71B43EA4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68E80-E7F4-476C-B61F-91DB6A59E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B0F00-1B80-4389-8ABC-374B8DFCC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968C3-FEDF-48AC-87FC-8A5B4533B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29D83-4144-4DC6-971B-7E4D5AB1C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08937-34E9-4B06-9324-EE982DBA2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10DE2-BD94-484F-9B24-27132F1B4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11117-2DA7-4B67-AB81-C689913C2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E946-9F1F-4D7B-A373-956C80264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8DE06-903A-45ED-A1AB-7D12EDAF6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003BD-BED6-4FD7-9986-7FB533686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63868-A8E3-492C-B40D-0A38306C9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7D235-C676-430F-8C59-3406C2C4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1F139-BB3F-4D6E-B7BF-A6D202A17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0438C-3A1A-479D-8F33-689877BE3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00C0A-263F-419D-A2D8-132EFF147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8D505-E744-46CE-A4C9-903889EEB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042F1-95D8-4142-AD86-114C85262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548EC-9761-4F24-BFDD-681F6FC00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C7D5-8330-47F6-B9D6-A2E3ABFCE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E82BC-100B-4935-A6E7-25B9D23C2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37694-4E09-43A7-A5FC-00E1EDCA5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E875E-18E7-46D2-899C-6632C4333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1AB3A-F211-40B0-9A0F-91B9C01FC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21839-4FA4-48FB-8BB1-32F3A25B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B1809-2D48-4D74-8BB9-18DA0D48B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49F82-3BB5-4963-9C54-B94155D88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FEFF4-B509-431B-BD85-188DA4B6C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64BD6-EDA4-4B91-A0FF-41F899FDD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B77A5-B71E-4844-AE38-AD9C786AC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2B19-BD93-4277-8A06-63B8541E2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A48167-36A7-4B83-A494-131D82CBC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B8788-C383-49AE-8CF9-FBBDB49E0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EB573-F049-49F2-9F32-9C32ED164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01EED-7BB6-49A7-819C-872CED9AD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0E7BD-EF11-43BB-A71A-80B90E2DA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B4E1F6-E565-40C6-84A0-DE2ED79C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FAB1C-4F7D-4B8D-A962-91BE96D2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68E50-C386-4271-82CB-967F656DD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4052CC-915F-4453-A237-C739FECA9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07CE4-BC2E-4AF7-893F-CA4F10C59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27AE-7444-49EA-A3AD-38EDD8503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E805AB-4571-4441-B489-64DB3F209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918F65-6E7A-470A-917A-F464A4099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237E04-BEDE-4154-890E-6B7240C5F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2B69AC-446D-43D1-BFE5-67B6D032F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33D3D6-1C51-4A32-99F6-27EDF9B81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BAA71C-E57F-425E-8F86-08C0ADBB7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087E0A-E7CC-4801-AABD-1557421AA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727182-83CB-436A-BBF3-F9621941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0A9610-D84A-40A5-9B20-F23C0314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9B8432-6737-47F0-91F5-6CB66D6A3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3733-2F39-4F93-B913-36967DB4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5FA29A-2AF9-40F1-9584-89A6D421B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519D9E-FC9D-4B79-8346-02D5A12F9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A2E65A-74C3-48AA-9EF4-189DA54B3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0871E7-9077-498F-94A4-45E1323DD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A193DA-4F3E-488C-8082-F346D7D4A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E2F96D-24B6-4722-9B4A-AF27EF1A5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4F95B6-CF4F-4320-986D-3C73C29E4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BE9E12-06CC-4471-A207-15268AE59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C88C49-86BC-4525-B66C-1CE463081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3D2AD1-F3BD-4CFA-95A7-248E3528E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4779-81ED-4A20-AB10-3990C4EAB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3A9B65-F311-4212-B892-214F4E7C3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235B52-2273-46E3-9DDA-158627A2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4DE28E-F1EB-44AE-9F41-E86570D6C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8F65E4-F4ED-41E1-8AD2-BDA14C0E0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EC2748-66DB-4618-8DBC-7878A3F8D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1D94F9-F4DA-43D3-A5DC-C765FBE80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B43325-90AC-45ED-A5F1-D791584CB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B3DAC0-394C-4FAF-B4CA-D5DD7C907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3CCA19-4F1B-4AE5-B790-C71876352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B2E618-475D-4D4B-B23C-8B96D89B9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09D5-EB55-420B-B8AA-C81887D8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98B698-833B-4282-BCDD-B26EC59CF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287296-F0AE-485D-8C66-AB4AC1D43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3C8BC4-9E9F-4BA2-9FCD-9CE6B236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046509-7BD4-412D-A409-5CA95D55B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AB9459-2C73-44F8-AF59-3ADE5DBC4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4700AC-6C30-4AD5-823C-27FC305D0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88FCD4-8BF9-4263-84F8-1A3ACD7A0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087724-884C-4FED-9C4E-C3B550944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565692-0718-40D6-ADE2-FA7DCD4D4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AEC819-0DBC-4567-BC04-A97A19217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Times New Roman"/>
              </a:rPr>
              <a:t>4 Feb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SC 290 - Constraint Satisf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C8ABA-8117-4A71-B24D-DE605721ED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0AD48-38C0-450A-9A95-DEF3EF692E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Times New Roman"/>
              </a:rPr>
              <a:t>4 Feb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SC 290 - Constraint Satisf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Times New Roman"/>
              </a:rPr>
              <a:t>4 Feb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SC 290 - Constraint Satisf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54880-A994-473F-A274-0E04A21383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EA81D-B308-42F8-B35B-963A6C5468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Times New Roman"/>
              </a:rPr>
              <a:t>4 Feb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SC 290 - Constraint Satisf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Times New Roman"/>
              </a:rPr>
              <a:t>4 Feb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SC 290 - Constraint Satisf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5D2BC-A45C-4A14-926D-0AB1A0415E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Times New Roman"/>
              </a:rPr>
              <a:t>4 Feb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SC 290 - Constraint Satisf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CBE15-B284-4968-941D-56741D91A7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SC 290 - Constraint Satisf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Times New Roman"/>
              </a:rPr>
              <a:t>4 Feb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44E64-671F-4526-8D25-93574E2BCC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Times New Roman"/>
              </a:rPr>
              <a:t>4 Feb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SC 290 - Constraint Satisf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5CD29-0ECD-4225-9014-CC14AA48AA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Times New Roman"/>
              </a:rPr>
              <a:t>4 Feb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SC 290 - Constraint Satisf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BCD95-DE42-4C0B-99B6-7C5964C1CE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Times New Roman"/>
              </a:rPr>
              <a:t>4 Feb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SC 290 - Constraint Satisf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934AE-59B8-464B-9FBF-21276C51DC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Times New Roman"/>
              </a:rPr>
              <a:t>4 Feb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SC 290 - Constraint Satisf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E69B6-57CE-4C08-9450-EA254711051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4A49D-671E-4C81-91B6-F79695CB22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Times New Roman"/>
              </a:rPr>
              <a:t>4 Feb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SC 290 - Constraint Satisf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Chapter 5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Section 1 – 3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Rectangle 15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SC 290 - Constraint Satisfac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16"/>
          <p:cNvSpPr/>
          <p:nvPr/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35D0C-2DEA-4574-8758-C8681B97D701}" type="slidenum">
              <a:rPr b="0" lang="en-US" sz="1600" spc="-1" strike="noStrike">
                <a:solidFill>
                  <a:srgbClr val="7b9899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Constraint Satisfaction Problems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Real-world CSP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7" name="Footer Placeholder 4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SC 290 - Constraint Satisfac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Slide Number Placeholder 5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78171-2E2B-4E11-BE5E-71E622CBC990}" type="slidenum">
              <a:rPr b="0" lang="en-US" sz="1600" spc="-1" strike="noStrike">
                <a:solidFill>
                  <a:srgbClr val="7b9899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304920" y="1523880"/>
            <a:ext cx="865008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6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ssignment problem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60000"/>
              </a:lnSpc>
              <a:spcBef>
                <a:spcPts val="42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46b86"/>
                </a:solidFill>
                <a:latin typeface="Georgia"/>
              </a:rPr>
              <a:t>e.g., who teaches what class</a:t>
            </a:r>
            <a:endParaRPr b="0" lang="en-US" sz="17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imetabling problem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60000"/>
              </a:lnSpc>
              <a:spcBef>
                <a:spcPts val="42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46b86"/>
                </a:solidFill>
                <a:latin typeface="Georgia"/>
              </a:rPr>
              <a:t>e.g., which class is offered when and where?</a:t>
            </a:r>
            <a:endParaRPr b="0" lang="en-US" sz="17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ransportation scheduling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actory scheduling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Notice that many real-world problems involve real-valued variabl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4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6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4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6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b9899"/>
                </a:solidFill>
                <a:latin typeface="Georgia"/>
              </a:rPr>
              <a:t>Standard search formulation (incremental)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1" name="Footer Placeholder 4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SC 290 - Constraint Satisfac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Slide Number Placeholder 5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715DB-B15F-49B5-A88D-0C2429DB13BD}" type="slidenum">
              <a:rPr b="0" lang="en-US" sz="1600" spc="-1" strike="noStrike">
                <a:solidFill>
                  <a:srgbClr val="7b9899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6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Let's start with the straightforward approach, then fix it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80880" indent="-380880">
              <a:lnSpc>
                <a:spcPct val="6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80880" indent="-380880">
              <a:lnSpc>
                <a:spcPct val="6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States are defined by the values assigned so far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80880" indent="-380880">
              <a:lnSpc>
                <a:spcPct val="6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80880" indent="-380880">
              <a:lnSpc>
                <a:spcPct val="6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ccb400"/>
                </a:solidFill>
                <a:latin typeface="Georgia"/>
              </a:rPr>
              <a:t>Initial state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: the empty assignment { }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80880" indent="-380880">
              <a:lnSpc>
                <a:spcPct val="6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ccb400"/>
                </a:solidFill>
                <a:latin typeface="Georgia"/>
              </a:rPr>
              <a:t>Successor function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: assign a value to an unassigned variable that does not conflict with current assignment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lvl="1" marL="8002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46b86"/>
                </a:solidFill>
                <a:latin typeface="Wingdings"/>
                <a:ea typeface="Wingdings"/>
              </a:rPr>
              <a:t></a:t>
            </a:r>
            <a:r>
              <a:rPr b="0" lang="en-US" sz="1700" spc="-1" strike="noStrike">
                <a:solidFill>
                  <a:srgbClr val="646b86"/>
                </a:solidFill>
                <a:latin typeface="Georgia"/>
              </a:rPr>
              <a:t> </a:t>
            </a:r>
            <a:r>
              <a:rPr b="0" lang="en-US" sz="1700" spc="-1" strike="noStrike">
                <a:solidFill>
                  <a:srgbClr val="646b86"/>
                </a:solidFill>
                <a:latin typeface="Georgia"/>
              </a:rPr>
              <a:t>fail if no legal assignments</a:t>
            </a:r>
            <a:endParaRPr b="0" lang="en-US" sz="1700" spc="-1" strike="noStrike">
              <a:solidFill>
                <a:srgbClr val="646b86"/>
              </a:solidFill>
              <a:latin typeface="Georgia"/>
            </a:endParaRPr>
          </a:p>
          <a:p>
            <a:pPr marL="380880" indent="-380880">
              <a:lnSpc>
                <a:spcPct val="6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ccb400"/>
                </a:solidFill>
                <a:latin typeface="Georgia"/>
              </a:rPr>
              <a:t>Goal test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: the current assignment is complete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80880" indent="-380880">
              <a:lnSpc>
                <a:spcPct val="6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80880" indent="-380880">
              <a:lnSpc>
                <a:spcPct val="6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Georgia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This is the same for all CSPs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80880" indent="-380880">
              <a:lnSpc>
                <a:spcPct val="6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Georgia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Every solution appears at depth </a:t>
            </a:r>
            <a:r>
              <a:rPr b="0" i="1" lang="en-US" sz="1900" spc="-1" strike="noStrike">
                <a:solidFill>
                  <a:srgbClr val="000000"/>
                </a:solidFill>
                <a:latin typeface="Georgia"/>
              </a:rPr>
              <a:t>n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 with </a:t>
            </a:r>
            <a:r>
              <a:rPr b="0" i="1" lang="en-US" sz="1900" spc="-1" strike="noStrike">
                <a:solidFill>
                  <a:srgbClr val="000000"/>
                </a:solidFill>
                <a:latin typeface="Georgia"/>
              </a:rPr>
              <a:t>n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 variables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 use depth-first search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80880" indent="-380880">
              <a:lnSpc>
                <a:spcPct val="6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Georgia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Path is irrelevant, so can also use complete-state formulation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80880" indent="-380880">
              <a:lnSpc>
                <a:spcPct val="6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Georgia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b = (n - </a:t>
            </a:r>
            <a:r>
              <a:rPr b="0" lang="en-US" sz="19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 )d at depth </a:t>
            </a:r>
            <a:r>
              <a:rPr b="0" lang="en-US" sz="19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, hence n!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· 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d</a:t>
            </a:r>
            <a:r>
              <a:rPr b="0" lang="en-US" sz="1900" spc="-1" strike="noStrike" baseline="30000">
                <a:solidFill>
                  <a:srgbClr val="000000"/>
                </a:solidFill>
                <a:latin typeface="Georgia"/>
              </a:rPr>
              <a:t>n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 leaves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80880" indent="-380880">
              <a:lnSpc>
                <a:spcPct val="6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Georgia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60000"/>
              </a:lnSpc>
              <a:spcBef>
                <a:spcPts val="476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380880" indent="-380880">
              <a:lnSpc>
                <a:spcPct val="6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Backtracking search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5" name="Footer Placeholder 4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SC 290 - Constraint Satisfac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6" name="Slide Number Placeholder 5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F4E77-15BD-4118-BEA3-6217E4CE22EA}" type="slidenum">
              <a:rPr b="0" lang="en-US" sz="1600" spc="-1" strike="noStrike">
                <a:solidFill>
                  <a:srgbClr val="7b9899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7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Variable assignments are </a:t>
            </a:r>
            <a:r>
              <a:rPr b="0" lang="en-US" sz="1900" spc="-1" strike="noStrike">
                <a:solidFill>
                  <a:srgbClr val="ccb400"/>
                </a:solidFill>
                <a:latin typeface="Georgia"/>
              </a:rPr>
              <a:t>commutative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}, i.e.,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[ WA = red then NT = green ] same as [ NT = green then WA = red ]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Only need to consider assignments to a single variable at each node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46b86"/>
                </a:solidFill>
                <a:latin typeface="Wingdings"/>
                <a:ea typeface="Wingdings"/>
              </a:rPr>
              <a:t></a:t>
            </a:r>
            <a:r>
              <a:rPr b="0" lang="en-US" sz="1700" spc="-1" strike="noStrike">
                <a:solidFill>
                  <a:srgbClr val="646b86"/>
                </a:solidFill>
                <a:latin typeface="Georgia"/>
              </a:rPr>
              <a:t> </a:t>
            </a:r>
            <a:r>
              <a:rPr b="0" lang="en-US" sz="1700" spc="-1" strike="noStrike">
                <a:solidFill>
                  <a:srgbClr val="646b86"/>
                </a:solidFill>
                <a:latin typeface="Georgia"/>
              </a:rPr>
              <a:t>b = d and there are $d^n$ leaves</a:t>
            </a:r>
            <a:endParaRPr b="0" lang="en-US" sz="17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Depth-first search for CSPs with single-variable assignments is called </a:t>
            </a:r>
            <a:r>
              <a:rPr b="0" lang="en-US" sz="1900" spc="-1" strike="noStrike">
                <a:solidFill>
                  <a:srgbClr val="ccb400"/>
                </a:solidFill>
                <a:latin typeface="Georgia"/>
              </a:rPr>
              <a:t>backtracking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 search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Backtracking search is the basic uninformed algorithm for CSPs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Can solve </a:t>
            </a:r>
            <a:r>
              <a:rPr b="0" i="1" lang="en-US" sz="1900" spc="-1" strike="noStrike">
                <a:solidFill>
                  <a:srgbClr val="000000"/>
                </a:solidFill>
                <a:latin typeface="Georgia"/>
              </a:rPr>
              <a:t>n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-queens for </a:t>
            </a:r>
            <a:r>
              <a:rPr b="0" i="1" lang="en-US" sz="1900" spc="-1" strike="noStrike">
                <a:solidFill>
                  <a:srgbClr val="000000"/>
                </a:solidFill>
                <a:latin typeface="Georgia"/>
              </a:rPr>
              <a:t>n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  <a:ea typeface="Arial"/>
              </a:rPr>
              <a:t>≈ 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25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70000"/>
              </a:lnSpc>
              <a:spcBef>
                <a:spcPts val="476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Backtracking search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9" name="Footer Placeholder 4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SC 290 - Constraint Satisfac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Slide Number Placeholder 5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011E9-D12F-4592-A972-DC52F144335A}" type="slidenum">
              <a:rPr b="0" lang="en-US" sz="1600" spc="-1" strike="noStrike">
                <a:solidFill>
                  <a:srgbClr val="7b9899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61" name="Picture 4" descr=""/>
          <p:cNvPicPr/>
          <p:nvPr/>
        </p:nvPicPr>
        <p:blipFill>
          <a:blip r:embed="rId1"/>
          <a:srcRect l="17188" t="21878" r="13282" b="29168"/>
          <a:stretch/>
        </p:blipFill>
        <p:spPr>
          <a:xfrm>
            <a:off x="609480" y="1371600"/>
            <a:ext cx="784872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Backtracking exampl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3" name="Footer Placeholder 4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SC 290 - Constraint Satisfac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4" name="Slide Number Placeholder 5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E911A-388E-4410-A6DF-461933F483E4}" type="slidenum">
              <a:rPr b="0" lang="en-US" sz="1600" spc="-1" strike="noStrike">
                <a:solidFill>
                  <a:srgbClr val="7b9899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65" name="Picture 4" descr="backtrack-progress1c"/>
          <p:cNvPicPr/>
          <p:nvPr/>
        </p:nvPicPr>
        <p:blipFill>
          <a:blip r:embed="rId1"/>
          <a:stretch/>
        </p:blipFill>
        <p:spPr>
          <a:xfrm>
            <a:off x="1643040" y="1619280"/>
            <a:ext cx="585792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Backtracking exampl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7" name="Footer Placeholder 4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SC 290 - Constraint Satisfac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Slide Number Placeholder 5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70B2F-6427-492B-AE18-F6018BA0C493}" type="slidenum">
              <a:rPr b="0" lang="en-US" sz="1600" spc="-1" strike="noStrike">
                <a:solidFill>
                  <a:srgbClr val="7b9899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69" name="Picture 4" descr="backtrack-progress2c"/>
          <p:cNvPicPr/>
          <p:nvPr/>
        </p:nvPicPr>
        <p:blipFill>
          <a:blip r:embed="rId1"/>
          <a:stretch/>
        </p:blipFill>
        <p:spPr>
          <a:xfrm>
            <a:off x="1643040" y="1619280"/>
            <a:ext cx="585792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Backtracking exampl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1" name="Footer Placeholder 4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SC 290 - Constraint Satisfac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Slide Number Placeholder 5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BEF95-933A-47DD-B056-BB1B68C73A65}" type="slidenum">
              <a:rPr b="0" lang="en-US" sz="1600" spc="-1" strike="noStrike">
                <a:solidFill>
                  <a:srgbClr val="7b9899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73" name="Picture 5" descr="backtrack-progress3c"/>
          <p:cNvPicPr/>
          <p:nvPr/>
        </p:nvPicPr>
        <p:blipFill>
          <a:blip r:embed="rId1"/>
          <a:stretch/>
        </p:blipFill>
        <p:spPr>
          <a:xfrm>
            <a:off x="1643040" y="1619280"/>
            <a:ext cx="585792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Backtracking exampl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5" name="Footer Placeholder 4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SC 290 - Constraint Satisfac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Slide Number Placeholder 5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78FF8-E656-4825-B17D-03C7D8EB42C2}" type="slidenum">
              <a:rPr b="0" lang="en-US" sz="1600" spc="-1" strike="noStrike">
                <a:solidFill>
                  <a:srgbClr val="7b9899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77" name="Picture 4" descr="backtrack-progress4c"/>
          <p:cNvPicPr/>
          <p:nvPr/>
        </p:nvPicPr>
        <p:blipFill>
          <a:blip r:embed="rId1"/>
          <a:stretch/>
        </p:blipFill>
        <p:spPr>
          <a:xfrm>
            <a:off x="1643040" y="1619280"/>
            <a:ext cx="585792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b9899"/>
                </a:solidFill>
                <a:latin typeface="Georgia"/>
              </a:rPr>
              <a:t>Improving backtracking efficiency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9" name="Footer Placeholder 4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SC 290 - Constraint Satisfac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0" name="Slide Number Placeholder 5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9C6C6-E452-453B-8FC0-35D995BD311C}" type="slidenum">
              <a:rPr b="0" lang="en-US" sz="1600" spc="-1" strike="noStrike">
                <a:solidFill>
                  <a:srgbClr val="7b9899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General-purpose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methods can give huge gains in speed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Which variable should be assigned next?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In what order should its values be tried?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Can we detect inevitable failure early?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Most constrained variabl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3" name="Footer Placeholder 4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SC 290 - Constraint Satisfac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Slide Number Placeholder 5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CBE6F-DFA9-4FAD-86B0-98AB453F993B}" type="slidenum">
              <a:rPr b="0" lang="en-US" sz="1600" spc="-1" strike="noStrike">
                <a:solidFill>
                  <a:srgbClr val="7b9899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ost constrained variable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choose the variable with the fewest legal value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.k.a. </a:t>
            </a:r>
            <a:r>
              <a:rPr b="0" lang="en-US" sz="2700" spc="-1" strike="noStrike">
                <a:solidFill>
                  <a:srgbClr val="ccb400"/>
                </a:solidFill>
                <a:latin typeface="Georgia"/>
              </a:rPr>
              <a:t>minimum remaining values (MRV)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heuristic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86" name="Picture 4" descr="australia-most-constrained-variable"/>
          <p:cNvPicPr/>
          <p:nvPr/>
        </p:nvPicPr>
        <p:blipFill>
          <a:blip r:embed="rId1"/>
          <a:stretch/>
        </p:blipFill>
        <p:spPr>
          <a:xfrm>
            <a:off x="1371600" y="4572000"/>
            <a:ext cx="61056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Outlin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Footer Placeholder 4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SC 290 - Constraint Satisfac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Slide Number Placeholder 5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35EDF-20B9-4F0F-BA71-BEF69B87E416}" type="slidenum">
              <a:rPr b="0" lang="en-US" sz="1600" spc="-1" strike="noStrike">
                <a:solidFill>
                  <a:srgbClr val="7b9899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onstraint Satisfaction Problems (CSP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Backtracking search for CSP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Local search for CSP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Most constraining variabl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8" name="Footer Placeholder 4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SC 290 - Constraint Satisfac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9" name="Slide Number Placeholder 5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FE7D6-B70B-450D-90D0-4000D880CD09}" type="slidenum">
              <a:rPr b="0" lang="en-US" sz="1600" spc="-1" strike="noStrike">
                <a:solidFill>
                  <a:srgbClr val="7b9899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ie-breaker among most constrained variabl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ost constraining variable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choose the variable with the most constraints on remaining variable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91" name="Picture 4" descr="australia-most-constraining-variable"/>
          <p:cNvPicPr/>
          <p:nvPr/>
        </p:nvPicPr>
        <p:blipFill>
          <a:blip r:embed="rId1"/>
          <a:stretch/>
        </p:blipFill>
        <p:spPr>
          <a:xfrm>
            <a:off x="685800" y="4191120"/>
            <a:ext cx="7620120" cy="12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Least constraining valu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3" name="Footer Placeholder 4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SC 290 - Constraint Satisfac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Slide Number Placeholder 5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F5676-9E6C-4BF7-9444-B15AEE5451C7}" type="slidenum">
              <a:rPr b="0" lang="en-US" sz="1600" spc="-1" strike="noStrike">
                <a:solidFill>
                  <a:srgbClr val="7b9899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Given a variable, choose the least constraining value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the one that rules out the fewest values in the remaining variable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ombining these heuristics makes 1000 queens feasibl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96" name="Picture 4" descr="australia-least-constraining-value"/>
          <p:cNvPicPr/>
          <p:nvPr/>
        </p:nvPicPr>
        <p:blipFill>
          <a:blip r:embed="rId1"/>
          <a:stretch/>
        </p:blipFill>
        <p:spPr>
          <a:xfrm>
            <a:off x="1066680" y="3124080"/>
            <a:ext cx="7086600" cy="16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Forward check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Footer Placeholder 4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SC 290 - Constraint Satisfac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Slide Number Placeholder 5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63389-D0F7-473D-B238-997F97E82609}" type="slidenum">
              <a:rPr b="0" lang="en-US" sz="1600" spc="-1" strike="noStrike">
                <a:solidFill>
                  <a:srgbClr val="7b9899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b400"/>
                </a:solidFill>
                <a:latin typeface="Georgia"/>
              </a:rPr>
              <a:t>Idea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Keep track of remaining legal values for unassigned variables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Terminate search when any variable has no legal values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  <p:pic>
        <p:nvPicPr>
          <p:cNvPr id="701" name="Picture 4" descr="forward-checking-progress1c"/>
          <p:cNvPicPr/>
          <p:nvPr/>
        </p:nvPicPr>
        <p:blipFill>
          <a:blip r:embed="rId1"/>
          <a:stretch/>
        </p:blipFill>
        <p:spPr>
          <a:xfrm>
            <a:off x="2004840" y="3048120"/>
            <a:ext cx="513432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Forward check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3" name="Footer Placeholder 4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SC 290 - Constraint Satisfac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Slide Number Placeholder 5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FCC0A-EEA1-4284-AF5B-330735C9F471}" type="slidenum">
              <a:rPr b="0" lang="en-US" sz="1600" spc="-1" strike="noStrike">
                <a:solidFill>
                  <a:srgbClr val="7b9899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b400"/>
                </a:solidFill>
                <a:latin typeface="Georgia"/>
              </a:rPr>
              <a:t>Idea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Keep track of remaining legal values for unassigned variables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Terminate search when any variable has no legal values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  <p:pic>
        <p:nvPicPr>
          <p:cNvPr id="706" name="Picture 4" descr="forward-checking-progress2c"/>
          <p:cNvPicPr/>
          <p:nvPr/>
        </p:nvPicPr>
        <p:blipFill>
          <a:blip r:embed="rId1"/>
          <a:stretch/>
        </p:blipFill>
        <p:spPr>
          <a:xfrm>
            <a:off x="2004840" y="3048120"/>
            <a:ext cx="5134320" cy="16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Forward check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8" name="Footer Placeholder 4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SC 290 - Constraint Satisfac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9" name="Slide Number Placeholder 5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6E9DE-5E12-4746-A755-6E5A3321E0CE}" type="slidenum">
              <a:rPr b="0" lang="en-US" sz="1600" spc="-1" strike="noStrike">
                <a:solidFill>
                  <a:srgbClr val="7b9899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b400"/>
                </a:solidFill>
                <a:latin typeface="Georgia"/>
              </a:rPr>
              <a:t>Idea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Keep track of remaining legal values for unassigned variables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Terminate search when any variable has no legal values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  <p:pic>
        <p:nvPicPr>
          <p:cNvPr id="711" name="Picture 4" descr="forward-checking-progress3c"/>
          <p:cNvPicPr/>
          <p:nvPr/>
        </p:nvPicPr>
        <p:blipFill>
          <a:blip r:embed="rId1"/>
          <a:stretch/>
        </p:blipFill>
        <p:spPr>
          <a:xfrm>
            <a:off x="2004840" y="3048120"/>
            <a:ext cx="51343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Forward check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Footer Placeholder 4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SC 290 - Constraint Satisfac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4" name="Slide Number Placeholder 5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E2BD8-E713-4E1C-83D5-E7D210355317}" type="slidenum">
              <a:rPr b="0" lang="en-US" sz="1600" spc="-1" strike="noStrike">
                <a:solidFill>
                  <a:srgbClr val="7b9899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b400"/>
                </a:solidFill>
                <a:latin typeface="Georgia"/>
              </a:rPr>
              <a:t>Idea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Keep track of remaining legal values for unassigned variables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Terminate search when any variable has no legal values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  <p:pic>
        <p:nvPicPr>
          <p:cNvPr id="716" name="Picture 4" descr="forward-checking-progress4c"/>
          <p:cNvPicPr/>
          <p:nvPr/>
        </p:nvPicPr>
        <p:blipFill>
          <a:blip r:embed="rId1"/>
          <a:stretch/>
        </p:blipFill>
        <p:spPr>
          <a:xfrm>
            <a:off x="2004840" y="3048120"/>
            <a:ext cx="5134320" cy="22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onstraint propagati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8" name="Footer Placeholder 4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SC 290 - Constraint Satisfac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9" name="Slide Number Placeholder 5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7CB96-59DE-4341-A88C-263B9A695C66}" type="slidenum">
              <a:rPr b="0" lang="en-US" sz="1600" spc="-1" strike="noStrike">
                <a:solidFill>
                  <a:srgbClr val="7b9899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Forward checking propagates information from assigned to unassigned variables, but doesn't provide early detection for all failures: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NT and SA cannot both be blue!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b400"/>
                </a:solidFill>
                <a:latin typeface="Georgia"/>
              </a:rPr>
              <a:t>Constraint propagation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repeatedly enforces constraints locally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21" name="Picture 4" descr="forward-checking-progress3c"/>
          <p:cNvPicPr/>
          <p:nvPr/>
        </p:nvPicPr>
        <p:blipFill>
          <a:blip r:embed="rId1"/>
          <a:stretch/>
        </p:blipFill>
        <p:spPr>
          <a:xfrm>
            <a:off x="2057400" y="2209680"/>
            <a:ext cx="513396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Arc consistenc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3" name="Footer Placeholder 4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SC 290 - Constraint Satisfac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4" name="Slide Number Placeholder 5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1E702-61BA-41FC-AD8D-F8953ECBE3F3}" type="slidenum">
              <a:rPr b="0" lang="en-US" sz="1600" spc="-1" strike="noStrike">
                <a:solidFill>
                  <a:srgbClr val="7b9899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implest form of propagation makes each arc </a:t>
            </a:r>
            <a:r>
              <a:rPr b="0" lang="en-US" sz="2400" spc="-1" strike="noStrike">
                <a:solidFill>
                  <a:srgbClr val="ccb400"/>
                </a:solidFill>
                <a:latin typeface="Georgia"/>
              </a:rPr>
              <a:t>consisten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is consistent iff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for </a:t>
            </a:r>
            <a:r>
              <a:rPr b="0" lang="en-US" sz="2000" spc="-1" strike="noStrike">
                <a:solidFill>
                  <a:srgbClr val="ff0000"/>
                </a:solidFill>
                <a:latin typeface="Georgia"/>
              </a:rPr>
              <a:t>every</a:t>
            </a: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 value </a:t>
            </a:r>
            <a:r>
              <a:rPr b="0" i="1" lang="en-US" sz="2000" spc="-1" strike="noStrike">
                <a:solidFill>
                  <a:srgbClr val="646b86"/>
                </a:solidFill>
                <a:latin typeface="Georgia"/>
              </a:rPr>
              <a:t>x </a:t>
            </a: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of </a:t>
            </a:r>
            <a:r>
              <a:rPr b="0" i="1" lang="en-US" sz="2000" spc="-1" strike="noStrike">
                <a:solidFill>
                  <a:srgbClr val="646b86"/>
                </a:solidFill>
                <a:latin typeface="Georgia"/>
              </a:rPr>
              <a:t>X </a:t>
            </a: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there is </a:t>
            </a:r>
            <a:r>
              <a:rPr b="0" lang="en-US" sz="2000" spc="-1" strike="noStrike">
                <a:solidFill>
                  <a:srgbClr val="ff0000"/>
                </a:solidFill>
                <a:latin typeface="Georgia"/>
              </a:rPr>
              <a:t>some</a:t>
            </a: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 allowed </a:t>
            </a:r>
            <a:r>
              <a:rPr b="0" i="1" lang="en-US" sz="2000" spc="-1" strike="noStrike">
                <a:solidFill>
                  <a:srgbClr val="646b86"/>
                </a:solidFill>
                <a:latin typeface="Georgia"/>
              </a:rPr>
              <a:t>y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26" name="Picture 6" descr="ac-example1c"/>
          <p:cNvPicPr/>
          <p:nvPr/>
        </p:nvPicPr>
        <p:blipFill>
          <a:blip r:embed="rId1"/>
          <a:stretch/>
        </p:blipFill>
        <p:spPr>
          <a:xfrm>
            <a:off x="1981080" y="3276720"/>
            <a:ext cx="5133960" cy="17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Arc consistenc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8" name="Footer Placeholder 4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SC 290 - Constraint Satisfac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9" name="Slide Number Placeholder 5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A86D8-59AB-417F-85C6-7E10E6FF7EC8}" type="slidenum">
              <a:rPr b="0" lang="en-US" sz="1600" spc="-1" strike="noStrike">
                <a:solidFill>
                  <a:srgbClr val="7b9899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implest form of propagation makes each arc </a:t>
            </a:r>
            <a:r>
              <a:rPr b="0" lang="en-US" sz="2400" spc="-1" strike="noStrike">
                <a:solidFill>
                  <a:srgbClr val="ccb400"/>
                </a:solidFill>
                <a:latin typeface="Georgia"/>
              </a:rPr>
              <a:t>consisten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is consistent iff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for </a:t>
            </a:r>
            <a:r>
              <a:rPr b="0" lang="en-US" sz="2000" spc="-1" strike="noStrike">
                <a:solidFill>
                  <a:srgbClr val="ff0000"/>
                </a:solidFill>
                <a:latin typeface="Georgia"/>
              </a:rPr>
              <a:t>every</a:t>
            </a: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 value </a:t>
            </a:r>
            <a:r>
              <a:rPr b="0" i="1" lang="en-US" sz="2000" spc="-1" strike="noStrike">
                <a:solidFill>
                  <a:srgbClr val="646b86"/>
                </a:solidFill>
                <a:latin typeface="Georgia"/>
              </a:rPr>
              <a:t>x </a:t>
            </a: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of </a:t>
            </a:r>
            <a:r>
              <a:rPr b="0" i="1" lang="en-US" sz="2000" spc="-1" strike="noStrike">
                <a:solidFill>
                  <a:srgbClr val="646b86"/>
                </a:solidFill>
                <a:latin typeface="Georgia"/>
              </a:rPr>
              <a:t>X </a:t>
            </a: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there is </a:t>
            </a:r>
            <a:r>
              <a:rPr b="0" lang="en-US" sz="2000" spc="-1" strike="noStrike">
                <a:solidFill>
                  <a:srgbClr val="ff0000"/>
                </a:solidFill>
                <a:latin typeface="Georgia"/>
              </a:rPr>
              <a:t>some</a:t>
            </a: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 allowed </a:t>
            </a:r>
            <a:r>
              <a:rPr b="0" i="1" lang="en-US" sz="2000" spc="-1" strike="noStrike">
                <a:solidFill>
                  <a:srgbClr val="646b86"/>
                </a:solidFill>
                <a:latin typeface="Georgia"/>
              </a:rPr>
              <a:t>y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31" name="Picture 6" descr="ac-example2c"/>
          <p:cNvPicPr/>
          <p:nvPr/>
        </p:nvPicPr>
        <p:blipFill>
          <a:blip r:embed="rId1"/>
          <a:stretch/>
        </p:blipFill>
        <p:spPr>
          <a:xfrm>
            <a:off x="1981080" y="3429000"/>
            <a:ext cx="5133960" cy="1762200"/>
          </a:xfrm>
          <a:prstGeom prst="rect">
            <a:avLst/>
          </a:prstGeom>
          <a:ln w="0">
            <a:noFill/>
          </a:ln>
        </p:spPr>
      </p:pic>
      <p:sp>
        <p:nvSpPr>
          <p:cNvPr id="732" name="Line 7"/>
          <p:cNvSpPr/>
          <p:nvPr/>
        </p:nvSpPr>
        <p:spPr>
          <a:xfrm>
            <a:off x="1523880" y="28954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Arc consistenc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34" name="Footer Placeholder 4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SC 290 - Constraint Satisfac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5" name="Slide Number Placeholder 5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8B982-A9C9-44A8-B8A1-C4B04E0F542A}" type="slidenum">
              <a:rPr b="0" lang="en-US" sz="1600" spc="-1" strike="noStrike">
                <a:solidFill>
                  <a:srgbClr val="7b9899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implest form of propagation makes each arc </a:t>
            </a:r>
            <a:r>
              <a:rPr b="0" lang="en-US" sz="2400" spc="-1" strike="noStrike">
                <a:solidFill>
                  <a:srgbClr val="ccb400"/>
                </a:solidFill>
                <a:latin typeface="Georgia"/>
              </a:rPr>
              <a:t>consisten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is consistent iff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for </a:t>
            </a:r>
            <a:r>
              <a:rPr b="0" lang="en-US" sz="2000" spc="-1" strike="noStrike">
                <a:solidFill>
                  <a:srgbClr val="ff0000"/>
                </a:solidFill>
                <a:latin typeface="Georgia"/>
              </a:rPr>
              <a:t>every</a:t>
            </a: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 value </a:t>
            </a:r>
            <a:r>
              <a:rPr b="0" i="1" lang="en-US" sz="2000" spc="-1" strike="noStrike">
                <a:solidFill>
                  <a:srgbClr val="646b86"/>
                </a:solidFill>
                <a:latin typeface="Georgia"/>
              </a:rPr>
              <a:t>x </a:t>
            </a: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of </a:t>
            </a:r>
            <a:r>
              <a:rPr b="0" i="1" lang="en-US" sz="2000" spc="-1" strike="noStrike">
                <a:solidFill>
                  <a:srgbClr val="646b86"/>
                </a:solidFill>
                <a:latin typeface="Georgia"/>
              </a:rPr>
              <a:t>X </a:t>
            </a: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there is </a:t>
            </a:r>
            <a:r>
              <a:rPr b="0" lang="en-US" sz="2000" spc="-1" strike="noStrike">
                <a:solidFill>
                  <a:srgbClr val="ff0000"/>
                </a:solidFill>
                <a:latin typeface="Georgia"/>
              </a:rPr>
              <a:t>some</a:t>
            </a: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 allowed </a:t>
            </a:r>
            <a:r>
              <a:rPr b="0" i="1" lang="en-US" sz="2000" spc="-1" strike="noStrike">
                <a:solidFill>
                  <a:srgbClr val="646b86"/>
                </a:solidFill>
                <a:latin typeface="Georgia"/>
              </a:rPr>
              <a:t>y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loses a value, neighbors of 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need to be rechecke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547560" indent="-272880"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37" name="Picture 6" descr="ac-example3c"/>
          <p:cNvPicPr/>
          <p:nvPr/>
        </p:nvPicPr>
        <p:blipFill>
          <a:blip r:embed="rId1"/>
          <a:stretch/>
        </p:blipFill>
        <p:spPr>
          <a:xfrm>
            <a:off x="1981080" y="3200400"/>
            <a:ext cx="513396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Constraint satisfaction problems (CSPs)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Footer Placeholder 4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SC 290 - Constraint Satisfac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Slide Number Placeholder 5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D07FC-43E0-44E9-A61A-908D7CE30814}" type="slidenum">
              <a:rPr b="0" lang="en-US" sz="1600" spc="-1" strike="noStrike">
                <a:solidFill>
                  <a:srgbClr val="7b9899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7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Standard search problem: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70000"/>
              </a:lnSpc>
              <a:spcBef>
                <a:spcPts val="4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b400"/>
                </a:solidFill>
                <a:latin typeface="Georgia"/>
              </a:rPr>
              <a:t>state</a:t>
            </a:r>
            <a:r>
              <a:rPr b="0" lang="en-US" sz="1600" spc="-1" strike="noStrike">
                <a:solidFill>
                  <a:srgbClr val="646b86"/>
                </a:solidFill>
                <a:latin typeface="Georgia"/>
              </a:rPr>
              <a:t> is a "black box</a:t>
            </a:r>
            <a:r>
              <a:rPr b="0" lang="ja-JP" sz="1600" spc="-1" strike="noStrike">
                <a:solidFill>
                  <a:srgbClr val="646b86"/>
                </a:solidFill>
                <a:latin typeface="Arial"/>
                <a:ea typeface="ＭＳ Ｐ明朝"/>
              </a:rPr>
              <a:t>“</a:t>
            </a:r>
            <a:r>
              <a:rPr b="0" lang="en-US" sz="1600" spc="-1" strike="noStrike">
                <a:solidFill>
                  <a:srgbClr val="646b86"/>
                </a:solidFill>
                <a:latin typeface="Georgia"/>
              </a:rPr>
              <a:t> – any data structure that supports successor function, heuristic function, and goal test</a:t>
            </a:r>
            <a:endParaRPr b="0" lang="en-US" sz="16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CSP: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70000"/>
              </a:lnSpc>
              <a:spcBef>
                <a:spcPts val="4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b400"/>
                </a:solidFill>
                <a:latin typeface="Georgia"/>
              </a:rPr>
              <a:t>state</a:t>
            </a:r>
            <a:r>
              <a:rPr b="0" lang="en-US" sz="1600" spc="-1" strike="noStrike">
                <a:solidFill>
                  <a:srgbClr val="646b86"/>
                </a:solidFill>
                <a:latin typeface="Georgia"/>
              </a:rPr>
              <a:t> is defined by </a:t>
            </a:r>
            <a:r>
              <a:rPr b="0" lang="en-US" sz="1600" spc="-1" strike="noStrike">
                <a:solidFill>
                  <a:srgbClr val="ff0000"/>
                </a:solidFill>
                <a:latin typeface="Georgia"/>
              </a:rPr>
              <a:t>variables</a:t>
            </a:r>
            <a:r>
              <a:rPr b="0" lang="en-US" sz="1600" spc="-1" strike="noStrike">
                <a:solidFill>
                  <a:srgbClr val="646b86"/>
                </a:solidFill>
                <a:latin typeface="Georgia"/>
              </a:rPr>
              <a:t> </a:t>
            </a:r>
            <a:r>
              <a:rPr b="0" i="1" lang="en-US" sz="1600" spc="-1" strike="noStrike">
                <a:solidFill>
                  <a:srgbClr val="646b86"/>
                </a:solidFill>
                <a:latin typeface="Georgia"/>
              </a:rPr>
              <a:t>X</a:t>
            </a:r>
            <a:r>
              <a:rPr b="0" i="1" lang="en-US" sz="1600" spc="-1" strike="noStrike" baseline="-25000">
                <a:solidFill>
                  <a:srgbClr val="646b86"/>
                </a:solidFill>
                <a:latin typeface="Georgia"/>
              </a:rPr>
              <a:t>i</a:t>
            </a:r>
            <a:r>
              <a:rPr b="0" lang="en-US" sz="1600" spc="-1" strike="noStrike">
                <a:solidFill>
                  <a:srgbClr val="646b86"/>
                </a:solidFill>
                <a:latin typeface="Georgia"/>
              </a:rPr>
              <a:t> with </a:t>
            </a:r>
            <a:r>
              <a:rPr b="0" lang="en-US" sz="1600" spc="-1" strike="noStrike">
                <a:solidFill>
                  <a:srgbClr val="ff0000"/>
                </a:solidFill>
                <a:latin typeface="Georgia"/>
              </a:rPr>
              <a:t>values</a:t>
            </a:r>
            <a:r>
              <a:rPr b="0" lang="en-US" sz="1600" spc="-1" strike="noStrike">
                <a:solidFill>
                  <a:srgbClr val="646b86"/>
                </a:solidFill>
                <a:latin typeface="Georgia"/>
              </a:rPr>
              <a:t> from </a:t>
            </a:r>
            <a:r>
              <a:rPr b="0" lang="en-US" sz="1600" spc="-1" strike="noStrike">
                <a:solidFill>
                  <a:srgbClr val="ff0000"/>
                </a:solidFill>
                <a:latin typeface="Georgia"/>
              </a:rPr>
              <a:t>domain</a:t>
            </a:r>
            <a:r>
              <a:rPr b="0" lang="en-US" sz="1600" spc="-1" strike="noStrike">
                <a:solidFill>
                  <a:srgbClr val="646b86"/>
                </a:solidFill>
                <a:latin typeface="Georgia"/>
              </a:rPr>
              <a:t> </a:t>
            </a:r>
            <a:r>
              <a:rPr b="0" i="1" lang="en-US" sz="1600" spc="-1" strike="noStrike">
                <a:solidFill>
                  <a:srgbClr val="646b86"/>
                </a:solidFill>
                <a:latin typeface="Georgia"/>
              </a:rPr>
              <a:t>D</a:t>
            </a:r>
            <a:r>
              <a:rPr b="0" i="1" lang="en-US" sz="1600" spc="-1" strike="noStrike" baseline="-25000">
                <a:solidFill>
                  <a:srgbClr val="646b86"/>
                </a:solidFill>
                <a:latin typeface="Georgia"/>
              </a:rPr>
              <a:t>i</a:t>
            </a:r>
            <a:endParaRPr b="0" lang="en-US" sz="16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70000"/>
              </a:lnSpc>
              <a:spcBef>
                <a:spcPts val="4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b400"/>
                </a:solidFill>
                <a:latin typeface="Georgia"/>
              </a:rPr>
              <a:t>goal test</a:t>
            </a:r>
            <a:r>
              <a:rPr b="0" lang="en-US" sz="1600" spc="-1" strike="noStrike">
                <a:solidFill>
                  <a:srgbClr val="646b86"/>
                </a:solidFill>
                <a:latin typeface="Georgia"/>
              </a:rPr>
              <a:t> is a set of </a:t>
            </a:r>
            <a:r>
              <a:rPr b="0" lang="en-US" sz="1600" spc="-1" strike="noStrike">
                <a:solidFill>
                  <a:srgbClr val="ff0000"/>
                </a:solidFill>
                <a:latin typeface="Georgia"/>
              </a:rPr>
              <a:t>constraints</a:t>
            </a:r>
            <a:r>
              <a:rPr b="0" lang="en-US" sz="1600" spc="-1" strike="noStrike">
                <a:solidFill>
                  <a:srgbClr val="646b86"/>
                </a:solidFill>
                <a:latin typeface="Georgia"/>
              </a:rPr>
              <a:t> specifying allowable combinations of values for subsets of variables</a:t>
            </a:r>
            <a:endParaRPr b="0" lang="en-US" sz="16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70000"/>
              </a:lnSpc>
              <a:spcBef>
                <a:spcPts val="4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Simple example of a </a:t>
            </a:r>
            <a:r>
              <a:rPr b="0" lang="en-US" sz="1900" spc="-1" strike="noStrike">
                <a:solidFill>
                  <a:srgbClr val="ff0000"/>
                </a:solidFill>
                <a:latin typeface="Georgia"/>
              </a:rPr>
              <a:t>formal representation language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Allows useful </a:t>
            </a:r>
            <a:r>
              <a:rPr b="0" lang="en-US" sz="1900" spc="-1" strike="noStrike">
                <a:solidFill>
                  <a:srgbClr val="ff0000"/>
                </a:solidFill>
                <a:latin typeface="Georgia"/>
              </a:rPr>
              <a:t>general-purpose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 algorithms with more power than standard search algorithms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70000"/>
              </a:lnSpc>
              <a:spcBef>
                <a:spcPts val="4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70000"/>
              </a:lnSpc>
              <a:spcBef>
                <a:spcPts val="476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70000"/>
              </a:lnSpc>
              <a:spcBef>
                <a:spcPts val="476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Arc consistenc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39" name="Footer Placeholder 4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SC 290 - Constraint Satisfac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0" name="Slide Number Placeholder 5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46681-37E3-4645-8D73-E48461691606}" type="slidenum">
              <a:rPr b="0" lang="en-US" sz="1600" spc="-1" strike="noStrike">
                <a:solidFill>
                  <a:srgbClr val="7b9899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Simplest form of propagation makes each arc </a:t>
            </a:r>
            <a:r>
              <a:rPr b="0" lang="en-US" sz="1700" spc="-1" strike="noStrike">
                <a:solidFill>
                  <a:srgbClr val="ccb400"/>
                </a:solidFill>
                <a:latin typeface="Georgia"/>
              </a:rPr>
              <a:t>consistent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Georgia"/>
              </a:rPr>
              <a:t>X </a:t>
            </a:r>
            <a:r>
              <a:rPr b="0" lang="en-US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1700" spc="-1" strike="noStrike">
                <a:solidFill>
                  <a:srgbClr val="000000"/>
                </a:solidFill>
                <a:latin typeface="Georgia"/>
              </a:rPr>
              <a:t>Y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 is consistent iff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for </a:t>
            </a:r>
            <a:r>
              <a:rPr b="0" lang="en-US" sz="1400" spc="-1" strike="noStrike">
                <a:solidFill>
                  <a:srgbClr val="ff0000"/>
                </a:solidFill>
                <a:latin typeface="Georgia"/>
              </a:rPr>
              <a:t>every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 value </a:t>
            </a:r>
            <a:r>
              <a:rPr b="0" i="1" lang="en-US" sz="1400" spc="-1" strike="noStrike">
                <a:solidFill>
                  <a:srgbClr val="646b86"/>
                </a:solidFill>
                <a:latin typeface="Georgia"/>
              </a:rPr>
              <a:t>x 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of</a:t>
            </a:r>
            <a:endParaRPr b="0" lang="en-US" sz="14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 </a:t>
            </a:r>
            <a:r>
              <a:rPr b="0" i="1" lang="en-US" sz="1400" spc="-1" strike="noStrike">
                <a:solidFill>
                  <a:srgbClr val="646b86"/>
                </a:solidFill>
                <a:latin typeface="Georgia"/>
              </a:rPr>
              <a:t>X 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there is </a:t>
            </a:r>
            <a:r>
              <a:rPr b="0" lang="en-US" sz="1400" spc="-1" strike="noStrike">
                <a:solidFill>
                  <a:srgbClr val="ff0000"/>
                </a:solidFill>
                <a:latin typeface="Georgia"/>
              </a:rPr>
              <a:t>some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 allowed </a:t>
            </a:r>
            <a:r>
              <a:rPr b="0" i="1" lang="en-US" sz="1400" spc="-1" strike="noStrike">
                <a:solidFill>
                  <a:srgbClr val="646b86"/>
                </a:solidFill>
                <a:latin typeface="Georgia"/>
              </a:rPr>
              <a:t>y</a:t>
            </a:r>
            <a:endParaRPr b="0" lang="en-US" sz="14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If </a:t>
            </a:r>
            <a:r>
              <a:rPr b="0" i="1" lang="en-US" sz="17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 loses a value, neighbors of </a:t>
            </a:r>
            <a:r>
              <a:rPr b="0" i="1" lang="en-US" sz="17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 need to be rechecked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Arc consistency detects failure earlier than forward checking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Can be run as a preprocessor or after each assignment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42" name="Picture 6" descr="ac-example4c"/>
          <p:cNvPicPr/>
          <p:nvPr/>
        </p:nvPicPr>
        <p:blipFill>
          <a:blip r:embed="rId1"/>
          <a:stretch/>
        </p:blipFill>
        <p:spPr>
          <a:xfrm>
            <a:off x="3352680" y="1981080"/>
            <a:ext cx="513396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b9899"/>
                </a:solidFill>
                <a:latin typeface="Georgia"/>
              </a:rPr>
              <a:t>Arc consistency algorithm AC-3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4" name="Footer Placeholder 4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SC 290 - Constraint Satisfac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5" name="Slide Number Placeholder 5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DE659-DF27-4E3C-83FF-80BC19AF01B7}" type="slidenum">
              <a:rPr b="0" lang="en-US" sz="1600" spc="-1" strike="noStrike">
                <a:solidFill>
                  <a:srgbClr val="7b9899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304920" y="5559480"/>
            <a:ext cx="865008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70000"/>
              </a:lnSpc>
              <a:spcBef>
                <a:spcPts val="4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Time complexity: O(n</a:t>
            </a:r>
            <a:r>
              <a:rPr b="0" lang="en-US" sz="17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d</a:t>
            </a:r>
            <a:r>
              <a:rPr b="0" lang="en-US" sz="1700" spc="-1" strike="noStrike" baseline="30000">
                <a:solidFill>
                  <a:srgbClr val="000000"/>
                </a:solidFill>
                <a:latin typeface="Georgia"/>
              </a:rPr>
              <a:t>3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47" name="Picture 4" descr=""/>
          <p:cNvPicPr/>
          <p:nvPr/>
        </p:nvPicPr>
        <p:blipFill>
          <a:blip r:embed="rId1"/>
          <a:srcRect l="16405" t="21878" r="13282" b="22917"/>
          <a:stretch/>
        </p:blipFill>
        <p:spPr>
          <a:xfrm>
            <a:off x="1295280" y="1371600"/>
            <a:ext cx="68580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Local search for CSP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9" name="Footer Placeholder 4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SC 290 - Constraint Satisfac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0" name="Slide Number Placeholder 5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9BD90-57C5-4F0B-A3D7-11905BAD16D2}" type="slidenum">
              <a:rPr b="0" lang="en-US" sz="1600" spc="-1" strike="noStrike">
                <a:solidFill>
                  <a:srgbClr val="7b9899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60000"/>
              </a:lnSpc>
              <a:spcBef>
                <a:spcPts val="4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Hill-climbing, simulated annealing typically work with "complete" states, i.e., all variables assigned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4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4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To apply to CSPs: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60000"/>
              </a:lnSpc>
              <a:spcBef>
                <a:spcPts val="34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allow states with unsatisfied constraints</a:t>
            </a:r>
            <a:endParaRPr b="0" lang="en-US" sz="14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60000"/>
              </a:lnSpc>
              <a:spcBef>
                <a:spcPts val="34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operators </a:t>
            </a:r>
            <a:r>
              <a:rPr b="0" lang="en-US" sz="1400" spc="-1" strike="noStrike">
                <a:solidFill>
                  <a:srgbClr val="ff0000"/>
                </a:solidFill>
                <a:latin typeface="Georgia"/>
              </a:rPr>
              <a:t>reassign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 variable values</a:t>
            </a:r>
            <a:endParaRPr b="0" lang="en-US" sz="14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4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4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Variable selection: randomly select any conflicted variable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4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4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Value selection by </a:t>
            </a:r>
            <a:r>
              <a:rPr b="0" lang="en-US" sz="1700" spc="-1" strike="noStrike">
                <a:solidFill>
                  <a:srgbClr val="ff0000"/>
                </a:solidFill>
                <a:latin typeface="Georgia"/>
              </a:rPr>
              <a:t>min-conflicts 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heuristic: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60000"/>
              </a:lnSpc>
              <a:spcBef>
                <a:spcPts val="34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choose value that violates the fewest constraints</a:t>
            </a:r>
            <a:endParaRPr b="0" lang="en-US" sz="14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60000"/>
              </a:lnSpc>
              <a:spcBef>
                <a:spcPts val="34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i.e., hill-climb with </a:t>
            </a:r>
            <a:r>
              <a:rPr b="0" i="1" lang="en-US" sz="1400" spc="-1" strike="noStrike">
                <a:solidFill>
                  <a:srgbClr val="646b86"/>
                </a:solidFill>
                <a:latin typeface="Georgia"/>
              </a:rPr>
              <a:t>h(n) 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= total number of violated constraints</a:t>
            </a:r>
            <a:endParaRPr b="0" lang="en-US" sz="14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60000"/>
              </a:lnSpc>
              <a:spcBef>
                <a:spcPts val="34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60000"/>
              </a:lnSpc>
              <a:spcBef>
                <a:spcPts val="42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4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4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60000"/>
              </a:lnSpc>
              <a:spcBef>
                <a:spcPts val="34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60000"/>
              </a:lnSpc>
              <a:spcBef>
                <a:spcPts val="42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4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Example: 4-Queen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3" name="Footer Placeholder 4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SC 290 - Constraint Satisfac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4" name="Slide Number Placeholder 5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5A51A-AF0E-485A-8F2C-B13187A31842}" type="slidenum">
              <a:rPr b="0" lang="en-US" sz="1600" spc="-1" strike="noStrike">
                <a:solidFill>
                  <a:srgbClr val="7b9899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6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b400"/>
                </a:solidFill>
                <a:latin typeface="Georgia"/>
              </a:rPr>
              <a:t>States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: 4 queens in 4 columns (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eorgi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= 256 states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b400"/>
                </a:solidFill>
                <a:latin typeface="Georgia"/>
              </a:rPr>
              <a:t>Actions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: move queen in colum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b400"/>
                </a:solidFill>
                <a:latin typeface="Georgia"/>
              </a:rPr>
              <a:t>Goal test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: no attack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b400"/>
                </a:solidFill>
                <a:latin typeface="Georgia"/>
              </a:rPr>
              <a:t>Evaluation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h(n)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= number of attack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Given random initial state, can solve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-queens in almost constant time for arbitrary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with high probability (e.g.,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= 10,000,000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56" name="Picture 4" descr="4queens-iterative"/>
          <p:cNvPicPr/>
          <p:nvPr/>
        </p:nvPicPr>
        <p:blipFill>
          <a:blip r:embed="rId1"/>
          <a:stretch/>
        </p:blipFill>
        <p:spPr>
          <a:xfrm>
            <a:off x="2971800" y="3505320"/>
            <a:ext cx="518148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ummar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8" name="Footer Placeholder 4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SC 290 - Constraint Satisfac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9" name="Slide Number Placeholder 5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D0E55-2537-47E5-B49F-0F5BA6F78A05}" type="slidenum">
              <a:rPr b="0" lang="en-US" sz="1600" spc="-1" strike="noStrike">
                <a:solidFill>
                  <a:srgbClr val="7b9899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60000"/>
              </a:lnSpc>
              <a:spcBef>
                <a:spcPts val="4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CSPs are a special kind of problem: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60000"/>
              </a:lnSpc>
              <a:spcBef>
                <a:spcPts val="374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646b86"/>
                </a:solidFill>
                <a:latin typeface="Georgia"/>
              </a:rPr>
              <a:t>states defined by values of a fixed set of variables</a:t>
            </a:r>
            <a:endParaRPr b="0" lang="en-US" sz="15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60000"/>
              </a:lnSpc>
              <a:spcBef>
                <a:spcPts val="374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646b86"/>
                </a:solidFill>
                <a:latin typeface="Georgia"/>
              </a:rPr>
              <a:t>goal test defined by constraints on variable values</a:t>
            </a:r>
            <a:endParaRPr b="0" lang="en-US" sz="1500" spc="-1" strike="noStrike">
              <a:solidFill>
                <a:srgbClr val="646b86"/>
              </a:solidFill>
              <a:latin typeface="Georgia"/>
            </a:endParaRPr>
          </a:p>
          <a:p>
            <a:pPr lvl="4" marL="1371600" indent="-228600">
              <a:lnSpc>
                <a:spcPct val="60000"/>
              </a:lnSpc>
              <a:spcBef>
                <a:spcPts val="300"/>
              </a:spcBef>
              <a:buClr>
                <a:srgbClr val="8fb08c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4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Backtracking = depth-first search with one variable assigned per node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lnSpc>
                <a:spcPct val="60000"/>
              </a:lnSpc>
              <a:spcBef>
                <a:spcPts val="300"/>
              </a:spcBef>
              <a:buClr>
                <a:srgbClr val="8fb08c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4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Variable ordering and value selection heuristics help significantly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lnSpc>
                <a:spcPct val="60000"/>
              </a:lnSpc>
              <a:spcBef>
                <a:spcPts val="300"/>
              </a:spcBef>
              <a:buClr>
                <a:srgbClr val="8fb08c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4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Forward checking prevents assignments that guarantee later failure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lnSpc>
                <a:spcPct val="60000"/>
              </a:lnSpc>
              <a:spcBef>
                <a:spcPts val="300"/>
              </a:spcBef>
              <a:buClr>
                <a:srgbClr val="8fb08c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4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Constraint propagation (e.g., arc consistency) does additional work to constrain values and detect inconsistencies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lnSpc>
                <a:spcPct val="60000"/>
              </a:lnSpc>
              <a:spcBef>
                <a:spcPts val="300"/>
              </a:spcBef>
              <a:buClr>
                <a:srgbClr val="8fb08c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4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Iterative min-conflicts is usually effective in practice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3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3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3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3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3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60000"/>
              </a:lnSpc>
              <a:spcBef>
                <a:spcPts val="374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60000"/>
              </a:lnSpc>
              <a:spcBef>
                <a:spcPts val="42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Example: Map-Color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Footer Placeholder 4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SC 290 - Constraint Satisfac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Slide Number Placeholder 5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AAD99-0736-44A6-BD02-0D2598DB6DB2}" type="slidenum">
              <a:rPr b="0" lang="en-US" sz="1600" spc="-1" strike="noStrike">
                <a:solidFill>
                  <a:srgbClr val="7b9899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4920" y="4161960"/>
            <a:ext cx="8650080" cy="19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7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b400"/>
                </a:solidFill>
                <a:latin typeface="Georgia"/>
              </a:rPr>
              <a:t>Variables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WA, NT, Q, NSW, V, SA, T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b400"/>
                </a:solidFill>
                <a:latin typeface="Georgia"/>
              </a:rPr>
              <a:t>Domains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eorgi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= {red,green,blue}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b400"/>
                </a:solidFill>
                <a:latin typeface="Georgia"/>
              </a:rPr>
              <a:t>Constraints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: adjacent regions must have different color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.g., WA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Arial"/>
              </a:rPr>
              <a:t>≠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NT, or (WA,NT) in {(red,green),(red,blue),(green,red), (green,blue),(blue,red),(blue,green)}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2" name="Picture 5" descr="australia"/>
          <p:cNvPicPr/>
          <p:nvPr/>
        </p:nvPicPr>
        <p:blipFill>
          <a:blip r:embed="rId1"/>
          <a:stretch/>
        </p:blipFill>
        <p:spPr>
          <a:xfrm>
            <a:off x="3200400" y="1447920"/>
            <a:ext cx="37814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Example: Map-Color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Footer Placeholder 4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SC 290 - Constraint Satisfac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Slide Number Placeholder 5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6510B-9BB9-4158-ABC4-F6D610650F62}" type="slidenum">
              <a:rPr b="0" lang="en-US" sz="1600" spc="-1" strike="noStrike">
                <a:solidFill>
                  <a:srgbClr val="7b9899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304920" y="4549320"/>
            <a:ext cx="865008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b400"/>
                </a:solidFill>
                <a:latin typeface="Georgia"/>
              </a:rPr>
              <a:t>Solutions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are </a:t>
            </a:r>
            <a:r>
              <a:rPr b="0" lang="en-US" sz="2600" spc="-1" strike="noStrike">
                <a:solidFill>
                  <a:srgbClr val="ff0000"/>
                </a:solidFill>
                <a:latin typeface="Georgia"/>
              </a:rPr>
              <a:t>complete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and </a:t>
            </a:r>
            <a:r>
              <a:rPr b="0" lang="en-US" sz="2600" spc="-1" strike="noStrike">
                <a:solidFill>
                  <a:srgbClr val="ff0000"/>
                </a:solidFill>
                <a:latin typeface="Georgia"/>
              </a:rPr>
              <a:t>consistent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assignments, e.g., WA = red, NT = green,Q = red,NSW = green,V = red,SA = blue,T = green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7" name="Picture 4" descr="australia-solution"/>
          <p:cNvPicPr/>
          <p:nvPr/>
        </p:nvPicPr>
        <p:blipFill>
          <a:blip r:embed="rId1"/>
          <a:stretch/>
        </p:blipFill>
        <p:spPr>
          <a:xfrm>
            <a:off x="2590920" y="1447920"/>
            <a:ext cx="37814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onstraint graph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Footer Placeholder 4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SC 290 - Constraint Satisfac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Slide Number Placeholder 5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47B3C-89B0-4D9D-AC73-F8F01009FB9A}" type="slidenum">
              <a:rPr b="0" lang="en-US" sz="1600" spc="-1" strike="noStrike">
                <a:solidFill>
                  <a:srgbClr val="7b9899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eorgia"/>
              </a:rPr>
              <a:t>Binary CSP: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each constraint relates two variabl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eorgia"/>
              </a:rPr>
              <a:t>Constraint graph: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nodes are variables, arcs are constraint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2" name="Picture 4" descr="australia-csp"/>
          <p:cNvPicPr/>
          <p:nvPr/>
        </p:nvPicPr>
        <p:blipFill>
          <a:blip r:embed="rId1"/>
          <a:stretch/>
        </p:blipFill>
        <p:spPr>
          <a:xfrm>
            <a:off x="1447920" y="2971800"/>
            <a:ext cx="367668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Varieties of CSP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4" name="Footer Placeholder 4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SC 290 - Constraint Satisfac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Slide Number Placeholder 5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F6841-88FE-4F3B-B422-58347EFA10E1}" type="slidenum">
              <a:rPr b="0" lang="en-US" sz="1600" spc="-1" strike="noStrike">
                <a:solidFill>
                  <a:srgbClr val="7b9899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Discrete variabl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finite domains: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lnSpc>
                <a:spcPct val="80000"/>
              </a:lnSpc>
              <a:spcBef>
                <a:spcPts val="45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variables, domain size </a:t>
            </a: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d </a:t>
            </a:r>
            <a:r>
              <a:rPr b="0" i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 O(d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Georgia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omplete assignment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80000"/>
              </a:lnSpc>
              <a:spcBef>
                <a:spcPts val="45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e.g., Boolean CSPs, incl.~Boolean satisfiability (NP-complete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infinite domains: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lnSpc>
                <a:spcPct val="80000"/>
              </a:lnSpc>
              <a:spcBef>
                <a:spcPts val="45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integers, strings, etc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80000"/>
              </a:lnSpc>
              <a:spcBef>
                <a:spcPts val="45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e.g., job scheduling, variables are start/end days for each job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80000"/>
              </a:lnSpc>
              <a:spcBef>
                <a:spcPts val="45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need a constraint language, e.g., </a:t>
            </a: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StartJob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 + 5 </a:t>
            </a:r>
            <a:r>
              <a:rPr b="0" i="1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≤ </a:t>
            </a: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StartJob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Georgi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80000"/>
              </a:lnSpc>
              <a:spcBef>
                <a:spcPts val="45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ntinuous variabl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e.g., start/end times for Hubble Space Telescope observations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linear constraints solvable in polynomial time by linear programming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Varieties of constraint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Footer Placeholder 4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SC 290 - Constraint Satisfac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Slide Number Placeholder 5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6B6E4-1107-41F6-85E5-1A70422F9C9D}" type="slidenum">
              <a:rPr b="0" lang="en-US" sz="1600" spc="-1" strike="noStrike">
                <a:solidFill>
                  <a:srgbClr val="7b9899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b400"/>
                </a:solidFill>
                <a:latin typeface="Georgia"/>
              </a:rPr>
              <a:t>Unary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constraints involve a single variable,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e.g., SA 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  <a:ea typeface="Arial"/>
              </a:rPr>
              <a:t>≠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green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b400"/>
                </a:solidFill>
                <a:latin typeface="Georgia"/>
              </a:rPr>
              <a:t>Binary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constraints involve pairs of variables,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e.g., SA 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  <a:ea typeface="Arial"/>
              </a:rPr>
              <a:t>≠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WA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b400"/>
                </a:solidFill>
                <a:latin typeface="Georgia"/>
              </a:rPr>
              <a:t>Higher-order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constraints involve 3 or more variables,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e.g., cryptarithmetic column constraint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64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4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4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Example: Cryptarithmetic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2" name="Footer Placeholder 4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SC 290 - Constraint Satisfac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Slide Number Placeholder 5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5BF1B-6F4A-4708-B0F1-F708D0BEDB55}" type="slidenum">
              <a:rPr b="0" lang="en-US" sz="1600" spc="-1" strike="noStrike">
                <a:solidFill>
                  <a:srgbClr val="7b9899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304920" y="3076200"/>
            <a:ext cx="8570880" cy="305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7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ccb400"/>
                </a:solidFill>
                <a:latin typeface="Georgia"/>
              </a:rPr>
              <a:t>Variables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:</a:t>
            </a:r>
            <a:r>
              <a:rPr b="0" i="1" lang="en-US" sz="1900" spc="-1" strike="noStrike">
                <a:solidFill>
                  <a:srgbClr val="000000"/>
                </a:solidFill>
                <a:latin typeface="Georgia"/>
              </a:rPr>
              <a:t> F T U W </a:t>
            </a:r>
            <a:br>
              <a:rPr sz="1900"/>
            </a:br>
            <a:r>
              <a:rPr b="0" i="1" lang="en-US" sz="1900" spc="-1" strike="noStrike">
                <a:solidFill>
                  <a:srgbClr val="000000"/>
                </a:solidFill>
                <a:latin typeface="Georgia"/>
              </a:rPr>
              <a:t>R O X</a:t>
            </a:r>
            <a:r>
              <a:rPr b="0" i="1" lang="en-US" sz="19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0" i="1" lang="en-US" sz="1900" spc="-1" strike="noStrike">
                <a:solidFill>
                  <a:srgbClr val="000000"/>
                </a:solidFill>
                <a:latin typeface="Georgia"/>
              </a:rPr>
              <a:t> X</a:t>
            </a:r>
            <a:r>
              <a:rPr b="0" i="1" lang="en-US" sz="1900" spc="-1" strike="noStrike" baseline="-25000">
                <a:solidFill>
                  <a:srgbClr val="000000"/>
                </a:solidFill>
                <a:latin typeface="Georgia"/>
              </a:rPr>
              <a:t>2 </a:t>
            </a:r>
            <a:r>
              <a:rPr b="0" i="1" lang="en-US" sz="19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i="1" lang="en-US" sz="1900" spc="-1" strike="noStrike" baseline="-25000">
                <a:solidFill>
                  <a:srgbClr val="000000"/>
                </a:solidFill>
                <a:latin typeface="Georgia"/>
              </a:rPr>
              <a:t>3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ccb400"/>
                </a:solidFill>
                <a:latin typeface="Georgia"/>
              </a:rPr>
              <a:t>Domains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: {</a:t>
            </a:r>
            <a:r>
              <a:rPr b="0" i="1" lang="en-US" sz="1900" spc="-1" strike="noStrike">
                <a:solidFill>
                  <a:srgbClr val="000000"/>
                </a:solidFill>
                <a:latin typeface="Georgia"/>
              </a:rPr>
              <a:t>0,1,2,3,4,5,6,7,8,9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ccb400"/>
                </a:solidFill>
                <a:latin typeface="Georgia"/>
              </a:rPr>
              <a:t>Constraints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: </a:t>
            </a:r>
            <a:r>
              <a:rPr b="0" i="1" lang="en-US" sz="1900" spc="-1" strike="noStrike">
                <a:solidFill>
                  <a:srgbClr val="000000"/>
                </a:solidFill>
                <a:latin typeface="Georgia"/>
              </a:rPr>
              <a:t>Alldiff (F,T,U,W,R,O)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70000"/>
              </a:lnSpc>
              <a:spcBef>
                <a:spcPts val="4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46b86"/>
                </a:solidFill>
                <a:latin typeface="Georgia"/>
              </a:rPr>
              <a:t>O + O = R + 10 </a:t>
            </a:r>
            <a:r>
              <a:rPr b="0" i="1" lang="en-US" sz="1600" spc="-1" strike="noStrike">
                <a:solidFill>
                  <a:srgbClr val="646b86"/>
                </a:solidFill>
                <a:latin typeface="Arial"/>
                <a:ea typeface="Arial"/>
              </a:rPr>
              <a:t>· </a:t>
            </a:r>
            <a:r>
              <a:rPr b="0" i="1" lang="en-US" sz="1600" spc="-1" strike="noStrike">
                <a:solidFill>
                  <a:srgbClr val="646b86"/>
                </a:solidFill>
                <a:latin typeface="Georgia"/>
              </a:rPr>
              <a:t>X</a:t>
            </a:r>
            <a:r>
              <a:rPr b="0" i="1" lang="en-US" sz="1600" spc="-1" strike="noStrike" baseline="-25000">
                <a:solidFill>
                  <a:srgbClr val="646b86"/>
                </a:solidFill>
                <a:latin typeface="Georgia"/>
              </a:rPr>
              <a:t>1</a:t>
            </a:r>
            <a:endParaRPr b="0" lang="en-US" sz="16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70000"/>
              </a:lnSpc>
              <a:spcBef>
                <a:spcPts val="4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46b86"/>
                </a:solidFill>
                <a:latin typeface="Georgia"/>
              </a:rPr>
              <a:t>X</a:t>
            </a:r>
            <a:r>
              <a:rPr b="0" i="1" lang="en-US" sz="1600" spc="-1" strike="noStrike" baseline="-25000">
                <a:solidFill>
                  <a:srgbClr val="646b86"/>
                </a:solidFill>
                <a:latin typeface="Georgia"/>
              </a:rPr>
              <a:t>1</a:t>
            </a:r>
            <a:r>
              <a:rPr b="0" i="1" lang="en-US" sz="1600" spc="-1" strike="noStrike">
                <a:solidFill>
                  <a:srgbClr val="646b86"/>
                </a:solidFill>
                <a:latin typeface="Georgia"/>
              </a:rPr>
              <a:t> + W + W = U + 10 </a:t>
            </a:r>
            <a:r>
              <a:rPr b="0" i="1" lang="en-US" sz="1600" spc="-1" strike="noStrike">
                <a:solidFill>
                  <a:srgbClr val="646b86"/>
                </a:solidFill>
                <a:latin typeface="Arial"/>
                <a:ea typeface="Arial"/>
              </a:rPr>
              <a:t>·</a:t>
            </a:r>
            <a:r>
              <a:rPr b="0" i="1" lang="en-US" sz="1600" spc="-1" strike="noStrike">
                <a:solidFill>
                  <a:srgbClr val="646b86"/>
                </a:solidFill>
                <a:latin typeface="Georgia"/>
              </a:rPr>
              <a:t> X</a:t>
            </a:r>
            <a:r>
              <a:rPr b="0" i="1" lang="en-US" sz="1600" spc="-1" strike="noStrike" baseline="-25000">
                <a:solidFill>
                  <a:srgbClr val="646b86"/>
                </a:solidFill>
                <a:latin typeface="Georgia"/>
              </a:rPr>
              <a:t>2</a:t>
            </a:r>
            <a:endParaRPr b="0" lang="en-US" sz="16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70000"/>
              </a:lnSpc>
              <a:spcBef>
                <a:spcPts val="4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46b86"/>
                </a:solidFill>
                <a:latin typeface="Georgia"/>
              </a:rPr>
              <a:t>X</a:t>
            </a:r>
            <a:r>
              <a:rPr b="0" i="1" lang="en-US" sz="1600" spc="-1" strike="noStrike" baseline="-25000">
                <a:solidFill>
                  <a:srgbClr val="646b86"/>
                </a:solidFill>
                <a:latin typeface="Georgia"/>
              </a:rPr>
              <a:t>2</a:t>
            </a:r>
            <a:r>
              <a:rPr b="0" i="1" lang="en-US" sz="1600" spc="-1" strike="noStrike">
                <a:solidFill>
                  <a:srgbClr val="646b86"/>
                </a:solidFill>
                <a:latin typeface="Georgia"/>
              </a:rPr>
              <a:t> + T + T </a:t>
            </a:r>
            <a:r>
              <a:rPr b="0" lang="en-US" sz="1600" spc="-1" strike="noStrike">
                <a:solidFill>
                  <a:srgbClr val="646b86"/>
                </a:solidFill>
                <a:latin typeface="Georgia"/>
              </a:rPr>
              <a:t>= </a:t>
            </a:r>
            <a:r>
              <a:rPr b="0" i="1" lang="en-US" sz="1600" spc="-1" strike="noStrike">
                <a:solidFill>
                  <a:srgbClr val="646b86"/>
                </a:solidFill>
                <a:latin typeface="Georgia"/>
              </a:rPr>
              <a:t>O + 10 </a:t>
            </a:r>
            <a:r>
              <a:rPr b="0" i="1" lang="en-US" sz="1600" spc="-1" strike="noStrike">
                <a:solidFill>
                  <a:srgbClr val="646b86"/>
                </a:solidFill>
                <a:latin typeface="Arial"/>
                <a:ea typeface="Arial"/>
              </a:rPr>
              <a:t>·</a:t>
            </a:r>
            <a:r>
              <a:rPr b="0" i="1" lang="en-US" sz="1600" spc="-1" strike="noStrike">
                <a:solidFill>
                  <a:srgbClr val="646b86"/>
                </a:solidFill>
                <a:latin typeface="Georgia"/>
              </a:rPr>
              <a:t> X</a:t>
            </a:r>
            <a:r>
              <a:rPr b="0" i="1" lang="en-US" sz="1600" spc="-1" strike="noStrike" baseline="-25000">
                <a:solidFill>
                  <a:srgbClr val="646b86"/>
                </a:solidFill>
                <a:latin typeface="Georgia"/>
              </a:rPr>
              <a:t>3</a:t>
            </a:r>
            <a:endParaRPr b="0" lang="en-US" sz="16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70000"/>
              </a:lnSpc>
              <a:spcBef>
                <a:spcPts val="4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46b86"/>
                </a:solidFill>
                <a:latin typeface="Georgia"/>
              </a:rPr>
              <a:t>X</a:t>
            </a:r>
            <a:r>
              <a:rPr b="0" i="1" lang="en-US" sz="1600" spc="-1" strike="noStrike" baseline="-25000">
                <a:solidFill>
                  <a:srgbClr val="646b86"/>
                </a:solidFill>
                <a:latin typeface="Georgia"/>
              </a:rPr>
              <a:t>3</a:t>
            </a:r>
            <a:r>
              <a:rPr b="0" lang="en-US" sz="1600" spc="-1" strike="noStrike">
                <a:solidFill>
                  <a:srgbClr val="646b86"/>
                </a:solidFill>
                <a:latin typeface="Georgia"/>
              </a:rPr>
              <a:t> = </a:t>
            </a:r>
            <a:r>
              <a:rPr b="0" i="1" lang="en-US" sz="1600" spc="-1" strike="noStrike">
                <a:solidFill>
                  <a:srgbClr val="646b86"/>
                </a:solidFill>
                <a:latin typeface="Georgia"/>
              </a:rPr>
              <a:t>F</a:t>
            </a:r>
            <a:r>
              <a:rPr b="0" lang="en-US" sz="1600" spc="-1" strike="noStrike">
                <a:solidFill>
                  <a:srgbClr val="646b86"/>
                </a:solidFill>
                <a:latin typeface="Georgia"/>
              </a:rPr>
              <a:t>, </a:t>
            </a:r>
            <a:r>
              <a:rPr b="0" i="1" lang="en-US" sz="1600" spc="-1" strike="noStrike">
                <a:solidFill>
                  <a:srgbClr val="646b86"/>
                </a:solidFill>
                <a:latin typeface="Georgia"/>
              </a:rPr>
              <a:t>T </a:t>
            </a:r>
            <a:r>
              <a:rPr b="0" lang="en-US" sz="1600" spc="-1" strike="noStrike">
                <a:solidFill>
                  <a:srgbClr val="646b86"/>
                </a:solidFill>
                <a:latin typeface="Georgia"/>
                <a:ea typeface="Arial"/>
              </a:rPr>
              <a:t>≠</a:t>
            </a:r>
            <a:r>
              <a:rPr b="0" lang="en-US" sz="1600" spc="-1" strike="noStrike">
                <a:solidFill>
                  <a:srgbClr val="646b86"/>
                </a:solidFill>
                <a:latin typeface="Georgia"/>
              </a:rPr>
              <a:t> 0, </a:t>
            </a:r>
            <a:r>
              <a:rPr b="0" i="1" lang="en-US" sz="1600" spc="-1" strike="noStrike">
                <a:solidFill>
                  <a:srgbClr val="646b86"/>
                </a:solidFill>
                <a:latin typeface="Georgia"/>
              </a:rPr>
              <a:t>F</a:t>
            </a:r>
            <a:r>
              <a:rPr b="0" lang="en-US" sz="1600" spc="-1" strike="noStrike">
                <a:solidFill>
                  <a:srgbClr val="646b86"/>
                </a:solidFill>
                <a:latin typeface="Georgia"/>
              </a:rPr>
              <a:t> </a:t>
            </a:r>
            <a:r>
              <a:rPr b="0" lang="en-US" sz="1600" spc="-1" strike="noStrike">
                <a:solidFill>
                  <a:srgbClr val="646b86"/>
                </a:solidFill>
                <a:latin typeface="Georgia"/>
                <a:ea typeface="Arial"/>
              </a:rPr>
              <a:t>≠</a:t>
            </a:r>
            <a:r>
              <a:rPr b="0" lang="en-US" sz="1600" spc="-1" strike="noStrike">
                <a:solidFill>
                  <a:srgbClr val="646b86"/>
                </a:solidFill>
                <a:latin typeface="Georgia"/>
              </a:rPr>
              <a:t> 0</a:t>
            </a:r>
            <a:endParaRPr b="0" lang="en-US" sz="16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70000"/>
              </a:lnSpc>
              <a:spcBef>
                <a:spcPts val="4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70000"/>
              </a:lnSpc>
              <a:spcBef>
                <a:spcPts val="4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70000"/>
              </a:lnSpc>
              <a:spcBef>
                <a:spcPts val="476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5" name="Picture 5" descr="cryptarithmetic"/>
          <p:cNvPicPr/>
          <p:nvPr/>
        </p:nvPicPr>
        <p:blipFill>
          <a:blip r:embed="rId1"/>
          <a:stretch/>
        </p:blipFill>
        <p:spPr>
          <a:xfrm>
            <a:off x="2590920" y="1676520"/>
            <a:ext cx="587376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7T05:14:46Z</dcterms:created>
  <dc:creator>Min-Yen Kan</dc:creator>
  <dc:description/>
  <dc:language>en-US</dc:language>
  <cp:lastModifiedBy>Sadi SEKER</cp:lastModifiedBy>
  <dcterms:modified xsi:type="dcterms:W3CDTF">2017-02-18T19:08:48Z</dcterms:modified>
  <cp:revision>6</cp:revision>
  <dc:subject/>
  <dc:title>Constraint Satisfaction Problems</dc:title>
</cp:coreProperties>
</file>