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57D8E-AAE6-46F2-9C3A-1D975FA42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A0A87-B916-43E4-AFB9-96D378D0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941E40-70D1-4096-8690-C18AD35C46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18A8308-A1B5-4932-9184-30E3B7FBDBF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9336A1-5F43-4CCD-9100-1AC14FB815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8B4BC1-7DB2-4ED3-BC80-5E8A16313C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A2DF463-C8E2-4BF4-8440-79B429B6FF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E1D38B-A6AA-418D-81AA-E56191F72D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8226D6E-7D2B-471D-AD54-226E7CF062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19A8D41-6CF3-4392-AAEC-73BDA8E5903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BBF49DF-AD92-45CB-A213-836867C0ACC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D951DE-2B99-437C-9A72-C294F837F6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6353F-7AFF-46CD-BC9E-B5F1BEF92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59BB3BB-897D-4A97-9231-A503B897B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CB56CE-AC52-4AA8-9B35-460AD2CF2F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9DEBC5-819D-4079-ADC0-4D55847C98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9FF7E0-6A32-4704-A1CC-D8210A08FE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57F695E-4130-4C2C-A900-0904380196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E2661E-23A2-41EB-AE19-B52BB0317B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FFA4F4D-3F67-4A1F-B233-6CF8879460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E2F721-FC4D-4B13-8D91-8D85D73FC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469E3FE-6325-4D95-81C2-6EF3A68D82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A4802E5-B974-49D9-BA4D-60D65D10C3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D7E8C-13FB-49AE-8956-9F77ADD2A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74C09EC-868B-41F2-A25D-E5BA5AA6AE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CFC951-C24A-42BA-A0A1-4387EE07F0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6BA1C5-3D1D-4E65-B0AA-3D6928231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B544BF-3E5D-4DB0-BA1D-99E4234E59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B6A028-6AE2-47B0-BC0D-79465C0CC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5105F6-E5DD-491B-803E-E52BB8783E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62C07B-1B0F-4327-BF02-6269AEB62B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F29B4-D233-4505-A2E5-FCE47DA0F0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F3AA91-A75A-43A1-8125-E303485EBC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E9477-B643-4DDD-BCF7-7F888A6AEB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24A65-6CCD-42B5-8AA1-BB81CA91F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51D8B3-B035-41D9-809B-AC444AC58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2B492E-869D-4EDA-8C01-4587753279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7F44FA-FE9A-45D4-A714-3E713A0105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01E917C-B1D3-49C1-A522-D7479677C0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2356136-1EC1-405D-A06A-FB81F8B8DD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8B2BEE-85BC-4E59-9E1E-48A99661F8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CA31D5-3947-441C-94D1-77F099BC45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D853E1F-D5E0-47A6-8BC8-7800C88C1C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7BF4E64-677D-4FF6-9318-72CFDDC8FB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8F06E9-1C3F-4737-8764-66C654EE6E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3C771-AB84-41A4-BF53-89530A1DA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23D2846-A194-4690-83A0-7D3229363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141812-64E9-4931-9347-AC004544B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FABA65B-499C-4290-B696-560A1E09F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6E279F1-6FB3-42DA-BB87-911E737C5F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677BF32-8C4B-46DF-A677-4039E03E13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9255D-B776-4FA1-9DD0-4BD03F2A0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4D4C-A27C-44AF-BA74-CF89A6107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3DD78-2122-415B-85D6-73A7E0EB3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C4C09-7FA7-4FD4-9C07-37AC28D0A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689DC-272D-4C16-8939-BC7C2855A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2535-CFE5-4C38-92FD-12B0FD424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E75C5-E9D8-4A5D-B4E6-22542E8B0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FFDD4-3FED-4E2C-B4C3-5B954DC9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BC188-F039-4336-B7D8-9BDDBAE57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0BAC4-72A9-4207-AA90-A6F1A1219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8F5A8-DF17-42D2-AA42-47FC6831D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6A4A64-58A8-4975-8E96-C5840F61C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A7A5F-F856-4B60-8BFE-BE63BDA38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0C7D5-685E-4600-A3B9-57FD2C98E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90493-D26B-43F8-92D5-682875EFF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F329D-FB97-4A7A-A3C8-79DA13B9D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15B76-4255-4009-829C-BC96D3BB0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F28E8-118E-40B3-A9B8-2551CF1B5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C754A-DD3A-41BF-B1EB-0FFB7BB90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B9706-4100-4881-84DE-19FD9BFDE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62CF1-C7F7-4C2A-B909-2C600657A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1D726-843E-43EB-A11B-955839CC0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C77C8B-2067-459E-B42A-0396CC88EE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E1541A-CDEB-4576-9354-6EFB4544E5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263B6FB-2E76-4C0F-AE6E-F50D04DF871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F4CCF0-D0E4-440A-B960-CB158B6EBE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90B921-D483-421C-99AF-3DA20AEDDB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9CFEA-4F68-4465-ABD4-D2BD4B47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1E62926-9731-462D-B441-1010F4C7CF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F3EEF1-CC9E-44AE-9E6A-5F02F18717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A3889C-07EF-40CB-9B1A-95D474BD57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8967737-85E3-43AD-88AB-E781D8CAF2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E347CB-FA00-4016-9B95-8C41CD8104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01F18CE-96DA-45B3-9626-0DEE1D9B5D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47CC21B-9453-4996-9FC2-B744D70ADD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CF49AE2-F604-4B5C-BDBC-EA8E820D501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DDEF9B4-BBB6-4467-B443-536AD470858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609919-5119-490E-8059-94186357B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BF3F-616F-46F1-8968-A25B5B431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FBDBC3-24A9-4A5A-A7F1-D1D8773876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10C87-F757-4F3F-9F2D-BCB3BE36A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5E6C2-CA60-4724-AA1E-2AA0E703F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E5248-F6FD-4529-800D-C1B040DC0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777535-FDF7-4702-BB06-8E19A2D8C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39123-D39E-4B8D-BB16-FBE9F60BD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3CC63-FD05-4416-BC31-3A9FC8311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9C66D-27E6-4A31-881D-E7001882A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CADB3F-09C0-4ED6-B82B-970BA0F28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FA3457-6D8E-4B75-BBFD-B7DDCBF3DB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4136-9A5B-4E22-BCC8-E92F9884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C98719-9CF2-46E5-B7A3-52B01F710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103F6F-7AAA-4570-9462-3D27BE6ED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48E80-BF94-4ED4-986F-A7950205A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BBCD1-9AC9-4BFE-8EC0-8288A60602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AFA2F-9F24-45DB-87FF-ED2129915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278E7-6A0A-46C6-8B18-F8C3D5EB7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E0D766-1968-4ED2-B020-37DA9A715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26ABD-D1AD-40C7-82BD-CF8029972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E857D-482B-4736-9E82-160043DFC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F29DE-43A7-443D-AA2C-9CC3A729F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8977-427C-4AB6-B94F-528820BFC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FF9D9-C18C-4DA4-98F9-26973E02A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347130-25F6-4F7C-8CD3-E8FAA6325E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FBEDA3-E56E-4467-8133-87DB9A9C8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DDC690-5F0F-48FD-8FAC-921DA6588B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20473-89DB-4B0B-96E1-6A78524C0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10F7B0-A2AE-4163-A834-697E31915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5B1AF-3F3E-4DE8-A543-16E770A73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DE38E-EED9-42D4-9FE0-EA64A0671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5D714-CC0B-4290-8353-22FAC7D03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97EB3-05CE-4855-9A06-3C2918272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CE98-688D-4E11-8E2D-2718339EF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C6174-6096-427A-BBFD-9EDDE7511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4E49DF-2E29-41FC-AAB5-3E8CD81F1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623926-95EE-4F0D-9EA3-3D39DB54EA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28080D-91E1-4A72-AC6C-C7E252D1F4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094338-230E-46B8-B3D2-F8B6B5AE13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723B7B-8282-4511-9261-9EBFB53394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3C00B-9434-4F8F-9D5E-020B77795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F0BBC-7F80-43FA-B5CB-B282F0BB4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F0CDA-85B7-477D-8194-34DFF18E5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AAD2A4-D7FB-4C42-A340-C497D8916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9040-1ECB-4736-8245-B01A45B3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D13016-8946-4741-9A00-E7A3C83B9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E418B-D314-423B-A3C4-58F90C6C0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D7A9C-AFD9-4D46-8951-A9A194832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AE80A-2267-4F4B-927A-8D52872CF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CD7F9-57B4-424E-A25F-DA490030B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4A659F-DC54-4E3D-8FAC-ED0BC031E1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D57666-4B23-4588-AFA3-6419C8DDB3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317CDCE-1F02-488A-B976-7BD4AE7688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00BA101-03BC-4E83-B465-A5132F7C37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41C1B3B-CA44-4D5A-9161-69BA9E82096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BFC9-DA6B-4E19-87FA-4252F32FE3A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75A5-739C-4F5D-B40F-C1448652D1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6507-67E4-43FE-88E1-F5DF003B46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101C-37A4-46F0-BD83-712F8250DD3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6F0C-0DC5-4BBA-9350-8089EA469E4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EA1D-8C77-4BC1-87A3-38AA35E9AB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A00C-6EE4-4256-9163-1DE95F8841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8003-5029-4DE0-A94D-E98D2FD0748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76CB-500E-4D4D-8A15-0B1C0BE12E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6B53-52C2-46B2-A8EE-E3F7BAA99A9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F311-0214-48F5-8992-F8107BC69FA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5E6B-FFDF-4FCB-9E61-2CD8CC5F5EE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apter 2</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telligent Agent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AS: Performance measure, Environment, Actuators, Sensor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st first specify the setting for intelligent agent design</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 e.g., the task of designing an automated taxi driver:</a:t>
            </a:r>
            <a:endParaRPr b="0" lang="en-US" sz="2400" spc="-1" strike="noStrike">
              <a:solidFill>
                <a:srgbClr val="000000"/>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formance measure</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nvironment</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ctuator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ensor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st first specify the setting for intelligent agent design</a:t>
            </a:r>
            <a:endParaRPr b="0" lang="en-US" sz="2400" spc="-1" strike="noStrike">
              <a:solidFill>
                <a:srgbClr val="000000"/>
              </a:solidFill>
              <a:latin typeface="Georgia"/>
            </a:endParaRPr>
          </a:p>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der, e.g., the task of designing an automated taxi driver:</a:t>
            </a:r>
            <a:endParaRPr b="0" lang="en-US" sz="2400" spc="-1" strike="noStrike">
              <a:solidFill>
                <a:srgbClr val="000000"/>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Performance measure: Safe, fast, legal, comfortable trip, maximize profits</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Environment: Roads, other traffic, pedestrians, customers</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Actuators: Steering wheel, accelerator, brake, signal, horn</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Sensors: Cameras, sonar, speedometer, GPS, odometer, engine sensors, keyboard</a:t>
            </a:r>
            <a:endParaRPr b="0" lang="en-US" sz="20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 </a:t>
            </a:r>
            <a:endParaRPr b="0" lang="en-US" sz="2200" spc="-1" strike="noStrike">
              <a:solidFill>
                <a:srgbClr val="646b86"/>
              </a:solidFill>
              <a:latin typeface="Georgia"/>
            </a:endParaRPr>
          </a:p>
          <a:p>
            <a:pPr lvl="1" marL="547560" indent="-272880">
              <a:lnSpc>
                <a:spcPct val="7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7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Medical diagnosis syst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Healthy patient, minimize costs, lawsu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Patient, hospital, staff</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Screen display (questions, tests, diagnoses, treatments, referr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Keyboard (entry of symptoms, findings, patient's answe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Part-picking rob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Percentage of parts in correct b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Conveyor belt with parts, b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Jointed arm and han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Camera, joint angle senso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A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Interactive English tut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formance measure: Maximize student's score on tes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Set of stud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tors: Screen display (exercises, suggestions, corre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ors: Keyboar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Fully observable</a:t>
            </a:r>
            <a:r>
              <a:rPr b="0" lang="en-US" sz="2200" spc="-1" strike="noStrike">
                <a:solidFill>
                  <a:srgbClr val="000000"/>
                </a:solidFill>
                <a:latin typeface="Georgia"/>
              </a:rPr>
              <a:t> (vs. partially observable): An agent's sensors give it access to the complete state of the environment at each point in time.</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Deterministic</a:t>
            </a:r>
            <a:r>
              <a:rPr b="0" lang="en-US" sz="2200" spc="-1" strike="noStrike">
                <a:solidFill>
                  <a:srgbClr val="000000"/>
                </a:solidFill>
                <a:latin typeface="Georgia"/>
              </a:rPr>
              <a:t> (vs. stochastic): The next state of the environment is completely determined by the current state and the action executed by the agent. (If the environment is deterministic except for the actions of other agents, then the environment is </a:t>
            </a:r>
            <a:r>
              <a:rPr b="0" lang="en-US" sz="2200" spc="-1" strike="noStrike">
                <a:solidFill>
                  <a:srgbClr val="ff0000"/>
                </a:solidFill>
                <a:latin typeface="Georgia"/>
              </a:rPr>
              <a:t>strategic</a:t>
            </a:r>
            <a:r>
              <a:rPr b="0" lang="en-US" sz="2200" spc="-1" strike="noStrike">
                <a:solidFill>
                  <a:srgbClr val="000000"/>
                </a:solidFill>
                <a:latin typeface="Georgia"/>
              </a:rPr>
              <a:t>)</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Episodic </a:t>
            </a:r>
            <a:r>
              <a:rPr b="0" lang="en-US" sz="2200" spc="-1" strike="noStrike">
                <a:solidFill>
                  <a:srgbClr val="000000"/>
                </a:solidFill>
                <a:latin typeface="Georgia"/>
              </a:rPr>
              <a:t>(vs. sequential): The agent's experience is divided into atomic "episodes" (each episode consists of the agent perceiving and then performing a single action), and the choice of action in each episode depends only on the episode itself.</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Static </a:t>
            </a:r>
            <a:r>
              <a:rPr b="0" lang="en-US" sz="2600" spc="-1" strike="noStrike">
                <a:solidFill>
                  <a:srgbClr val="000000"/>
                </a:solidFill>
                <a:latin typeface="Georgia"/>
              </a:rPr>
              <a:t>(vs. dynamic): The environment is unchanged while an agent is deliberating. (The environment is </a:t>
            </a:r>
            <a:r>
              <a:rPr b="0" lang="en-US" sz="2600" spc="-1" strike="noStrike">
                <a:solidFill>
                  <a:srgbClr val="ff0000"/>
                </a:solidFill>
                <a:latin typeface="Georgia"/>
              </a:rPr>
              <a:t>semidynamic</a:t>
            </a:r>
            <a:r>
              <a:rPr b="0" lang="en-US" sz="2600" spc="-1" strike="noStrike">
                <a:solidFill>
                  <a:srgbClr val="000000"/>
                </a:solidFill>
                <a:latin typeface="Georgia"/>
              </a:rPr>
              <a:t> if the environment itself does not change with the passage of time but the agent's performance score doe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Discrete</a:t>
            </a:r>
            <a:r>
              <a:rPr b="0" lang="en-US" sz="2600" spc="-1" strike="noStrike">
                <a:solidFill>
                  <a:srgbClr val="000000"/>
                </a:solidFill>
                <a:latin typeface="Georgia"/>
              </a:rPr>
              <a:t> (vs. continuous): A limited number of distinct, clearly defined percepts and action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eorgia"/>
              </a:rPr>
              <a:t>Single agent</a:t>
            </a:r>
            <a:r>
              <a:rPr b="0" lang="en-US" sz="2600" spc="-1" strike="noStrike">
                <a:solidFill>
                  <a:srgbClr val="000000"/>
                </a:solidFill>
                <a:latin typeface="Georgia"/>
              </a:rPr>
              <a:t> (vs. multiagent): An agent operating by itself in an environment.</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 type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Chess with </a:t>
            </a:r>
            <a:r>
              <a:rPr b="0" lang="en-US" sz="2000" spc="-1" strike="noStrike">
                <a:solidFill>
                  <a:srgbClr val="000000"/>
                </a:solidFill>
                <a:latin typeface="Georgia"/>
              </a:rPr>
              <a:t>	</a:t>
            </a:r>
            <a:r>
              <a:rPr b="0" lang="en-US" sz="2000" spc="-1" strike="noStrike">
                <a:solidFill>
                  <a:srgbClr val="000000"/>
                </a:solidFill>
                <a:latin typeface="Georgia"/>
              </a:rPr>
              <a:t>Chess without </a:t>
            </a:r>
            <a:r>
              <a:rPr b="0" lang="en-US" sz="2000" spc="-1" strike="noStrike">
                <a:solidFill>
                  <a:srgbClr val="000000"/>
                </a:solidFill>
                <a:latin typeface="Georgia"/>
              </a:rPr>
              <a:t>	</a:t>
            </a:r>
            <a:r>
              <a:rPr b="0" lang="en-US" sz="2000" spc="-1" strike="noStrike">
                <a:solidFill>
                  <a:srgbClr val="000000"/>
                </a:solidFill>
                <a:latin typeface="Georgia"/>
              </a:rPr>
              <a:t>Taxi driving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a clock</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a clock</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lly observable</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terministic</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Strategic</a:t>
            </a:r>
            <a:r>
              <a:rPr b="0" lang="en-US" sz="2000" spc="-1" strike="noStrike">
                <a:solidFill>
                  <a:srgbClr val="000000"/>
                </a:solidFill>
                <a:latin typeface="Georgia"/>
              </a:rPr>
              <a:t>	</a:t>
            </a:r>
            <a:r>
              <a:rPr b="0" lang="en-US" sz="2000" spc="-1" strike="noStrike">
                <a:solidFill>
                  <a:srgbClr val="000000"/>
                </a:solidFill>
                <a:latin typeface="Georgia"/>
              </a:rPr>
              <a:t>Strategic</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pisodic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atic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Semi</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rete</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Yes</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ngle agent</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No </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nvironment type largely determines the agent design</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real world is (of course) partially observable, stochastic, sequential, dynamic, continuous, multi-agent</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642"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functions and program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agent is completely specified by the </a:t>
            </a:r>
            <a:r>
              <a:rPr b="0" lang="en-US" sz="2700" spc="-1" strike="noStrike" u="sng">
                <a:solidFill>
                  <a:srgbClr val="000000"/>
                </a:solidFill>
                <a:uFillTx/>
                <a:latin typeface="Georgia"/>
              </a:rPr>
              <a:t>agent function</a:t>
            </a:r>
            <a:r>
              <a:rPr b="0" lang="en-US" sz="2700" spc="-1" strike="noStrike">
                <a:solidFill>
                  <a:srgbClr val="000000"/>
                </a:solidFill>
                <a:latin typeface="Georgia"/>
              </a:rPr>
              <a:t> mapping percept sequences to a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e agent function (or a small equivalence class) is </a:t>
            </a:r>
            <a:r>
              <a:rPr b="0" lang="en-US" sz="2700" spc="-1" strike="noStrike" u="sng">
                <a:solidFill>
                  <a:srgbClr val="000000"/>
                </a:solidFill>
                <a:uFillTx/>
                <a:latin typeface="Georgia"/>
              </a:rPr>
              <a:t>ration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im: find a way to implement the rational agent function concisel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able-lookup agent</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table-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wback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uge ta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ake a long time to build the tabl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No autonom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ven with learning, need a long time to learn the table entri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utline</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s and environm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ion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AS (Performance measure, Environment, Actuators, Senso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vironment typ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 typ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program for a vacuum-cleaner agent</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reflex-vacuum-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 type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 basic types in order of increasing gener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mple reflex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el-based reflex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based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tility-based agen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le reflex agents</a:t>
            </a:r>
            <a:endParaRPr b="0" lang="en-US" sz="3300" spc="-1" strike="noStrike">
              <a:solidFill>
                <a:srgbClr val="7b9899"/>
              </a:solidFill>
              <a:latin typeface="Georgia"/>
            </a:endParaRPr>
          </a:p>
        </p:txBody>
      </p:sp>
      <p:pic>
        <p:nvPicPr>
          <p:cNvPr id="652" name="Picture 4" descr="simple-reflex-agent"/>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le reflex agents</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d-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odel-based reflex agents</a:t>
            </a:r>
            <a:endParaRPr b="0" lang="en-US" sz="3300" spc="-1" strike="noStrike">
              <a:solidFill>
                <a:srgbClr val="7b9899"/>
              </a:solidFill>
              <a:latin typeface="Georgia"/>
            </a:endParaRPr>
          </a:p>
        </p:txBody>
      </p:sp>
      <p:pic>
        <p:nvPicPr>
          <p:cNvPr id="656" name="Picture 4" descr="reflex+state-agent"/>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odel-based reflex agents</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algorithms/d+-agent-algorith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al-based agents</a:t>
            </a:r>
            <a:endParaRPr b="0" lang="en-US" sz="3300" spc="-1" strike="noStrike">
              <a:solidFill>
                <a:srgbClr val="7b9899"/>
              </a:solidFill>
              <a:latin typeface="Georgia"/>
            </a:endParaRPr>
          </a:p>
        </p:txBody>
      </p:sp>
      <p:pic>
        <p:nvPicPr>
          <p:cNvPr id="660" name="Picture 5" descr="goal-based-agent"/>
          <p:cNvPicPr/>
          <p:nvPr/>
        </p:nvPicPr>
        <p:blipFill>
          <a:blip r:embed="rId1"/>
          <a:stretch/>
        </p:blipFill>
        <p:spPr>
          <a:xfrm>
            <a:off x="304920" y="1295280"/>
            <a:ext cx="8229600" cy="5238720"/>
          </a:xfrm>
          <a:prstGeom prst="rect">
            <a:avLst/>
          </a:prstGeom>
          <a:ln w="0">
            <a:noFill/>
          </a:ln>
        </p:spPr>
      </p:pic>
      <p:sp>
        <p:nvSpPr>
          <p:cNvPr id="66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tility-based agents</a:t>
            </a:r>
            <a:endParaRPr b="0" lang="en-US" sz="3300" spc="-1" strike="noStrike">
              <a:solidFill>
                <a:srgbClr val="7b9899"/>
              </a:solidFill>
              <a:latin typeface="Georgia"/>
            </a:endParaRPr>
          </a:p>
        </p:txBody>
      </p:sp>
      <p:pic>
        <p:nvPicPr>
          <p:cNvPr id="663" name="Picture 5" descr="utility-based-agent"/>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earning agents</a:t>
            </a:r>
            <a:endParaRPr b="0" lang="en-US" sz="3300" spc="-1" strike="noStrike">
              <a:solidFill>
                <a:srgbClr val="7b9899"/>
              </a:solidFill>
              <a:latin typeface="Georgia"/>
            </a:endParaRPr>
          </a:p>
        </p:txBody>
      </p:sp>
      <p:pic>
        <p:nvPicPr>
          <p:cNvPr id="665" name="Picture 9" descr="learning-agent"/>
          <p:cNvPicPr/>
          <p:nvPr/>
        </p:nvPicPr>
        <p:blipFill>
          <a:blip r:embed="rId1"/>
          <a:srcRect l="0" t="11736" r="0" b="11736"/>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s</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t>
            </a:r>
            <a:r>
              <a:rPr b="0" lang="en-US" sz="2600" spc="-1" strike="noStrike">
                <a:solidFill>
                  <a:srgbClr val="ff0000"/>
                </a:solidFill>
                <a:latin typeface="Georgia"/>
              </a:rPr>
              <a:t>agent</a:t>
            </a:r>
            <a:r>
              <a:rPr b="0" lang="en-US" sz="2600" spc="-1" strike="noStrike">
                <a:solidFill>
                  <a:srgbClr val="000000"/>
                </a:solidFill>
                <a:latin typeface="Georgia"/>
              </a:rPr>
              <a:t> is anything that can be viewed as </a:t>
            </a:r>
            <a:r>
              <a:rPr b="0" lang="en-US" sz="2600" spc="-1" strike="noStrike">
                <a:solidFill>
                  <a:srgbClr val="ff0000"/>
                </a:solidFill>
                <a:latin typeface="Georgia"/>
              </a:rPr>
              <a:t>perceiving</a:t>
            </a:r>
            <a:r>
              <a:rPr b="0" lang="en-US" sz="2600" spc="-1" strike="noStrike">
                <a:solidFill>
                  <a:srgbClr val="000000"/>
                </a:solidFill>
                <a:latin typeface="Georgia"/>
              </a:rPr>
              <a:t> its </a:t>
            </a:r>
            <a:r>
              <a:rPr b="0" lang="en-US" sz="2600" spc="-1" strike="noStrike">
                <a:solidFill>
                  <a:srgbClr val="ff0000"/>
                </a:solidFill>
                <a:latin typeface="Georgia"/>
              </a:rPr>
              <a:t>environment</a:t>
            </a:r>
            <a:r>
              <a:rPr b="0" lang="en-US" sz="2600" spc="-1" strike="noStrike">
                <a:solidFill>
                  <a:srgbClr val="000000"/>
                </a:solidFill>
                <a:latin typeface="Georgia"/>
              </a:rPr>
              <a:t> through </a:t>
            </a:r>
            <a:r>
              <a:rPr b="0" lang="en-US" sz="2600" spc="-1" strike="noStrike">
                <a:solidFill>
                  <a:srgbClr val="ff0000"/>
                </a:solidFill>
                <a:latin typeface="Georgia"/>
              </a:rPr>
              <a:t>sensors</a:t>
            </a:r>
            <a:r>
              <a:rPr b="0" lang="en-US" sz="2600" spc="-1" strike="noStrike">
                <a:solidFill>
                  <a:srgbClr val="000000"/>
                </a:solidFill>
                <a:latin typeface="Georgia"/>
              </a:rPr>
              <a:t> and </a:t>
            </a:r>
            <a:r>
              <a:rPr b="0" lang="en-US" sz="2600" spc="-1" strike="noStrike">
                <a:solidFill>
                  <a:srgbClr val="ff0000"/>
                </a:solidFill>
                <a:latin typeface="Georgia"/>
              </a:rPr>
              <a:t>acting</a:t>
            </a:r>
            <a:r>
              <a:rPr b="0" lang="en-US" sz="2600" spc="-1" strike="noStrike">
                <a:solidFill>
                  <a:srgbClr val="000000"/>
                </a:solidFill>
                <a:latin typeface="Georgia"/>
              </a:rPr>
              <a:t> upon that environment through </a:t>
            </a:r>
            <a:r>
              <a:rPr b="0" lang="en-US" sz="2600" spc="-1" strike="noStrike">
                <a:solidFill>
                  <a:srgbClr val="ff0000"/>
                </a:solidFill>
                <a:latin typeface="Georgia"/>
              </a:rPr>
              <a:t>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uman agent: eyes, ears, and other organs for sensors; hand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gs, mouth, and other body parts for 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obotic agent: cameras and infrared range finders for sens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arious motors for actuators</a:t>
            </a:r>
            <a:endParaRPr b="0" lang="en-US" sz="26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gents and environments</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lang="en-US" sz="2400" spc="-1" strike="noStrike">
                <a:solidFill>
                  <a:srgbClr val="ff0000"/>
                </a:solidFill>
                <a:latin typeface="Georgia"/>
              </a:rPr>
              <a:t>agent</a:t>
            </a:r>
            <a:r>
              <a:rPr b="0" lang="en-US" sz="2400" spc="-1" strike="noStrike">
                <a:solidFill>
                  <a:srgbClr val="000000"/>
                </a:solidFill>
                <a:latin typeface="Georgia"/>
              </a:rPr>
              <a:t> </a:t>
            </a:r>
            <a:r>
              <a:rPr b="0" lang="en-US" sz="2400" spc="-1" strike="noStrike">
                <a:solidFill>
                  <a:srgbClr val="ff0000"/>
                </a:solidFill>
                <a:latin typeface="Georgia"/>
              </a:rPr>
              <a:t>function</a:t>
            </a:r>
            <a:r>
              <a:rPr b="0" lang="en-US" sz="2400" spc="-1" strike="noStrike">
                <a:solidFill>
                  <a:srgbClr val="000000"/>
                </a:solidFill>
                <a:latin typeface="Georgia"/>
              </a:rPr>
              <a:t> maps from percept histories to actions:</a:t>
            </a:r>
            <a:endParaRPr b="0" lang="en-US" sz="24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i="1" lang="en-US" sz="2400" spc="-1" strike="noStrike">
                <a:solidFill>
                  <a:srgbClr val="000000"/>
                </a:solidFill>
                <a:latin typeface="Georgia"/>
              </a:rPr>
              <a:t>f</a:t>
            </a:r>
            <a:r>
              <a:rPr b="0" lang="en-US" sz="2400" spc="-1" strike="noStrike">
                <a:solidFill>
                  <a:srgbClr val="000000"/>
                </a:solidFill>
                <a:latin typeface="Georgia"/>
              </a:rPr>
              <a:t>: </a:t>
            </a:r>
            <a:r>
              <a:rPr b="0" lang="en-US" sz="2400" spc="-1" strike="noStrike">
                <a:solidFill>
                  <a:srgbClr val="000000"/>
                </a:solidFill>
                <a:latin typeface="Monotype Corsiva"/>
              </a:rPr>
              <a:t>P*</a:t>
            </a:r>
            <a:r>
              <a:rPr b="0" lang="en-US" sz="2400" spc="-1" strike="noStrike">
                <a:solidFill>
                  <a:srgbClr val="000000"/>
                </a:solidFill>
                <a:latin typeface="Georgia"/>
              </a:rPr>
              <a:t> </a:t>
            </a:r>
            <a:r>
              <a:rPr b="0" lang="en-US" sz="2400" spc="-1" strike="noStrike">
                <a:solidFill>
                  <a:srgbClr val="000000"/>
                </a:solidFill>
                <a:latin typeface="Wingdings"/>
                <a:ea typeface="Wingdings"/>
              </a:rPr>
              <a:t></a:t>
            </a:r>
            <a:r>
              <a:rPr b="0" lang="en-US" sz="2400" spc="-1" strike="noStrike">
                <a:solidFill>
                  <a:srgbClr val="000000"/>
                </a:solidFill>
                <a:latin typeface="Georgia"/>
              </a:rPr>
              <a:t> </a:t>
            </a:r>
            <a:r>
              <a:rPr b="0" lang="en-US" sz="2400" spc="-1" strike="noStrike">
                <a:solidFill>
                  <a:srgbClr val="000000"/>
                </a:solidFill>
                <a:latin typeface="Monotype Corsiva"/>
              </a:rPr>
              <a:t>A</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lang="en-US" sz="2400" spc="-1" strike="noStrike">
                <a:solidFill>
                  <a:srgbClr val="ff0000"/>
                </a:solidFill>
                <a:latin typeface="Georgia"/>
              </a:rPr>
              <a:t>agent</a:t>
            </a:r>
            <a:r>
              <a:rPr b="0" lang="en-US" sz="2400" spc="-1" strike="noStrike">
                <a:solidFill>
                  <a:srgbClr val="000000"/>
                </a:solidFill>
                <a:latin typeface="Georgia"/>
              </a:rPr>
              <a:t> </a:t>
            </a:r>
            <a:r>
              <a:rPr b="0" lang="en-US" sz="2400" spc="-1" strike="noStrike">
                <a:solidFill>
                  <a:srgbClr val="ff0000"/>
                </a:solidFill>
                <a:latin typeface="Georgia"/>
              </a:rPr>
              <a:t>program</a:t>
            </a:r>
            <a:r>
              <a:rPr b="0" lang="en-US" sz="2400" spc="-1" strike="noStrike">
                <a:solidFill>
                  <a:srgbClr val="000000"/>
                </a:solidFill>
                <a:latin typeface="Georgia"/>
              </a:rPr>
              <a:t> runs on the physical </a:t>
            </a:r>
            <a:r>
              <a:rPr b="0" lang="en-US" sz="2400" spc="-1" strike="noStrike">
                <a:solidFill>
                  <a:srgbClr val="ff0000"/>
                </a:solidFill>
                <a:latin typeface="Georgia"/>
              </a:rPr>
              <a:t>architecture</a:t>
            </a:r>
            <a:r>
              <a:rPr b="0" lang="en-US" sz="2400" spc="-1" strike="noStrike">
                <a:solidFill>
                  <a:srgbClr val="000000"/>
                </a:solidFill>
                <a:latin typeface="Georgia"/>
              </a:rPr>
              <a:t> to produce </a:t>
            </a:r>
            <a:r>
              <a:rPr b="0" i="1" lang="en-US" sz="2400" spc="-1" strike="noStrike">
                <a:solidFill>
                  <a:srgbClr val="000000"/>
                </a:solidFill>
                <a:latin typeface="Georgia"/>
              </a:rPr>
              <a:t>f</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gent = architecture + program</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14" name="Picture 4" descr="agent-environment"/>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acuum-cleaner world</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cepts: location and contents, e.g., [A,Dir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ons: </a:t>
            </a:r>
            <a:r>
              <a:rPr b="0" i="1" lang="en-US" sz="2700" spc="-1" strike="noStrike">
                <a:solidFill>
                  <a:srgbClr val="000000"/>
                </a:solidFill>
                <a:latin typeface="Georgia"/>
              </a:rPr>
              <a:t>Left</a:t>
            </a:r>
            <a:r>
              <a:rPr b="0" lang="en-US" sz="2700" spc="-1" strike="noStrike">
                <a:solidFill>
                  <a:srgbClr val="000000"/>
                </a:solidFill>
                <a:latin typeface="Georgia"/>
              </a:rPr>
              <a:t>, </a:t>
            </a:r>
            <a:r>
              <a:rPr b="0" i="1" lang="en-US" sz="2700" spc="-1" strike="noStrike">
                <a:solidFill>
                  <a:srgbClr val="000000"/>
                </a:solidFill>
                <a:latin typeface="Georgia"/>
              </a:rPr>
              <a:t>Right</a:t>
            </a:r>
            <a:r>
              <a:rPr b="0" lang="en-US" sz="2700" spc="-1" strike="noStrike">
                <a:solidFill>
                  <a:srgbClr val="000000"/>
                </a:solidFill>
                <a:latin typeface="Georgia"/>
              </a:rPr>
              <a:t>, </a:t>
            </a:r>
            <a:r>
              <a:rPr b="0" i="1" lang="en-US" sz="2700" spc="-1" strike="noStrike">
                <a:solidFill>
                  <a:srgbClr val="000000"/>
                </a:solidFill>
                <a:latin typeface="Georgia"/>
              </a:rPr>
              <a:t>Suck</a:t>
            </a:r>
            <a:r>
              <a:rPr b="0" lang="en-US" sz="2700" spc="-1" strike="noStrike">
                <a:solidFill>
                  <a:srgbClr val="000000"/>
                </a:solidFill>
                <a:latin typeface="Georgia"/>
              </a:rPr>
              <a:t>, </a:t>
            </a:r>
            <a:r>
              <a:rPr b="0" i="1" lang="en-US" sz="2700" spc="-1" strike="noStrike">
                <a:solidFill>
                  <a:srgbClr val="000000"/>
                </a:solidFill>
                <a:latin typeface="Georgia"/>
              </a:rPr>
              <a:t>NoO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pic>
        <p:nvPicPr>
          <p:cNvPr id="617" name="Picture 4" descr="vacuum2-environment"/>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 vacuum-cleaner agent</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put{tables/vacuum-agent-function-t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gent should strive to "do the right thing", based on what it can perceive and the actions it can perform. The right action is the one that will cause the agent to be most successful</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erformance measure: An objective criterion for success of an agent's behavior</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g., performance measure of a vacuum-cleaner agent could be amount of dirt cleaned up, amount of time taken, amount of electricity consumed, amount of noise generated, etc.</a:t>
            </a:r>
            <a:endParaRPr b="0" lang="en-US" sz="26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7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Rational</a:t>
            </a:r>
            <a:r>
              <a:rPr b="0" lang="en-US" sz="2700" spc="-1" strike="noStrike">
                <a:solidFill>
                  <a:srgbClr val="000000"/>
                </a:solidFill>
                <a:latin typeface="Georgia"/>
              </a:rPr>
              <a:t> </a:t>
            </a:r>
            <a:r>
              <a:rPr b="0" lang="en-US" sz="2700" spc="-1" strike="noStrike">
                <a:solidFill>
                  <a:srgbClr val="ff0000"/>
                </a:solidFill>
                <a:latin typeface="Georgia"/>
              </a:rPr>
              <a:t>Agent</a:t>
            </a:r>
            <a:r>
              <a:rPr b="0" lang="en-US" sz="2700" spc="-1" strike="noStrike">
                <a:solidFill>
                  <a:srgbClr val="000000"/>
                </a:solidFill>
                <a:latin typeface="Georgia"/>
              </a:rPr>
              <a:t>: For each possible percept sequence, a rational agent should select an action that is expected to maximize its performance measure, given the evidence provided by the percept sequence and whatever built-in knowledge the agent h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ational agents</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ionality is distinct from omniscience (all-knowing with infinite knowledge)</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ents can perform actions in order to modify future percepts so as to obtain useful information (information gathering, exploration)</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agent is </a:t>
            </a:r>
            <a:r>
              <a:rPr b="0" lang="en-US" sz="2700" spc="-1" strike="noStrike">
                <a:solidFill>
                  <a:srgbClr val="ff0000"/>
                </a:solidFill>
                <a:latin typeface="Georgia"/>
              </a:rPr>
              <a:t>autonomous</a:t>
            </a:r>
            <a:r>
              <a:rPr b="0" lang="en-US" sz="2700" spc="-1" strike="noStrike">
                <a:solidFill>
                  <a:srgbClr val="000000"/>
                </a:solidFill>
                <a:latin typeface="Georgia"/>
              </a:rPr>
              <a:t> if its behavior is determined by its own experience (with ability to learn and adap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Sadi SEKER</cp:lastModifiedBy>
  <dcterms:modified xsi:type="dcterms:W3CDTF">2017-01-30T20:39:35Z</dcterms:modified>
  <cp:revision>4</cp:revision>
  <dc:subject/>
  <dc:title>Intelligent Agents</dc:title>
</cp:coreProperties>
</file>