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A92-F1A9-469C-9974-A21773CD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D53-2668-4BE2-AD15-76F0C61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2886A-02A0-42B9-8115-DFB78A7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F4ABB-4F40-49CD-AB6E-85F09D4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B8EFB-9280-4ECF-A025-478CC151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41720-350B-4064-BD45-12C9410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78952-970B-40C5-888B-8B322D6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7A106-A462-4024-94FF-D35140D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50326-A7DB-4B88-A65F-E84E800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E2757-81A8-4363-B983-F260F9E6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6EC4C-B9CF-4C3A-8CBA-EBF18CA3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89DB5-9CA0-4262-9A6B-D940739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320-E6B6-41FF-80F5-95D07CB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5FC4B-F790-4381-AC6D-02FD3E9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4946A-4705-4BF7-AEE7-02066F0B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B07C1-E51D-4C7A-A66D-4378DF6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F2AD1-6A9E-40C3-96FB-B33A3428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7A45B-5576-4E32-A5D3-632E833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8761A-1F5F-4613-8487-DF6356E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3E282-2396-4DE6-8544-310C21C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7BC87-6121-4264-AA5C-01B0409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854D8-32EF-4AC3-AEC6-4D34178E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DEDA4-28C9-42C5-9841-94FDBEE1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3E9-2F64-48F3-8045-7686DC7F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5EA38-E777-4704-BCB1-174AE1CE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14AE9-B2A8-48BE-902C-3F0E15C5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B83E6-5BB1-4955-B1CB-DEBF0D6F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80CBC-57F5-4552-A7D7-A01BEA6C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AE08D-1BF2-457D-AA5F-F63FABD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C247F-89D8-4A72-883F-BA0970F5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C226-B89E-405A-989B-CB59656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6FB2-B5F8-49B2-89E1-46C99FF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5390-61E4-46FF-96A4-38D9677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DAF39-1B07-450D-A229-EBD2735D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B158-C206-4832-B279-52920DD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9610-4161-4469-B9BF-C6E0512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14DDD-CDFB-4B80-ABF4-CB718E15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D8A4E-D431-4980-B9B1-1112AE9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E98DF-1317-4F00-BD3B-A6D64A40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76D38-6234-422F-BC50-4398AAA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62B4C-65DD-4222-9C4C-7C1A2A7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B7C59-5D47-4197-8D37-311046D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26ABB-CB0E-418D-A381-95C8ED5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217D4-7D5B-4E78-960C-EBAAFCFF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C20AC-805A-472A-BC18-1CEE20E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2394-33FD-4C33-8E4F-243ED43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9338-86C3-4A77-9DC0-63BC2F7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9B347-492A-44D1-9A85-DFDD9E4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AD6D6-8B8A-49AB-910E-45B3C8B1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11B69-CA06-46A1-858F-E77A94B0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BF074-2099-4AAE-B582-FFA4A81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9F3-B758-40F3-A41D-63455AA6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6841-854A-4046-8671-CFAF934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50F-CA9C-466F-B5B2-30C7ED5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C56-1F44-43C7-8F6E-6569CA7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8398-C57C-443B-A13E-9D7EEDF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B63-E6DE-4C45-8301-71FDFC9C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5946-4900-41F9-B26C-56FF4F5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FCB6-4F10-49E5-A48A-A8722D8A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C30E-6425-429F-B649-3250DF3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ACB-3614-4F0B-A823-B690637C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557B-7202-4A52-A64A-A7CB41D0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FC31-44C6-4A57-BB26-5BFA96A7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5915-CD05-4E58-960E-243559A6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2210-11F6-4F2D-815F-10F4765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5CD8-CDEA-4D1B-83C0-82B5194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90DB-619B-4534-BC4B-2DAE8D6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C4C-0F46-46DA-BEE4-B4D15B6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9FFF-82B5-478A-90A1-16DB4A51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87B1-4685-4733-821D-2CD529D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1932-1FB3-43E1-BA90-E7E694C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2B58-305F-49F3-9A90-CBED386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1A93-15D1-4A28-BE60-AD009F8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27D6-42A8-41F7-87C3-F33E25CC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B6E4-D2EB-423C-85B6-8BDFB3A0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FA26-CEFE-43BB-8282-490943F1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5BA9-CFA3-4DEC-A143-D8DEFB3D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CC3E-F257-4260-B814-2C789D96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113-6E34-41B4-B98F-0C7347B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CC6D-CA8D-470F-A8B7-59AE422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824B-3D21-4111-8A67-985D721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DD53-CB55-4EB0-8ED9-CB154A60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2406-E0A3-40D9-AD63-3D138D8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8E05-101F-431B-8194-6888919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86A1-E56C-4F42-B86E-3E80917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3A4D-D54C-49BF-978E-8ED209C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ACB0-C163-498A-B2D0-692558E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E640-D071-4200-97E3-61BC7F9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DD17-27FB-474B-A43B-9BE51800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2E2-146C-4158-8EC8-350DEC46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FCB4-5D74-4296-898A-86F30D0C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F978-25BF-4478-9031-3724982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B5E7-B428-4484-9DAC-1C55C102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68D4-4EDA-45DF-A57A-E04D685E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7C81-733A-4BCB-8B08-E0F1BB9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551F-F8A1-4D6F-A127-FFE1E20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BD9E-2F63-4F66-825D-DDB510E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1B50-70D9-4435-A780-56CB69D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AD45-45B3-42B4-AF2E-E5B2139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0866-71A8-4470-A14A-723CA575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9F7-7129-4BFE-90F7-4FA1BFA5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BEA5-A81C-4DBD-9CF1-D8F1861E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8E93-A2CC-4788-BFA6-CC625588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130B-C57F-4DDA-80A8-C17CB83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E9B1-2F27-4A48-8B61-D5502F1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FFAA-C618-4859-9C49-8F7C1CF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456DB-9DE3-44CA-B560-D2C5015D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CE34-E0D8-4B95-80F8-C3C449B4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BF3A-E726-4B8C-B08D-E35513CF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5445-E818-4B04-ADA4-B0E9342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6FD1-A8C3-4459-8936-6103A24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6F2-2BF6-4AE5-9179-381BFB1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B52F-7614-4ED6-986C-17B1713D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A190-95DC-492C-8900-23DA35E8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92D6-75FC-46E2-B5E0-D8C298D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A0DC-5AAE-4304-816F-849DF45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BFF6-0860-43B6-B3B4-F1EE574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FD67-49F4-4BD6-AC17-D6F66AA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AD2C0-4857-40B7-86BB-AFAD881B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8EFBA-869E-4952-83CD-EE6604A5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C59A-43AA-406E-A51D-52B53628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0EA5-8975-43A8-8A85-92CE9A9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846-138E-42D0-BC1D-1EDE63C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DE27B-DF46-4B22-B357-9495068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F97D-73D0-4906-B4E1-73332E19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1486-2F3F-4A6C-A85A-670DFDB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324B-20A9-4462-B3DC-4FD33C00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837B-CFF5-4A95-B9A5-FD4C3703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C87B-A984-4FE1-8911-C4075627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7E79E-209D-48F4-8C54-9BE8AD86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5C32-B3D1-49CC-A2EA-B708233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8D49-1A1D-40AE-978F-9C5E432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C91FC-3470-4B41-9BD0-04F1E97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0EC-1F39-45D2-8570-7F30A65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15F0-E94F-433C-97FE-2AB0924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73B3-2CE8-4499-8D9E-AD7D650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C495-D8EC-40BD-BC44-C423EF0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FE67-434E-4351-88FA-1BC04FD4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0EB7-57BB-4257-BD58-71EC2C7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7074C-D4C3-4504-9BA4-8A460B8A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8ABA3-20CD-42FE-B60F-641A5548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B15D9-54C9-42C6-A6C5-BF76075E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E0CA5-9489-45C9-9DB4-08629AA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FCFC3-6873-4F89-934C-3414C1E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0BF8-AFEA-4834-81ED-02F5A973D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8BD-6BF1-4863-B5E6-C79158F3C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193-7900-4E80-8A7F-88B7E9045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A53-1BD7-4C60-9EEF-1A603ED71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624-0B54-4B15-9B9B-6DB7B1A81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8861-1844-4B95-AFE9-6D97C673A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FB2-F2D7-4EF7-ABE5-CAC007C53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FD4-E7F5-460F-A499-FA16C6E90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8F4-ACDC-4855-8A6A-23D1F0A22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3429-C4D7-4173-806E-54775BB56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599-5BC7-400E-B496-C175BD8268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838-B08D-4145-AFD3-D9B6D7E20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certaint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Fuzzy Sets Un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3" descr="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38102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" descr=""/>
          <p:cNvPicPr/>
          <p:nvPr/>
        </p:nvPicPr>
        <p:blipFill>
          <a:blip r:embed="rId2"/>
          <a:stretch/>
        </p:blipFill>
        <p:spPr>
          <a:xfrm>
            <a:off x="3200400" y="5181480"/>
            <a:ext cx="28576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Fuzzy Sets Inters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3810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2"/>
          <a:stretch/>
        </p:blipFill>
        <p:spPr>
          <a:xfrm>
            <a:off x="3124080" y="5105520"/>
            <a:ext cx="28450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Complement in Fuzzy Se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38102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3733920" y="5029200"/>
            <a:ext cx="1917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ncertain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et action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= leave for airpor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minutes before flight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ill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get me there on time?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roblems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partial observability (road state, other drivers' plans, etc.)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noisy sensors (traffic reports)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uncertainty in action outcomes (flat tire, etc.)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immense complexity of modeling and predicting traffic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ence a purely logical approach eith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risks falsehood: </a:t>
            </a:r>
            <a:r>
              <a:rPr b="0" lang="ja-JP" sz="12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i="1" lang="en-US" sz="1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i="1" lang="en-US" sz="1200" spc="-1" strike="noStrike" baseline="-25000">
                <a:solidFill>
                  <a:srgbClr val="646b86"/>
                </a:solidFill>
                <a:latin typeface="Georgia"/>
              </a:rPr>
              <a:t>25</a:t>
            </a: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 will get me there on time</a:t>
            </a:r>
            <a:r>
              <a:rPr b="0" lang="ja-JP" sz="12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, or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b86"/>
                </a:solidFill>
                <a:latin typeface="Georgia"/>
              </a:rPr>
              <a:t>leads to conclusions that are too weak for decision making:</a:t>
            </a:r>
            <a:endParaRPr b="0" lang="en-US" sz="1200" spc="-1" strike="noStrike">
              <a:solidFill>
                <a:srgbClr val="646b86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Georgia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will get me there on time if there's no accident on the bridge and it doesn't rain and my tires remain intact etc etc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Georgia"/>
              </a:rPr>
              <a:t>1440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might reasonably be said to get me there on time but I'd have to stay overnight in the airport …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09480" indent="-609480">
              <a:lnSpc>
                <a:spcPct val="60000"/>
              </a:lnSpc>
              <a:spcBef>
                <a:spcPts val="3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Methods for handling uncertaint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Default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nonmonotonic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logic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Assume my car does not have a flat tir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Assume 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i="1" lang="en-US" sz="1100" spc="-1" strike="noStrike" baseline="-25000">
                <a:solidFill>
                  <a:srgbClr val="646b86"/>
                </a:solidFill>
                <a:latin typeface="Georgia"/>
              </a:rPr>
              <a:t>25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 works unless contradicted by evidenc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Issues: What assumptions are reasonable? How to handle contradiction?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2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Rules with fudge factors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i="1" lang="en-US" sz="1100" spc="-1" strike="noStrike" baseline="-25000">
                <a:solidFill>
                  <a:srgbClr val="646b86"/>
                </a:solidFill>
                <a:latin typeface="Georgia"/>
              </a:rPr>
              <a:t>25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 |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lang="en-US" sz="1100" spc="-1" strike="noStrike" baseline="-25000">
                <a:solidFill>
                  <a:srgbClr val="646b86"/>
                </a:solidFill>
                <a:latin typeface="Georgia"/>
              </a:rPr>
              <a:t>0.3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 get there on time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Sprinkler |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100" spc="-1" strike="noStrike" baseline="-25000">
                <a:solidFill>
                  <a:srgbClr val="646b86"/>
                </a:solidFill>
                <a:latin typeface="Georgia"/>
              </a:rPr>
              <a:t>0.99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WetGrass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WetGrass |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100" spc="-1" strike="noStrike" baseline="-25000">
                <a:solidFill>
                  <a:srgbClr val="646b86"/>
                </a:solidFill>
                <a:latin typeface="Georgia"/>
              </a:rPr>
              <a:t>0.7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Rain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Issues: Problems with combination, e.g., </a:t>
            </a:r>
            <a:r>
              <a:rPr b="0" i="1" lang="en-US" sz="1300" spc="-1" strike="noStrike">
                <a:solidFill>
                  <a:srgbClr val="000000"/>
                </a:solidFill>
                <a:latin typeface="Georgia"/>
              </a:rPr>
              <a:t>Sprinkler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causes </a:t>
            </a:r>
            <a:r>
              <a:rPr b="0" i="1" lang="en-US" sz="1300" spc="-1" strike="noStrike">
                <a:solidFill>
                  <a:srgbClr val="000000"/>
                </a:solidFill>
                <a:latin typeface="Georgia"/>
              </a:rPr>
              <a:t>Rain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b400"/>
                </a:solidFill>
                <a:latin typeface="Georgia"/>
              </a:rPr>
              <a:t>Probability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Model agent's degree of belief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Given the available evidence,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i="1" lang="en-US" sz="1100" spc="-1" strike="noStrike" baseline="-25000">
                <a:solidFill>
                  <a:srgbClr val="646b86"/>
                </a:solidFill>
                <a:latin typeface="Georgia"/>
              </a:rPr>
              <a:t>25</a:t>
            </a:r>
            <a:r>
              <a:rPr b="0" lang="en-US" sz="1100" spc="-1" strike="noStrike">
                <a:solidFill>
                  <a:srgbClr val="646b86"/>
                </a:solidFill>
                <a:latin typeface="Georgia"/>
              </a:rPr>
              <a:t> will get me there on time with probability 0.04</a:t>
            </a:r>
            <a:endParaRPr b="0" lang="en-US" sz="1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2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abilistic assertions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ummariz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ffects o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laziness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: failure to enumerate exceptions, qualifications, etc.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ignorance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: lack of relevant facts, initial conditions, etc.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Subjectiv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obability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abilities relate propositions to agent's own state of knowled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g.,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| no reported accidents) = 0.06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ssertions about the worl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abilities of propositions change with new evidenc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g.,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| no reported accidents, 5 a.m.) = 0.15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6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ing decisions under uncertain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se I believe the following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P(A</a:t>
            </a:r>
            <a:r>
              <a:rPr b="0" lang="en-US" sz="1700" spc="-1" strike="noStrike" baseline="-25000">
                <a:solidFill>
                  <a:srgbClr val="646b86"/>
                </a:solidFill>
                <a:latin typeface="Georgia"/>
              </a:rPr>
              <a:t>25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gets me there on time | …)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0.04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P(A</a:t>
            </a:r>
            <a:r>
              <a:rPr b="0" lang="en-US" sz="1700" spc="-1" strike="noStrike" baseline="-25000">
                <a:solidFill>
                  <a:srgbClr val="646b86"/>
                </a:solidFill>
                <a:latin typeface="Georgia"/>
              </a:rPr>
              <a:t>90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gets me there on time | …)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0.70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P(A</a:t>
            </a:r>
            <a:r>
              <a:rPr b="0" lang="en-US" sz="1700" spc="-1" strike="noStrike" baseline="-25000">
                <a:solidFill>
                  <a:srgbClr val="646b86"/>
                </a:solidFill>
                <a:latin typeface="Georgia"/>
              </a:rPr>
              <a:t>120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gets me there on time | …)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0.95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P(A</a:t>
            </a:r>
            <a:r>
              <a:rPr b="0" lang="en-US" sz="1700" spc="-1" strike="noStrike" baseline="-25000">
                <a:solidFill>
                  <a:srgbClr val="646b86"/>
                </a:solidFill>
                <a:latin typeface="Georgia"/>
              </a:rPr>
              <a:t>1440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gets me there on time | …)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0.9999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ich action to choos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pends on my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preferenc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for missing flight vs. time spent waiting, et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Utility theory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is used to represent and infer preference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Decision theory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= probability theory + utility theory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ntax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Basic element: </a:t>
            </a: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random variabl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imilar to propositional logic: possible worlds defined by assignment of values to random variabl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Boolean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random variabl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e.g.,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(do I have a cavity?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Discrete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random variabl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e.g.,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is one of &lt;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sunny,rainy,cloudy,snow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&gt;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Domain values must be exhaustive and mutually exclusiv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Elementary proposition constructed by assignment of a value to 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Complex propositions formed from elementary propositions and standard logical connectives e.g.,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Weather = sunny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Cavity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ndom variable: e.g., Weather = sunny, Cavity = fal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abbreviated as cavity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7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ntax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Atomic even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A </a:t>
            </a: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complete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pecification of the state of the world about which the agent is uncertai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if the world consists of only two Boolean variables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Cavity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and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Toothach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, then there are 4 distinct atomic events: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 = fals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Toothache = fals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 = fals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 Toothache = tr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 = tru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 Toothache = fals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 = tru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 Toothache = tr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tomic events are mutually exclusive and exhaustiv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822240" indent="-22860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xioms of prob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ny propositions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A, B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0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"/>
              </a:rPr>
              <a:t>≤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Arial"/>
              </a:rPr>
              <a:t>≤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1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tru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= 1 and 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fals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= 0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= 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+ 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 - P(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4" descr="axiom3-venn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certain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b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ntax and Seman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ependence and Bayes' Ru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or prob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Prior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unconditional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probabilities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of proposition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e.g., 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= true) = 0.1 and 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= sunny) = 0.72 correspond to belief prior to arrival of any (new) evidence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Probability distribution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gives values for all possible assignments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&lt;0.72,0.1,0.08,0.1&gt; (</a:t>
            </a: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normalized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 i.e., sums to 1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b400"/>
                </a:solidFill>
                <a:latin typeface="Georgia"/>
              </a:rPr>
              <a:t>Joint probability distribution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for a set of random variables gives the probability of every atomic event on those random variabl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,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a 4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  <a:ea typeface="Arial"/>
              </a:rPr>
              <a:t>×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2 matrix of values: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Weather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unny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rainy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cloudy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now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Cavity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= true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144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2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16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2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Cavity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= false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576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8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64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0.08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Georgia"/>
              </a:rPr>
              <a:t>Every question about a domain can be answered by the joint distributio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266688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ditional prob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Conditiona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posterior probabil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e.g., 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|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toothach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0.8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i.e., given that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toothach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is all I know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Notation for conditional distributions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|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Toothach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2-element vector of 2-element vectors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f we know more, e.g.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is also given, then we hav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 | toothache,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1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ew evidence may be irrelevant, allowing simplification, e.g.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 | toothache, sunn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P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| 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toothache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0.8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is kind of inference, sanctioned by domain knowledge, is crucia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1371600" indent="-22860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ditional probabi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finition of conditional probabilit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(a | b) = P(a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) / P(b) if  P(b) &gt; 0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Product rul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gives an alternative formulation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P(a </a:t>
            </a:r>
            <a:r>
              <a:rPr b="0" lang="en-US" sz="1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b) = P(a | b) P(b) = P(b | a) P(a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general version holds for whole distributions, e.g.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,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=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Weather | 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400" spc="-1" strike="noStrike">
                <a:solidFill>
                  <a:srgbClr val="646b86"/>
                </a:solidFill>
                <a:latin typeface="Georgia"/>
              </a:rPr>
              <a:t>Cavity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View as a set of 4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 equations, </a:t>
            </a: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matrix mult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b400"/>
                </a:solidFill>
                <a:latin typeface="Georgia"/>
              </a:rPr>
              <a:t>Chain rul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is derived by successive application of product rul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 …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...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| 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...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               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...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| 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...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2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| 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...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n-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                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= …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                 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l-GR" sz="1400" spc="-1" strike="noStrike">
                <a:solidFill>
                  <a:srgbClr val="646b86"/>
                </a:solidFill>
                <a:latin typeface="Georgia"/>
                <a:ea typeface="Arial"/>
              </a:rPr>
              <a:t>π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i= 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^n </a:t>
            </a: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(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i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 | 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, … ,X</a:t>
            </a:r>
            <a:r>
              <a:rPr b="0" lang="en-US" sz="1400" spc="-1" strike="noStrike" baseline="-25000">
                <a:solidFill>
                  <a:srgbClr val="646b86"/>
                </a:solidFill>
                <a:latin typeface="Georgia"/>
              </a:rPr>
              <a:t>i-1</a:t>
            </a:r>
            <a:r>
              <a:rPr b="0" lang="en-US" sz="14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6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1371600" indent="-22860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 by enum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4" name="Picture 4" descr="dentist-joint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 by enum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9" descr="dentist-joint1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 by enum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7" descr="dentist-joint2"/>
          <p:cNvPicPr/>
          <p:nvPr/>
        </p:nvPicPr>
        <p:blipFill>
          <a:blip r:embed="rId1"/>
          <a:stretch/>
        </p:blipFill>
        <p:spPr>
          <a:xfrm>
            <a:off x="2971800" y="2133720"/>
            <a:ext cx="3581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6" descr="dentist-joint3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erence by enum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art with the joint probability distribution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n also compute conditional probabilitie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av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oothach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= 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av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oothach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(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oothach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0.016+0.06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0.108 + 0.012 + 0.016 + 0.06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= 0.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Line 7"/>
          <p:cNvSpPr/>
          <p:nvPr/>
        </p:nvSpPr>
        <p:spPr>
          <a:xfrm>
            <a:off x="4267080" y="45720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"/>
          <p:cNvSpPr/>
          <p:nvPr/>
        </p:nvSpPr>
        <p:spPr>
          <a:xfrm>
            <a:off x="419112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6" descr="dentist-joint4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ormaliz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nominator can be viewed as a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normalization constant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α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 | toothach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= α, </a:t>
            </a: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Cavity,toothache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α, [</a:t>
            </a:r>
            <a:r>
              <a:rPr b="1" lang="en-US" sz="17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700" spc="-1" strike="noStrike">
                <a:solidFill>
                  <a:srgbClr val="646b86"/>
                </a:solidFill>
                <a:latin typeface="Georgia"/>
              </a:rPr>
              <a:t>Cavity,toothache,catch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) + </a:t>
            </a:r>
            <a:r>
              <a:rPr b="1" lang="en-US" sz="17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(</a:t>
            </a:r>
            <a:r>
              <a:rPr b="0" i="1" lang="en-US" sz="1700" spc="-1" strike="noStrike">
                <a:solidFill>
                  <a:srgbClr val="646b86"/>
                </a:solidFill>
                <a:latin typeface="Georgia"/>
              </a:rPr>
              <a:t>Cavity,toothache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,</a:t>
            </a:r>
            <a:r>
              <a:rPr b="0" lang="en-US" sz="17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700" spc="-1" strike="noStrike">
                <a:solidFill>
                  <a:srgbClr val="646b86"/>
                </a:solidFill>
                <a:latin typeface="Georgia"/>
              </a:rPr>
              <a:t>catch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)]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l-GR" sz="1700" spc="-1" strike="noStrike">
                <a:solidFill>
                  <a:srgbClr val="646b86"/>
                </a:solidFill>
                <a:latin typeface="Georgia"/>
                <a:ea typeface="Arial"/>
              </a:rPr>
              <a:t>α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, [&lt;0.108,0.016&gt; + &lt;0.012,0.064&gt;] 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= α, &lt;0.12,0.08&gt; = &lt;0.6,0.4&gt;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General idea: compute distribution on query variable by fixing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evidence variable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and summing over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hidden variab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Write your answers please (you can give average, you can define range, you can define limit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hat is the speed for a fast car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What is the weight of a fat pers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What is the age of an old pers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What is the height of a tall building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What about, spicy, dangerous, sleepy, funn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Classical SETs vs Fuzzy Se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ist of members {1,2,3}, {s,m,i,t,h}, {s,a,d,i}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Rule of Membership {prime numbers less than 100}, {names of students in the class}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Function of Membership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A= {Temperatures at which water will boil}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boil(t) = {1,0} , where 1 means it is boiling, 0 means not boil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Here Comes the Fuzzy Sets: for boil(x), how much does x belongs to the function?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Now we have interval [0,1]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14" name="Object 8"/>
          <p:cNvGraphicFramePr/>
          <p:nvPr/>
        </p:nvGraphicFramePr>
        <p:xfrm>
          <a:off x="1752480" y="5410080"/>
          <a:ext cx="526104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410080"/>
                    <a:ext cx="52610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Tall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7" name="Object 4"/>
          <p:cNvGraphicFramePr/>
          <p:nvPr/>
        </p:nvGraphicFramePr>
        <p:xfrm>
          <a:off x="1835280" y="1623960"/>
          <a:ext cx="540072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623960"/>
                    <a:ext cx="540072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Crisp vs Fuzz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0" name="Object 4"/>
          <p:cNvGraphicFramePr/>
          <p:nvPr/>
        </p:nvGraphicFramePr>
        <p:xfrm>
          <a:off x="1828800" y="1371600"/>
          <a:ext cx="5473800" cy="50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547380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Crisp vs Fuzzy Func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be the universe of discourse and its elements be denoted as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.  In the classical set theory,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crisp set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of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is defined as function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) called the characteristic function of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) :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{0, 1}, 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 the fuzzy theory, fuzzy set A of universe X is defined by function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µ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) called the membership function of se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µ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) : X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{0, 1}, where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µ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) = 1 if x is totally in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µ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) = 0 if x is not in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0 &lt;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µ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) &lt; 1 if x is partly in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degree of membership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, also called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membership value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, of element 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in set 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4114800" y="2590920"/>
                <a:ext cx="2233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 if 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Fuzzy Set Represent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6" name="Object 5"/>
          <p:cNvGraphicFramePr/>
          <p:nvPr/>
        </p:nvGraphicFramePr>
        <p:xfrm>
          <a:off x="1752480" y="1447920"/>
          <a:ext cx="532764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327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Set Oper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2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4:23:21Z</dcterms:created>
  <dc:creator>Min-Yen Kan</dc:creator>
  <dc:description/>
  <dc:language>en-US</dc:language>
  <cp:lastModifiedBy>Sadi SEKER</cp:lastModifiedBy>
  <dcterms:modified xsi:type="dcterms:W3CDTF">2017-04-03T18:41:57Z</dcterms:modified>
  <cp:revision>17</cp:revision>
  <dc:subject/>
  <dc:title>Uncertainty</dc:title>
</cp:coreProperties>
</file>