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25B-3B98-43B9-B216-71763CB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A3F-D07B-4543-86CB-44785DFA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DD287-AD99-4DFB-BDFB-4025B122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68276-F1DD-448F-97EA-1DCD835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348B3-0128-47E1-920C-57EEEAD7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1DF15-A528-45A5-B1A8-6F3473F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7E584-0984-410C-BF85-977EF04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2F8AE-3564-498C-909D-A0032D4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7C890-11D6-4666-BB07-B609B3F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05FA9-CD56-44A7-B727-717D39C7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1368F-C413-48B8-BDF7-9516C667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C5CE5-BBF3-4EF1-9A57-3FB49A0C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0D0-7CA7-4174-8CD6-1E234125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9180D-0082-4167-A531-32FBE87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4B97F-64BF-42BC-BFDD-F290153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6BFF0-FE30-40B0-AB16-8E61F8E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29F11-EEA7-4350-8539-A3C610B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8D796-01F7-4971-A866-2DF1211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BC10C-6022-45E7-BFB9-A8517434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013B0-489A-4CA8-913F-AF38950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6472A-0C00-4F06-818B-5B82C1E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BCA71-8902-4669-979D-2D295C5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01AA6-B2E7-47D4-8323-1E19C118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631-B767-49FE-B01C-4A386FF4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92A0B-F6B2-4D2E-8910-814395C6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5C651-AB21-4639-9A3B-BFF96DFD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5416C-A45A-4F05-ABB9-16E5CDE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7C5D-9E11-4211-96EA-D3F685D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C5DC1-572B-481A-AA7E-3FCD5CB9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DBF64-AA42-48FC-A1C9-E9F2B74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98057-DBFD-48D0-BEEB-47CD0DE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43B5-A474-41C2-B855-8026C6C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1121D-D387-4CF1-BB57-6CD9DE7B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FD1D5-5537-4CFF-A8FE-D6A96C3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DCC-EAE7-4DED-A1BC-608A92FC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B290-2FE9-4098-8F9D-F66EC3CA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9CF60-EF79-4EDD-B7B9-102514F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9CCE9-45F7-403E-B99B-FCB28663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0D293-082B-4877-B3A0-D589553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7EF8E-9B24-417B-A3B0-7AC5775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B72E2-1BDD-43FC-ADF2-F94F1D9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57300-56E3-4530-B8C5-E38D4372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A824E-C7A3-4ECF-9834-CEE8EF4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0DBDC-55F1-457E-816E-989AF515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DF56A-1AEA-4B02-B160-9BB62A8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479-83F7-4C7F-A993-4EC4FFB3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1D123-7D1D-4C9A-AD4C-15EE961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691B4-2C1E-491B-9309-5A760C5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74644-415E-4889-B502-C66AF8E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79712-A8AF-44DC-B4F5-1A62D527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6E985-D4A5-42D8-A1AF-510E2B9A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C2A0-7162-4551-8817-4BD170C8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D9D-2179-4B43-A143-4081895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228D-1A68-4665-AEC5-78227FF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C8A-BF4A-4035-9861-305B18C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30C-0CB9-496A-9E5D-8572208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315-4022-4484-BD7B-824B3ED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D8B-DF97-41D4-AEB1-6ECF964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778B-CC3F-40AE-ADE4-323BE23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A9BC-944C-439C-8C88-CED59C28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1EE-029B-425E-92DB-06C85AE6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C9A-921D-49CB-BC21-42E92F2B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91B3-2A97-4449-97AB-00ED0EB4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7C0C-68F8-4D0A-B8DB-50E7563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D0B8-C11C-4D4A-BA93-314CE9B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0596-D6AC-4B6E-A5FC-4338D9BB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2C33-A124-4052-B847-26B37F5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839-08CE-4B6F-9D01-23424A0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3A74-74AD-43ED-9BA8-D0222590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3AFF-A616-4450-B0DE-362D632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9A2C-8292-44E2-8B40-57DE629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75E9-8169-4F77-BB45-716FAF8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FBF9-1E14-4AF8-8343-476DD91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AFF5-8A71-4BFF-B7E1-20700928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9B8C-E1C6-4EA2-B4BD-AD04C38D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C64B-7980-45A1-918E-36BD5C13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9F6E-D8A4-4797-B00C-5E3801C0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4FAF-55C1-438A-AEEF-32C9BD8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377-08A2-4852-974C-D63C5B68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A20C-0E12-465E-A9C3-A1EC7D3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4837-D3C6-459D-A8D9-78700EC3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4A72-1826-4364-A6D6-0C6E2E0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0F42-802A-495F-8EEF-345E51F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0B1B-0BAD-45ED-840A-7D71CFC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6F93-9804-4012-AEBD-B753669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BD3B-D5CE-4F19-8662-97E01601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C872-8939-4866-A08E-1872C2FE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A906-EBB4-4A38-98A9-173C8E90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DA27-BB15-4470-944C-34A5F77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922-CB2C-41F0-A590-35975BEF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BD0B-F560-48DF-AD92-2B9813A8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7E88-66AA-42AA-9A06-77B9C5D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EE0E6-29A4-4593-8739-E2146E46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1901-5583-49FC-9FC8-68C51AA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838E-B47F-4F83-937F-CAC36841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3079-C5FD-4A05-8A24-0F1197A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C5AA-9C70-4AFC-8A4C-16DFA67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DF4F-5AB4-4DA2-BB4B-D5173CC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3DCE-4B7F-41C3-9E19-6C85A90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159B1-557F-407F-BA27-C0159FFB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87E-6FB3-452D-AF62-41D7898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8309-183F-4DF6-A2F6-855753B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B55F-6927-438A-8604-D71DAC16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D2CE-C1C1-45D5-893F-7A309DF2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C03CD-1D51-46D9-8928-00EA4690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E753-40F1-4A9F-B1DD-8190FD1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E5CDF-9320-47C7-938F-DA1B39B3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C661-7D52-4DDD-9E84-F851626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C2525-FDAF-4C81-86B2-CFF1041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39D9A-21B3-408F-9607-6C84DA03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54CF-A2C7-4690-8348-8D5F434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115-EEE2-4D84-9D8C-4747F17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285A-0774-4CA2-BC07-8C8CD9E5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03D5-6E1C-4723-B16E-1407F873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04BE-0903-49CE-A55C-35479014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A805-6165-45D0-9267-FAFA25A5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0E70-1F67-4D24-A309-6A25AD5C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7746-9A9B-4972-9C23-B51C708D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2972-F947-4BC3-85D4-F53BF21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74C0-F435-4A74-AE89-2CB55AC9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56E1-6618-4DEA-B269-E09E676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C2EE5-FECD-49DE-BBE2-C7B6BC3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E12-D9E3-4BCC-A843-45ED9F8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865C-AE7A-461E-BCB6-8B23B1F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9355B-8254-42CD-A200-ABED2FA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B4DE-F641-4A74-B711-600BD55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1552-0DCC-44F5-BF16-780F741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369A-33A4-4CB9-9A86-4C1C3CED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B8B9-FFB2-43C7-957C-A668ADC6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9DF3B-3C42-40D4-ACEA-B24348B9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D8D6-8B8B-4972-8DE5-319EAF41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C667B-C4C0-446D-B1B8-1C2D1D5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116D2-E20D-484A-BCB2-6FF69591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379-F390-44CC-B306-C39A7DA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0CDB-A855-49FC-9F31-C304C14A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1B6C-4905-4042-932F-79D439C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9360B-A449-4905-A5DA-72B27E1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96678-8B3A-4947-90A2-2CBE918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B62C-3D9F-4B18-949A-2609D4A2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40ED-E966-4E0E-AE4B-14982E67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1EE6-640D-4D95-BBC6-4498974E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D11B2-38DC-4827-838B-F4A03472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C2658-9E0C-42D5-829C-07C7760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B3054-269D-4A84-A4A9-07AAA85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1D51-64D3-425F-BF43-C93586B4C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2E54-F65E-4ADF-8563-A859949E9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E5B-8D8A-4702-A156-51346470D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9A5-A5F0-426C-8DA9-99F9C2DEB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507-C9F5-4167-A9E2-EE51D2ACB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9B55-0F00-4D46-BB07-80A4853F9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7FD3-B430-40DC-B9E9-3D4DE02995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92B-7F4E-4881-9595-44D3262C0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CF2-7F02-4478-BDA9-752CFEEA7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247-52DF-4CD3-B5EE-8166DDDF5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663-E26E-43A4-B901-870EBF2FE0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F75-9C3F-41DC-8C57-5DB5E7485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adievrenseker.com/wp/?p=1172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adi Evren SEK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troduction: Chapter 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SC 290 Introduction to Artificial Intellig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inking rationally: "laws of thought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ristotle: what are correct arguments/thought processes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veral Greek schools developed various forms of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notat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rules of derivat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or thoughts; may or may not have proceeded to the idea of mechaniz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irect line through mathematics and philosophy to modern A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blems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Not all intelligent behavior is mediated by logical deliberation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hat is the purpose of thinking? What thoughts should I have?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ng rationally: rational ag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Rationa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behavior: doing the right 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ght thing: that which is expected to maximize goal achievement, given the available inform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n't necessarily involve thinking – e.g., blinking reflex – but  thinking should be in the service of rational 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ational ag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ag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an entity that perceives and ac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is course is about designing rational agen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bstractly, an agent is a function from percept histories to action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P*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 any given class of environments and tasks, we seek the agent (or class of agents) with the best performanc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veat: computational limitations make perfect rationality unachieva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  <a:ea typeface="Arial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design best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program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for given machine resources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I prehisto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gic, methods of reasoning, mind as phys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ystem foundations of learning, langua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ationa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thematic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mal representation and proof algorith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utation, (un)decidability, (in)tractabil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tility, decision theor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uroscienc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ysical substrate for mental activ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sycholog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enomena of perception and motor contro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perimental techniqu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ute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ilding fast compu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trol theor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gn systems that maximize an obj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nction over tim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nguistic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nowledge representation, gramma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bridged history of A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43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cCulloch &amp; Pitts: Boolean circuit model of bra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50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uring's "Computing Machinery and Intelligence"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1956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rtmouth meeting: "Artificial Intelligence" adop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52—69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ok, Ma, no hands!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50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rly AI programs, including Samuel's chec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gram, Newell &amp; Simon's Logic Theori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lernter's Geometry Engin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65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obinson's complete algorithm for logical reaso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66—7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I discovers computational complex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ural network research almost disappea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69—79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rly development of knowledge-based syst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80-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I becomes an industr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86-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ural networks return to popular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87-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I becomes a scienc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95-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emergence of intelligent agent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te of the a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ep Blue defeated the reigning world chess champion Garry Kasparov in 199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ed a mathematical conjecture (Robbins conjecture) unsolved for decad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 hands across America (driving autonomously 98% of the time from Pittsburgh to San Diego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uring the 1991 Gulf War, US forces deployed an AI logistics planning and scheduling program that involved up to 50,000 vehicles, cargo, and peopl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SA's on-board autonomous planning program controlled the scheduling of operations for a spacecraf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erb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olves crossword puzzles better than most hum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S324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urse home page: </a:t>
            </a: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sadievrenseker.com/wp/?p=117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xtbook: S.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rtificial Intelligence: A Modern Approach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ntice Hall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sp -&gt; Dr Racke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rse overvie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A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ef hist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state of the a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urse overvie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roduction and Agents (chapters 1,2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arch (chapters 3,4,5,6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gic (chapters 7,8,9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nning (chapters 11,12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certainty (chapters 13,14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rning (chapters 18,20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ural Language Processing (chapter 22,2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I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ews of AI fall into four categories (System)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textbook advocates "acting rationally"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09480" y="2514600"/>
          <a:ext cx="7086600" cy="1295280"/>
        </p:xfrm>
        <a:graphic>
          <a:graphicData uri="http://schemas.openxmlformats.org/drawingml/2006/table">
            <a:tbl>
              <a:tblPr/>
              <a:tblGrid>
                <a:gridCol w="3353040"/>
                <a:gridCol w="3733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ng Huma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ng ration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ing Huma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ing Ration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inking / Acting | Humanly/Rationally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nking humanly — cognitive modeling. Systems should solve problems the same way humans do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nking rationally — the use of logic. Need to worry about modeling uncertainty and dealing with complexity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ng humanly — the Turing Test approach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ng rationally — the study of rational agents: agents that maximize the expected value of their performance measure given what they currently know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me 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study of agents that receive percepts from the environment and perform actions.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Russell and Norvig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science and engineering of making intelligent machines, especially intelligent computer programs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John McCarthy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ability of a digital computer or computer-controlled robot to perform tasks commonly associated with intelligent beings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Encyclopædia Britannica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study of ideas to bring into being machines that respond to stimulation consistent with traditional responses from humans, given the human capacity for contemplation, judgment and intention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Latanya Sweeney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scientific understanding of the mechanisms underlying thought and intelligent behavior and their embodiment in machines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American Association for Artificial Intelligence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 branch of science which deals with helping machines find solutions to complex problems in a more human-like fashion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AI depot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 field of computer science that seeks to understand and implement computer-based technology that can simulate characteristics of human intelligence and human sensory capabilities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Raoul Smith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ng humanly: Turing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uring (1950) "Computing machinery and intelligence"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"Can machines think?"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"Can machines behave intelligently?"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dicted that by 2000, a machine might have a 30% chance of fooling a lay person for 5 min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ticipated all major arguments against AI in following 50 yea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ggested major components of AI: knowledge, reasoning, language understanding, lear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turing"/>
          <p:cNvPicPr/>
          <p:nvPr/>
        </p:nvPicPr>
        <p:blipFill>
          <a:blip r:embed="rId1"/>
          <a:stretch/>
        </p:blipFill>
        <p:spPr>
          <a:xfrm>
            <a:off x="2362320" y="2590920"/>
            <a:ext cx="3948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inking humanly: cognitive model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960s "cognitive revolution": information-processing psycholog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quires scientific theories of internal activities of the br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- How to validate? Requi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1) Predicting and testing behavior of human subjects (top-down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r 2) Direct identification from neurological data (bottom-up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approaches (roughly, Cognitive Science and Cognitive Neuroscienc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e now distinct from A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04:52Z</dcterms:created>
  <dc:creator>Min-Yen Kan</dc:creator>
  <dc:description/>
  <dc:language>en-US</dc:language>
  <cp:lastModifiedBy>Sadi SEKER</cp:lastModifiedBy>
  <dcterms:modified xsi:type="dcterms:W3CDTF">2017-01-28T16:08:02Z</dcterms:modified>
  <cp:revision>10</cp:revision>
  <dc:subject/>
  <dc:title>Slide 1</dc:title>
</cp:coreProperties>
</file>